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1A8-839A-4C75-8011-77C4DD26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C84-C558-435A-8622-B52D2FF4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CB0-CBAB-4A8F-8812-0B9D8066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712-A8E4-47D4-AE63-C27AB530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F1A-8CA1-4384-99A1-52B1D160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FB63-2312-4139-A03B-F4A7FD74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20F9-A97F-434F-B397-C2C22A14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5D74-A13D-4D0F-8AAF-5E5181B3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FE59-3B9E-40A8-BAB2-9805FB92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5CAB-535D-4D4C-BE8F-6E75DC67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BE1-2F92-422A-B2AB-6B5C0B8A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1DCE-AAB8-45EC-8E96-9F3F4FF1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9B5B-FC1F-4FE5-B600-CA2B746B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D461-7245-4A7E-89B1-7B42374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6914-C02F-4851-A266-7E2626D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C0FC-82A2-4B99-86BB-A1849B0F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63FD-8234-48AC-B9D8-671F168D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BD90-D607-4B42-9D79-85A97616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5BF-CF47-4818-A384-2EC8F3D9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EE2-D7D3-4417-8D2A-A3EFE2F1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98F-5BAD-4F5C-B174-AFF3C07B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C2B-A8DF-48DC-93B8-083F5C4B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7C4-EBFE-4143-94F0-83ABEA4B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413-6454-4FFC-9847-46815E58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5CD4-E9D1-4DA6-B275-56AF32E8EF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5FD0-7513-459D-9CD2-37A8B949EE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F224-0BCC-4C6F-A167-06D66E520A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"/>
          <p:cNvSpPr/>
          <p:nvPr/>
        </p:nvSpPr>
        <p:spPr>
          <a:xfrm>
            <a:off x="5875200" y="585468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8880" y="50004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28760" y="1928880"/>
            <a:ext cx="820728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1:09:29Z</dcterms:created>
  <dc:creator/>
  <dc:description/>
  <cp:keywords/>
  <dc:language>en-US</dc:language>
  <cp:lastModifiedBy>a</cp:lastModifiedBy>
  <dcterms:modified xsi:type="dcterms:W3CDTF">2014-05-21T02:37:31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