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3F159-FCD5-41DF-8A49-2515EBF6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66308-41F1-4A43-82DD-F7F041CC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10D55-BFC6-4F2C-96ED-88DB9BDF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1358B-1B8D-4DB6-AEF6-CF7A0D89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90ABC-8C4F-4150-8B10-EB718A0F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C0100-355E-4A81-886E-5F9B1912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D57F6-6A6C-47F5-B506-8556FA87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6FC92-3388-4680-8E72-BAA472B10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2B436-AD4A-4AC2-85E6-6D7D89256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DE5D8-6676-44AB-8706-58DDAED8C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5DDCE-9A3B-421D-80B8-DB230A92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5C3D9-0646-450C-835F-E7697D31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DCA14-E3B3-457C-9350-48226898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C0016-EBAF-4C35-BBF5-77226361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84939-B4FC-42B2-A414-D5D766F3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9B536-FF70-4EB0-B6AA-2A01C3BE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8711D-3AAC-4D95-A1A9-42487537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AA087-9E1C-427B-B8C7-0B28A30D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AA847-3092-4AC3-AEE6-171AB654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6A74C-5609-469A-9E3D-40DAFE9D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DE86E-00C0-4B4F-B90A-CF29CE73D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B79FB-2CC7-45B4-B08D-C527F753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B11C28-4426-4DD5-BDB7-384A4411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6C1E9F-FDF8-4C3F-82E9-666B9D95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EC7BF-A201-4DE4-AA74-E083A4FA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92A81-B810-4D0A-805E-3D5978FF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81855-EE77-4EA2-853D-1FDEAB84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F5343-75E3-4382-8D5A-40C5C879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52B15D-1D04-4B97-9516-6A44B9EE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3E755-113B-4B19-BE55-8336E3A3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6671-FF1E-4979-879C-307514502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F7C71-F87A-49CD-AFA2-9873606C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E9728-B2DA-40ED-A077-5136DC868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73884-C537-493F-B88B-3A52BB13E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5DEF23-7B59-4FB2-A05B-A1DDF94D2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80831D-E9E6-4FC5-9348-A7219B22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EB947E-9ED3-4B69-8BEE-748E1D2A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FD960-7ABD-44EB-A5C6-B6132046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D40EF4-0870-4963-BDE9-50E8D384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419087-2E5B-4913-B7B2-75458E07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6C554F-AFCE-4F9A-9DBE-23F1327E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9F11-C0FB-482C-BA90-37A23ABB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50C53C-0525-47F0-91ED-2E92A14F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915EDB-F6FF-48C3-AF3B-923510DF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947D9-706B-40A5-B6CD-5D75E82F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975938-D7F7-4AD1-90BB-3A25577A1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2D22C6-B82E-4DD0-A608-5D28C438A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A274D3-9EE5-4F8F-9E77-85671C0A7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561DB-C7E1-4C5C-8852-B0BE41B4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CD19E-A018-4F8F-8442-82FD808C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C78B1-13FC-45ED-8EDE-7CEBCDA8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87CC0-4762-4E45-9836-15452363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4AA9-8C68-471E-A841-1AF8E0D8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3ABAF-00D7-42F7-8427-290302C0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1D832-B8CE-4E4A-8091-3FD14D14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AE804-B1CC-4F55-AD6F-AC3C4572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D941E-AB01-44ED-9687-D58291F1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07B1D-F237-40CE-A404-23A8AB94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F53CA-9FA9-49CD-84AF-44F482608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E6154-B5F1-4020-8840-A0F53E30C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890704-8C69-4525-9F4B-26BEDD69F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08243E-4042-4FF1-A54D-ACFF5B4A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46DE22-BC59-43CA-BF16-69A1C347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7579-440D-460A-A9E9-D67504B8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025493-0279-4523-A59E-EBB1AF47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224AB9-AF34-4224-8DBB-984FF8B3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AEA1A3-D1AF-422D-9439-10B34A33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B76772-14AE-42E3-9019-9303BCEB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591A2E-BF4F-4047-AC1C-F0E4D36F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492D68-1F11-4CCD-9156-FA69BE67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C115DD-4EF4-4914-9C15-B9FA398A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540BBA-9969-4EC4-BFD3-AEF8B353E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2ECD0B-C680-4966-8F82-EB8509107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5D01-AC97-4E50-9B8B-399BF0B3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FB47-672A-4E4D-A8C2-9BD59D55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7C19-5C3F-4FA3-A732-1512EABC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D7D4-F3FA-4FA7-9964-8506CFFD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6258-BD14-46B6-8B80-E056A059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09A9-D97D-4D34-8ACE-408EA84E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3EE5-A7B8-49B1-8A06-E947FDC17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8C2E-AF2B-4D06-B47D-4EAE9CAD1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DFC1-F979-4743-A574-0AD3BF6AB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7316-15EE-4BEB-90F7-66F31F86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92D1-335A-4CAD-87FF-D6B73A84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8AB0-4248-4A16-B1F8-B5D44C44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F549-49ED-471F-B149-2B5733D8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1B24-A844-4D08-829A-16AE3DF7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03C6-94E7-4388-984D-2A27EF89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C3EE-CFBC-44D9-BC29-4D967EA7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0CDE-A94D-481B-B248-A9C426AE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F141-BAE7-4737-A443-D8B94AE2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ECA3-0A3B-4F66-B724-4175CE360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6DA5-FDC1-4B05-B24A-37F6C5E26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B3DDC-6478-4F35-82E9-E9FD78E1D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F0C5A-621C-4FBC-A186-C295AE72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6FE5B-F943-4063-87A8-F0489E68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2A280-94B4-4353-8C92-BBE2EBE9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BE3D2-562E-4D3C-9938-B31ADD5E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39EF9-405A-4FBA-9F01-EC0AED34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D3126-E6EE-486E-99A7-9CCC02A5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114FA-38A6-4962-8801-D3C3811F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B5970-77B5-43D2-AE83-7B01BCFE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8891D-99F9-4124-9053-A63E116F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CB206-19D8-4961-B047-581DE7D97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DB87C-7334-49BD-A3DE-CFE5F7B1C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90996-0199-40B8-8F6F-F56C981A9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D2EC4-7222-487B-B93E-BFA1E634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27385-51A2-4709-80CD-7E4FE1AF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D23E7-8FC1-48B2-81CD-95285DAC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9D976-25C3-46D9-B5D3-8B418C65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E679D-3AE3-4AB3-A611-44BF56B6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F0547-5AE7-4509-82F1-C0BC08CA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1D329-183C-432C-8F33-B80EC542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C0A72-7A33-4F03-9BF3-A490C2D3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0182E-C958-4F65-98C8-BF3F2045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8EF04-9FCF-41E4-8971-9CDBD4E5C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14B54-0E5D-491F-B5E6-2A1F2534D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DE2E6-8BA0-48C8-81E6-9222BDEB4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63F86-45CA-4B4F-A789-E1ED8245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04E39-63BC-400F-8FAD-437F2D30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DCB30-B588-4516-ABDE-BF5CEB11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071F4-2C25-4BE8-81AB-81396062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D03A4-A530-47B1-8306-7608F359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A9107-F00B-444A-8E31-53597BC3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6B4F1-8FA6-4F6E-8E23-A49D0618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BEFC3-1B77-48B9-A1F7-A57100D6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1E8FA-9036-4C04-9D2A-14A925C8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1AC20-606F-40B6-B7B6-E4C20D28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D7711-62E4-4D9F-9606-3ADB73B06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36F74-21AA-4594-A3E7-8BD467584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0BE74-9B5A-44E4-A880-01BB6511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1F6DB-755F-4E46-BFB7-5A73E1D8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60D73-1271-4917-8944-5D98D03B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E14DE-1909-45F7-9DF6-69C1D67A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19FF0-ECFA-45B9-95E2-AAD5893A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C17E1-030E-4ED9-BED8-FF3526E0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FF4E3-D149-4CC5-94E8-B193AD7A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D47F8-B7B5-4552-90D5-67C50159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23548-A472-44D7-8320-6DC7ED97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2B1BE-F19D-4602-B77A-4F3AD35BC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24D5A-A68F-48D8-80EE-CAE74D0C7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4323A-2641-4CD3-B7CA-D19D5478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E0E81-410E-4E2B-9D6B-3E668664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7A681-9EF5-4DBC-B8DC-B5D23083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g2"/>
          <p:cNvPicPr/>
          <p:nvPr/>
        </p:nvPicPr>
        <p:blipFill>
          <a:blip r:embed="rId2"/>
          <a:stretch/>
        </p:blipFill>
        <p:spPr>
          <a:xfrm>
            <a:off x="-6480" y="-1440"/>
            <a:ext cx="916956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463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66247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AD95-8102-4225-B217-5304275B56B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ADD4-71FF-483D-B084-9BA42B13E5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B327-0FA1-417C-9748-9E4A122075D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994C-A7BC-4BC0-900B-9A84795063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96F8-6C79-4682-8B37-31CDC486E68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E221-5967-45F0-BB7A-3AB17BBEE7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BF8F-4EFE-4D51-B80C-B3C26FD0FFB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B5FF-C58A-4E07-AE5F-2888542C38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BCB5-5140-4047-9523-6089054DEEB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31D8-2F09-49E2-B12A-391B2B079D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34D9-A24E-4F08-BFE6-696A276392D8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2949-351A-4E5E-BD58-2C4F36982EC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bg1"/>
          <p:cNvPicPr/>
          <p:nvPr/>
        </p:nvPicPr>
        <p:blipFill>
          <a:blip r:embed="rId2"/>
          <a:stretch/>
        </p:blipFill>
        <p:spPr>
          <a:xfrm>
            <a:off x="-6480" y="-1440"/>
            <a:ext cx="9169560" cy="68738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463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66247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1ABC-07F5-4758-B1ED-AFC7CB4F958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76AF-70FB-4213-9557-F41791DABC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4511-3601-45FA-BE3B-1951EC6F090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E772-C607-427B-BC5F-504EBE277B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D592-A0CF-4520-80D5-A0A2C22C793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E75D-5F71-4429-8E46-36837A38D0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F637-D1BF-4B58-9A43-4BBB7264BBB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860C-1C19-493B-BEB0-27DB26ABDF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3716-8700-485C-B4D8-199E303135F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4699-8C3D-4D1A-B154-E658740F2C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9721-A20E-40AD-903D-44127E302B7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C4E2-AAC8-4395-BA76-5F8E0FBB55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979280" y="1701360"/>
            <a:ext cx="5902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1693800" y="3171600"/>
            <a:ext cx="590256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662472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cp:keywords/>
  <dc:language>en-US</dc:language>
  <cp:lastModifiedBy>a</cp:lastModifiedBy>
  <dcterms:modified xsi:type="dcterms:W3CDTF">2014-05-24T09:41:17Z</dcterms:modified>
  <cp:revision>22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