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045-D53B-46DA-9474-1118CD15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497-CC4F-43EC-A6C0-A5ECEB2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DEC-624C-470A-B527-4D633BA4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16A-E37A-4A5B-9691-C1764FF0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3FE-F1F4-4ED5-B0E3-79F003E5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A84-01FD-41F5-9D97-D856F97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CC4-1E84-4054-90CF-897FA334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D71-BC6A-4584-8128-0EF1E9AE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0D0-E9ED-4D46-A9A6-6043920C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774-1269-4602-B442-6DD1929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CB0-8470-4D51-85E0-17D9C4F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164-3B58-406A-B4DA-8DC4AC4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0033-F454-43CA-A570-3817C6B5DC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毕业论文答辩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38680" y="495252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E:\ppt模板\商务\24\Globe User.png"/>
          <p:cNvPicPr/>
          <p:nvPr/>
        </p:nvPicPr>
        <p:blipFill>
          <a:blip r:embed="rId2"/>
          <a:stretch/>
        </p:blipFill>
        <p:spPr>
          <a:xfrm>
            <a:off x="502920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57400" y="990720"/>
            <a:ext cx="2721960" cy="812520"/>
            <a:chOff x="2057400" y="990720"/>
            <a:chExt cx="2721960" cy="812520"/>
          </a:xfrm>
        </p:grpSpPr>
        <p:pic>
          <p:nvPicPr>
            <p:cNvPr id="46" name="Picture 3" descr="E:\ppt模板\商务\24\Red Flag.png"/>
            <p:cNvPicPr/>
            <p:nvPr/>
          </p:nvPicPr>
          <p:blipFill>
            <a:blip r:embed="rId2"/>
            <a:stretch/>
          </p:blipFill>
          <p:spPr>
            <a:xfrm>
              <a:off x="2057400" y="9907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8"/>
            <p:cNvSpPr/>
            <p:nvPr/>
          </p:nvSpPr>
          <p:spPr>
            <a:xfrm>
              <a:off x="3501360" y="114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209680" y="2514600"/>
            <a:ext cx="2721960" cy="812880"/>
            <a:chOff x="2209680" y="2514600"/>
            <a:chExt cx="2721960" cy="812880"/>
          </a:xfrm>
        </p:grpSpPr>
        <p:pic>
          <p:nvPicPr>
            <p:cNvPr id="49" name="Picture 2" descr="E:\ppt模板\商务\24\Yellow Flag.png"/>
            <p:cNvPicPr/>
            <p:nvPr/>
          </p:nvPicPr>
          <p:blipFill>
            <a:blip r:embed="rId3"/>
            <a:stretch/>
          </p:blipFill>
          <p:spPr>
            <a:xfrm>
              <a:off x="2209680" y="2514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9"/>
            <p:cNvSpPr/>
            <p:nvPr/>
          </p:nvSpPr>
          <p:spPr>
            <a:xfrm>
              <a:off x="3653640" y="2666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209680" y="3962520"/>
            <a:ext cx="2645640" cy="812520"/>
            <a:chOff x="2209680" y="3962520"/>
            <a:chExt cx="2645640" cy="812520"/>
          </a:xfrm>
        </p:grpSpPr>
        <p:pic>
          <p:nvPicPr>
            <p:cNvPr id="52" name="Picture 5" descr="E:\ppt模板\商务\24\Blue Flag.png"/>
            <p:cNvPicPr/>
            <p:nvPr/>
          </p:nvPicPr>
          <p:blipFill>
            <a:blip r:embed="rId4"/>
            <a:stretch/>
          </p:blipFill>
          <p:spPr>
            <a:xfrm>
              <a:off x="2209680" y="39625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10"/>
            <p:cNvSpPr/>
            <p:nvPr/>
          </p:nvSpPr>
          <p:spPr>
            <a:xfrm>
              <a:off x="3577320" y="4114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362320" y="5410080"/>
            <a:ext cx="2645640" cy="812880"/>
            <a:chOff x="2362320" y="5410080"/>
            <a:chExt cx="2645640" cy="812880"/>
          </a:xfrm>
        </p:grpSpPr>
        <p:pic>
          <p:nvPicPr>
            <p:cNvPr id="55" name="Picture 4" descr="E:\ppt模板\商务\24\Green Flag.png"/>
            <p:cNvPicPr/>
            <p:nvPr/>
          </p:nvPicPr>
          <p:blipFill>
            <a:blip r:embed="rId5"/>
            <a:stretch/>
          </p:blipFill>
          <p:spPr>
            <a:xfrm>
              <a:off x="2362320" y="5410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11"/>
            <p:cNvSpPr/>
            <p:nvPr/>
          </p:nvSpPr>
          <p:spPr>
            <a:xfrm>
              <a:off x="3729960" y="548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00200" y="1523880"/>
            <a:ext cx="6324480" cy="4572000"/>
            <a:chOff x="1600200" y="1523880"/>
            <a:chExt cx="6324480" cy="4572000"/>
          </a:xfrm>
        </p:grpSpPr>
        <p:sp>
          <p:nvSpPr>
            <p:cNvPr id="58" name="折角形 5"/>
            <p:cNvSpPr/>
            <p:nvPr/>
          </p:nvSpPr>
          <p:spPr>
            <a:xfrm>
              <a:off x="1600200" y="1523880"/>
              <a:ext cx="6019920" cy="426744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E:\ppt模板\商务\24\Compas.png"/>
            <p:cNvPicPr/>
            <p:nvPr/>
          </p:nvPicPr>
          <p:blipFill>
            <a:blip r:embed="rId2"/>
            <a:stretch/>
          </p:blipFill>
          <p:spPr>
            <a:xfrm>
              <a:off x="6781680" y="495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3505320" y="2743200"/>
            <a:ext cx="1981080" cy="1828800"/>
            <a:chOff x="3505320" y="2743200"/>
            <a:chExt cx="1981080" cy="1828800"/>
          </a:xfrm>
        </p:grpSpPr>
        <p:pic>
          <p:nvPicPr>
            <p:cNvPr id="61" name="Picture 2" descr="E:\ppt模板\商务\24\Arrow Down.png"/>
            <p:cNvPicPr/>
            <p:nvPr/>
          </p:nvPicPr>
          <p:blipFill>
            <a:blip r:embed="rId2"/>
            <a:stretch/>
          </p:blipFill>
          <p:spPr>
            <a:xfrm>
              <a:off x="4198680" y="3886200"/>
              <a:ext cx="675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E:\ppt模板\商务\24\Arrow Left.png"/>
            <p:cNvPicPr/>
            <p:nvPr/>
          </p:nvPicPr>
          <p:blipFill>
            <a:blip r:embed="rId3"/>
            <a:stretch/>
          </p:blipFill>
          <p:spPr>
            <a:xfrm>
              <a:off x="4784040" y="3261240"/>
              <a:ext cx="7023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E:\ppt模板\商务\24\Arrow Right.png"/>
            <p:cNvPicPr/>
            <p:nvPr/>
          </p:nvPicPr>
          <p:blipFill>
            <a:blip r:embed="rId4"/>
            <a:stretch/>
          </p:blipFill>
          <p:spPr>
            <a:xfrm>
              <a:off x="3505320" y="3334320"/>
              <a:ext cx="70236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E:\ppt模板\商务\24\Arrow Up.png"/>
            <p:cNvPicPr/>
            <p:nvPr/>
          </p:nvPicPr>
          <p:blipFill>
            <a:blip r:embed="rId5"/>
            <a:stretch/>
          </p:blipFill>
          <p:spPr>
            <a:xfrm>
              <a:off x="4123440" y="2743200"/>
              <a:ext cx="6753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8"/>
          <p:cNvSpPr/>
          <p:nvPr/>
        </p:nvSpPr>
        <p:spPr>
          <a:xfrm>
            <a:off x="3805920" y="1905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882240" y="510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09192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151992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ppt模板\商务\24\Chart.png"/>
          <p:cNvPicPr/>
          <p:nvPr/>
        </p:nvPicPr>
        <p:blipFill>
          <a:blip r:embed="rId2"/>
          <a:stretch/>
        </p:blipFill>
        <p:spPr>
          <a:xfrm>
            <a:off x="457200" y="533520"/>
            <a:ext cx="99072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1665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表格正交表格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3471480" y="2819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分析方差分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E:\ppt模板\商务\24\Presentation Graph.png"/>
          <p:cNvPicPr/>
          <p:nvPr/>
        </p:nvPicPr>
        <p:blipFill>
          <a:blip r:embed="rId2"/>
          <a:stretch/>
        </p:blipFill>
        <p:spPr>
          <a:xfrm>
            <a:off x="7391520" y="53341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3694680" y="266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:\ppt模板\商务\24\Document Edit.png"/>
          <p:cNvPicPr/>
          <p:nvPr/>
        </p:nvPicPr>
        <p:blipFill>
          <a:blip r:embed="rId2"/>
          <a:stretch/>
        </p:blipFill>
        <p:spPr>
          <a:xfrm>
            <a:off x="1371600" y="1600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1284120"/>
            <a:ext cx="6658200" cy="4761000"/>
            <a:chOff x="1523880" y="1284120"/>
            <a:chExt cx="6658200" cy="4761000"/>
          </a:xfrm>
        </p:grpSpPr>
        <p:sp>
          <p:nvSpPr>
            <p:cNvPr id="77" name="单圆角矩形 9"/>
            <p:cNvSpPr/>
            <p:nvPr/>
          </p:nvSpPr>
          <p:spPr>
            <a:xfrm>
              <a:off x="1523880" y="1701000"/>
              <a:ext cx="6173280" cy="4344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5" descr="E:\ppt模板\商务\24\Magnet.png"/>
            <p:cNvPicPr/>
            <p:nvPr/>
          </p:nvPicPr>
          <p:blipFill>
            <a:blip r:embed="rId2"/>
            <a:stretch/>
          </p:blipFill>
          <p:spPr>
            <a:xfrm rot="13321200">
              <a:off x="6761520" y="1523520"/>
              <a:ext cx="1172880" cy="119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3764160" y="3276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E:\ppt模板\商务\24\Drink.png"/>
          <p:cNvPicPr/>
          <p:nvPr/>
        </p:nvPicPr>
        <p:blipFill>
          <a:blip r:embed="rId2"/>
          <a:stretch/>
        </p:blipFill>
        <p:spPr>
          <a:xfrm>
            <a:off x="1143000" y="160020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1:54:45Z</dcterms:created>
  <dc:creator/>
  <dc:description/>
  <dc:language>en-US</dc:language>
  <cp:lastModifiedBy>walkinnet</cp:lastModifiedBy>
  <dcterms:modified xsi:type="dcterms:W3CDTF">2015-01-08T07:16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