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037-004E-406D-B32D-25FE219B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E9D-24D2-4403-A015-D10AC77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376-558E-4384-B726-0BA1456C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9E7-29C4-4570-B961-A67E4E08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B2A-4ADB-46DE-8D9B-1701167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774-F0AD-48BD-8A89-D9627D55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673-1E1E-421A-9034-6D289D5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47B-4C04-4762-A20C-516AB02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8CA-751A-41FF-9DFF-27F2D22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A27-E12F-44F9-9E8B-982ED7C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E78-DD63-4265-B9A0-65C0308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479-9789-4108-AF4E-3D1BD6B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3ECA-DF3B-4007-95A4-AFE90EF6353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57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道路施工安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665840" y="47322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206280"/>
            <a:ext cx="6346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1200240"/>
            <a:ext cx="634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548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6:38:27Z</dcterms:created>
  <dc:creator>Ric6000</dc:creator>
  <dc:description/>
  <dc:language>en-US</dc:language>
  <cp:lastModifiedBy>Ric6000</cp:lastModifiedBy>
  <dcterms:modified xsi:type="dcterms:W3CDTF">2015-01-08T08:38:03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