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CB1-D405-4C34-8BE7-9365E403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D21-0169-41BE-A0C5-F0C7540D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CC9-B1A1-49A5-9EF0-C27386A2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735-A872-49A5-BD12-EAE42EC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6884-F01F-49A4-9117-3BB8908F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1B5-F094-4329-A239-71445859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C24A-9518-49BD-B3F3-424D3BA0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7CF4-AF06-40C2-8E6C-C07542B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FD0E-8212-4B81-A475-D86F99BA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836280"/>
            <a:ext cx="821088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1FD-C01A-4D8E-B4B5-C14D473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CF56-C6A4-4DF8-A7CE-2B54A0E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081-A002-4285-932D-BF9E1445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E315-D0D5-4882-AF52-B735D8D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09B-0FD1-4E8C-A1C4-45288F38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5E7-B5FC-4F91-AA46-3609DC05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E2F-7AF6-41A0-BF10-6E119BB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168-F88F-4596-92E2-6B5C1415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3C7-664A-4939-9826-AD0A1FA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62B-5EAC-4C66-B1CA-328191F1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23B-7022-4C13-9AEB-30F8B62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836280"/>
            <a:ext cx="821088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4F4-97AE-4B9E-80E9-1233D93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753-A8C2-4034-B8EB-5FC031D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E85-1936-4F7D-B02B-430C3E3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2E3-A72B-4FAE-BA6D-A23F139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0D47-765D-40A6-A272-2E520D121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0D6-A815-40A5-8BDA-67949B29B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色彩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示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306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836280"/>
            <a:ext cx="8210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32:13Z</dcterms:created>
  <dc:creator/>
  <dc:description/>
  <dc:language>en-US</dc:language>
  <cp:lastModifiedBy/>
  <dcterms:modified xsi:type="dcterms:W3CDTF">2015-01-08T08:37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