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347-2A6A-4555-8A55-2FA6AFBB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8BC-0049-4CCC-B465-3AF11D85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5C1-C5B0-4641-BB1A-37298A10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113-47F2-4371-B2A6-FE6137E7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1065-F94F-4471-9A0D-676C726F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A0CE-07B8-41AD-A284-4749AA82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D18A-7790-49B6-B2E0-1ED48EC4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8A54-B756-4B29-9CB5-4CC42155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17B4-FDE8-4CC3-8477-3A705B95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8ED7-47B4-4421-891E-9615A506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A816-4377-4FD7-B18E-AF30F1CD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630-398C-4857-A161-12C5ABD0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F45C-60A2-4C8E-9C73-81C71D33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82F9-5DF0-4EB4-88A9-37615638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98B0-ABA9-41C9-A245-277AE8CC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C735-A2A2-4862-839B-81465426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900A-F92F-4548-893F-E0992CBA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5C1-BF65-472E-909E-162FB206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4C3-342E-449B-8B0D-FF6556FF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BB4-80F5-4A86-8C54-FFB48208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C8D-5513-479D-8CDB-255A0D36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9C4-385E-4813-8CAF-4D8DC972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C98-1D93-4EA3-9B31-7DDF046E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ECD-030F-4545-80AE-95828E8C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F4AF-D1DF-47AC-883B-7C1928DF1812}" type="slidenum">
              <a:rPr b="0" lang="en-US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EFE3-A5FF-469B-9438-7A251761A0D7}" type="slidenum">
              <a:rPr b="0" lang="en-US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15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138"/>
                </a:solidFill>
                <a:latin typeface="宋体"/>
                <a:ea typeface="宋体"/>
              </a:rPr>
              <a:t>大树</a:t>
            </a:r>
            <a:r>
              <a:rPr b="1" lang="zh-CN" sz="4400" spc="-1" strike="noStrike">
                <a:solidFill>
                  <a:srgbClr val="003138"/>
                </a:solidFill>
                <a:latin typeface="宋体"/>
                <a:ea typeface="宋体"/>
              </a:rPr>
              <a:t>PPT</a:t>
            </a:r>
            <a:r>
              <a:rPr b="1" lang="zh-CN" sz="4400" spc="-1" strike="noStrike">
                <a:solidFill>
                  <a:srgbClr val="003138"/>
                </a:solidFill>
                <a:latin typeface="宋体"/>
                <a:ea typeface="宋体"/>
              </a:rPr>
              <a:t>模板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928520"/>
            <a:ext cx="64008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133a"/>
              </a:solidFill>
              <a:latin typeface="Verdana"/>
              <a:ea typeface="微软雅黑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64c143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64c143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64c143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41:57Z</dcterms:created>
  <dc:creator/>
  <dc:description/>
  <dc:language>en-US</dc:language>
  <cp:lastModifiedBy/>
  <dcterms:modified xsi:type="dcterms:W3CDTF">2015-01-08T12:37:5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103626492052</vt:lpwstr>
  </property>
</Properties>
</file>