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9F3-278C-417C-8A4B-29512BA1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789-6A78-4C23-A2AB-90E6B37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488-E072-4D4F-86CA-9588DD74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B6E-9344-480B-8C51-13270717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CC7A-EA3F-4366-B263-1FE1C87A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91BF-6DA4-4B8E-A9F9-426BFFB3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12AD-8AA6-48D9-8A16-40410C7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06D9-F2EF-4F4B-B1E7-E3706672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D1E-1E2E-454C-99B5-506ECD2C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ADA6-AD73-460D-9562-FD81E1A5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D10A-05D5-4F3A-A717-8B816B4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B7C-9C7A-4F53-BF76-527D7EBF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9A8-2B19-41A4-88A7-0E975472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A63F-F771-4BA8-A11A-A5366FC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D8A4-6BB3-4B52-9306-ED2EC81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7DB7-10CD-42FE-B65E-E45EE642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9CC2-16C4-4A29-BC50-DC22CBDE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45E-EB88-43FD-BD8A-F2C6ADC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C08-E44B-4A45-8F35-FA7899B5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6C9-1C30-4663-8814-46C9915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120-EAC8-420B-8D3C-5F73C9DA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6B4-C7AD-4B1E-A662-A4430E1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368-FEEF-432D-984B-01E8992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77E-A258-4D06-A01F-5C98C9A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2892-B70E-440A-BF2B-2C8E00086E37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516-2EB4-4D04-BEB1-BE24ED1CFA99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620640"/>
            <a:ext cx="6933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工程桥梁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38088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60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  <a:ea typeface="宋体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4" name="Picture 14" descr="bridge_outline_qx"/>
          <p:cNvPicPr/>
          <p:nvPr/>
        </p:nvPicPr>
        <p:blipFill>
          <a:blip r:embed="rId1"/>
          <a:stretch/>
        </p:blipFill>
        <p:spPr>
          <a:xfrm>
            <a:off x="3960720" y="9907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5" name="Picture 17" descr="bridge_outline_sld"/>
          <p:cNvPicPr/>
          <p:nvPr/>
        </p:nvPicPr>
        <p:blipFill>
          <a:blip r:embed="rId2"/>
          <a:stretch/>
        </p:blipFill>
        <p:spPr>
          <a:xfrm>
            <a:off x="6450120" y="9907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6" name="Picture 20" descr="bridge_outline_trs"/>
          <p:cNvPicPr/>
          <p:nvPr/>
        </p:nvPicPr>
        <p:blipFill>
          <a:blip r:embed="rId3"/>
          <a:stretch/>
        </p:blipFill>
        <p:spPr>
          <a:xfrm>
            <a:off x="3960720" y="30481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Picture 23" descr="bridge_outline_prt"/>
          <p:cNvPicPr/>
          <p:nvPr/>
        </p:nvPicPr>
        <p:blipFill>
          <a:blip r:embed="rId4"/>
          <a:stretch/>
        </p:blipFill>
        <p:spPr>
          <a:xfrm>
            <a:off x="6450120" y="3048120"/>
            <a:ext cx="2313000" cy="1734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6384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3:31:48Z</dcterms:created>
  <dc:creator/>
  <dc:description/>
  <dc:language>en-US</dc:language>
  <cp:lastModifiedBy>king</cp:lastModifiedBy>
  <dcterms:modified xsi:type="dcterms:W3CDTF">2015-01-08T08:42:5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