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57400"/>
            <a:ext cx="8207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4005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7400"/>
            <a:ext cx="4005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413000"/>
            <a:ext cx="264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413000"/>
            <a:ext cx="264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57400"/>
            <a:ext cx="264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57400"/>
            <a:ext cx="264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57400"/>
            <a:ext cx="264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7199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4005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7400"/>
            <a:ext cx="4005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05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413000"/>
            <a:ext cx="4005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57400"/>
            <a:ext cx="8207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426360"/>
            <a:ext cx="14400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D823C6F-D38E-45A1-BF6D-5F6CF0621DC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1.png"/><Relationship Id="rId19" Type="http://schemas.openxmlformats.org/officeDocument/2006/relationships/image" Target="../media/image18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74148" r="0" b="0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0" t="86762" r="0" b="0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rcRect l="0" t="0" r="0" b="81509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rcRect l="64168" t="0" r="0" b="37410"/>
          <a:stretch/>
        </p:blipFill>
        <p:spPr>
          <a:xfrm>
            <a:off x="5867280" y="0"/>
            <a:ext cx="3276720" cy="42926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88880" y="260280"/>
            <a:ext cx="2498400" cy="1344240"/>
            <a:chOff x="488880" y="260280"/>
            <a:chExt cx="2498400" cy="1344240"/>
          </a:xfrm>
        </p:grpSpPr>
        <p:pic>
          <p:nvPicPr>
            <p:cNvPr id="47" name="" descr=""/>
            <p:cNvPicPr/>
            <p:nvPr/>
          </p:nvPicPr>
          <p:blipFill>
            <a:blip r:embed="rId7">
              <a:lum bright="100000"/>
            </a:blip>
            <a:stretch/>
          </p:blipFill>
          <p:spPr>
            <a:xfrm>
              <a:off x="488880" y="443520"/>
              <a:ext cx="1572480" cy="65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8">
              <a:lum bright="100000"/>
            </a:blip>
            <a:stretch/>
          </p:blipFill>
          <p:spPr>
            <a:xfrm>
              <a:off x="1931040" y="260280"/>
              <a:ext cx="52380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9">
              <a:lum bright="100000"/>
            </a:blip>
            <a:stretch/>
          </p:blipFill>
          <p:spPr>
            <a:xfrm>
              <a:off x="2210400" y="351720"/>
              <a:ext cx="776880" cy="125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826920" y="1473120"/>
            <a:ext cx="756288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尊敬的</a:t>
            </a:r>
            <a:r>
              <a:rPr b="1" i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1" i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一张贺卡，有如此多的牵挂，只因它承载了浓浓的祝福，愿您新年快乐！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ordriDesig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rcRect l="32675" t="68891" r="0" b="0"/>
          <a:stretch/>
        </p:blipFill>
        <p:spPr>
          <a:xfrm>
            <a:off x="2987640" y="4711680"/>
            <a:ext cx="61563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rcRect l="80844" t="68925" r="0" b="9439"/>
          <a:stretch/>
        </p:blipFill>
        <p:spPr>
          <a:xfrm>
            <a:off x="7236000" y="4941720"/>
            <a:ext cx="1868400" cy="158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rcRect l="7448" t="47573" r="40256" b="5954"/>
          <a:stretch/>
        </p:blipFill>
        <p:spPr>
          <a:xfrm>
            <a:off x="525600" y="2627280"/>
            <a:ext cx="4119480" cy="274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0" y="5877000"/>
            <a:ext cx="9167760" cy="528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rcRect l="0" t="50002" r="72051" b="14305"/>
          <a:stretch/>
        </p:blipFill>
        <p:spPr>
          <a:xfrm>
            <a:off x="4680" y="3209760"/>
            <a:ext cx="2319480" cy="2221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rcRect l="0" t="50002" r="49758" b="0"/>
          <a:stretch/>
        </p:blipFill>
        <p:spPr>
          <a:xfrm>
            <a:off x="-260280" y="3068640"/>
            <a:ext cx="5048280" cy="3771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rcRect l="0" t="50002" r="49758" b="0"/>
          <a:stretch/>
        </p:blipFill>
        <p:spPr>
          <a:xfrm>
            <a:off x="-260280" y="3068640"/>
            <a:ext cx="5048280" cy="37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rcRect l="0" t="49887" r="50001" b="0"/>
          <a:stretch/>
        </p:blipFill>
        <p:spPr>
          <a:xfrm>
            <a:off x="-236520" y="3068640"/>
            <a:ext cx="5024520" cy="37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rcRect l="28060" t="69903" r="51272" b="9439"/>
          <a:stretch/>
        </p:blipFill>
        <p:spPr>
          <a:xfrm>
            <a:off x="2930400" y="4255920"/>
            <a:ext cx="2217960" cy="1662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rcRect l="12550" t="67928" r="67532" b="11396"/>
          <a:stretch/>
        </p:blipFill>
        <p:spPr>
          <a:xfrm>
            <a:off x="-297000" y="3500280"/>
            <a:ext cx="2132280" cy="166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rcRect l="0" t="48245" r="82865" b="28126"/>
          <a:stretch/>
        </p:blipFill>
        <p:spPr>
          <a:xfrm>
            <a:off x="1077840" y="4768920"/>
            <a:ext cx="1838520" cy="19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6" repeatCount="indefinite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0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10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6" repeatCount="indefinite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6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10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6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4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2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3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8T08:18:44Z</dcterms:modified>
  <cp:revision>3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