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435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435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435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71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71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435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435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435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435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435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435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不等于号 7"/>
          <p:cNvSpPr/>
          <p:nvPr/>
        </p:nvSpPr>
        <p:spPr>
          <a:xfrm>
            <a:off x="7715160" y="5143680"/>
            <a:ext cx="1071720" cy="857160"/>
          </a:xfrm>
          <a:custGeom>
            <a:avLst/>
            <a:gdLst>
              <a:gd name="textAreaLeft" fmla="*/ 0 w 1071720"/>
              <a:gd name="textAreaRight" fmla="*/ 1072080 w 107172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1688" h="1350">
                <a:moveTo>
                  <a:pt x="223" y="278"/>
                </a:moveTo>
                <a:lnTo>
                  <a:pt x="819" y="278"/>
                </a:lnTo>
                <a:lnTo>
                  <a:pt x="920" y="0"/>
                </a:lnTo>
                <a:lnTo>
                  <a:pt x="1219" y="108"/>
                </a:lnTo>
                <a:lnTo>
                  <a:pt x="1157" y="278"/>
                </a:lnTo>
                <a:lnTo>
                  <a:pt x="1464" y="278"/>
                </a:lnTo>
                <a:lnTo>
                  <a:pt x="1464" y="595"/>
                </a:lnTo>
                <a:lnTo>
                  <a:pt x="1041" y="595"/>
                </a:lnTo>
                <a:lnTo>
                  <a:pt x="984" y="754"/>
                </a:lnTo>
                <a:lnTo>
                  <a:pt x="1464" y="754"/>
                </a:lnTo>
                <a:lnTo>
                  <a:pt x="1464" y="1071"/>
                </a:lnTo>
                <a:lnTo>
                  <a:pt x="868" y="1071"/>
                </a:lnTo>
                <a:lnTo>
                  <a:pt x="767" y="1350"/>
                </a:lnTo>
                <a:lnTo>
                  <a:pt x="468" y="1241"/>
                </a:lnTo>
                <a:lnTo>
                  <a:pt x="530" y="1071"/>
                </a:lnTo>
                <a:lnTo>
                  <a:pt x="223" y="1071"/>
                </a:lnTo>
                <a:lnTo>
                  <a:pt x="223" y="754"/>
                </a:lnTo>
                <a:lnTo>
                  <a:pt x="646" y="754"/>
                </a:lnTo>
                <a:lnTo>
                  <a:pt x="703" y="595"/>
                </a:lnTo>
                <a:lnTo>
                  <a:pt x="223" y="595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乘号 8"/>
          <p:cNvSpPr/>
          <p:nvPr/>
        </p:nvSpPr>
        <p:spPr>
          <a:xfrm rot="19667400">
            <a:off x="8055000" y="388440"/>
            <a:ext cx="666720" cy="666720"/>
          </a:xfrm>
          <a:custGeom>
            <a:avLst/>
            <a:gdLst>
              <a:gd name="textAreaLeft" fmla="*/ 0 w 666720"/>
              <a:gd name="textAreaRight" fmla="*/ 667080 w 66672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1050" h="1050">
                <a:moveTo>
                  <a:pt x="164" y="339"/>
                </a:moveTo>
                <a:lnTo>
                  <a:pt x="339" y="164"/>
                </a:lnTo>
                <a:lnTo>
                  <a:pt x="525" y="350"/>
                </a:lnTo>
                <a:lnTo>
                  <a:pt x="710" y="164"/>
                </a:lnTo>
                <a:lnTo>
                  <a:pt x="885" y="339"/>
                </a:lnTo>
                <a:lnTo>
                  <a:pt x="699" y="525"/>
                </a:lnTo>
                <a:lnTo>
                  <a:pt x="885" y="710"/>
                </a:lnTo>
                <a:lnTo>
                  <a:pt x="710" y="885"/>
                </a:lnTo>
                <a:lnTo>
                  <a:pt x="525" y="699"/>
                </a:lnTo>
                <a:lnTo>
                  <a:pt x="339" y="885"/>
                </a:lnTo>
                <a:lnTo>
                  <a:pt x="164" y="710"/>
                </a:lnTo>
                <a:lnTo>
                  <a:pt x="350" y="525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除号 9"/>
          <p:cNvSpPr/>
          <p:nvPr/>
        </p:nvSpPr>
        <p:spPr>
          <a:xfrm rot="20251800">
            <a:off x="7834320" y="2673000"/>
            <a:ext cx="1131840" cy="1133640"/>
          </a:xfrm>
          <a:custGeom>
            <a:avLst/>
            <a:gdLst>
              <a:gd name="textAreaLeft" fmla="*/ 0 w 1131840"/>
              <a:gd name="textAreaRight" fmla="*/ 1132200 w 113184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1782" h="1785">
                <a:moveTo>
                  <a:pt x="891" y="210"/>
                </a:moveTo>
                <a:lnTo>
                  <a:pt x="891" y="210"/>
                </a:lnTo>
                <a:arcTo wR="209" hR="209" stAng="-5400000" swAng="0"/>
                <a:close/>
                <a:moveTo>
                  <a:pt x="891" y="1574"/>
                </a:moveTo>
                <a:lnTo>
                  <a:pt x="891" y="1574"/>
                </a:lnTo>
                <a:arcTo wR="209" hR="209" stAng="5400000" swAng="0"/>
                <a:close/>
                <a:moveTo>
                  <a:pt x="236" y="682"/>
                </a:moveTo>
                <a:lnTo>
                  <a:pt x="1545" y="682"/>
                </a:lnTo>
                <a:lnTo>
                  <a:pt x="1545" y="1102"/>
                </a:lnTo>
                <a:lnTo>
                  <a:pt x="236" y="1102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减号 10"/>
          <p:cNvSpPr/>
          <p:nvPr/>
        </p:nvSpPr>
        <p:spPr>
          <a:xfrm rot="717600">
            <a:off x="7529040" y="1195560"/>
            <a:ext cx="573120" cy="687240"/>
          </a:xfrm>
          <a:custGeom>
            <a:avLst/>
            <a:gdLst>
              <a:gd name="textAreaLeft" fmla="*/ 0 w 573120"/>
              <a:gd name="textAreaRight" fmla="*/ 573480 w 57312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902" h="1082">
                <a:moveTo>
                  <a:pt x="119" y="413"/>
                </a:moveTo>
                <a:lnTo>
                  <a:pt x="782" y="413"/>
                </a:lnTo>
                <a:lnTo>
                  <a:pt x="782" y="668"/>
                </a:lnTo>
                <a:lnTo>
                  <a:pt x="119" y="668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11"/>
          <p:cNvSpPr/>
          <p:nvPr/>
        </p:nvSpPr>
        <p:spPr>
          <a:xfrm>
            <a:off x="7143840" y="5572080"/>
            <a:ext cx="2000160" cy="1285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1f497d"/>
                </a:solidFill>
                <a:latin typeface="Arial Black"/>
              </a:rPr>
              <a:t>Click to edit the title text format</a:t>
            </a:r>
            <a:endParaRPr b="1" lang="en-US" sz="3400" spc="-1" strike="noStrike">
              <a:solidFill>
                <a:srgbClr val="1f497d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7"/>
          <p:cNvSpPr/>
          <p:nvPr/>
        </p:nvSpPr>
        <p:spPr>
          <a:xfrm>
            <a:off x="0" y="5143680"/>
            <a:ext cx="9144000" cy="1714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不等于号 8"/>
          <p:cNvSpPr/>
          <p:nvPr/>
        </p:nvSpPr>
        <p:spPr>
          <a:xfrm>
            <a:off x="7532640" y="4032360"/>
            <a:ext cx="1071720" cy="857160"/>
          </a:xfrm>
          <a:custGeom>
            <a:avLst/>
            <a:gdLst>
              <a:gd name="textAreaLeft" fmla="*/ 0 w 1071720"/>
              <a:gd name="textAreaRight" fmla="*/ 1072080 w 107172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1687" h="1350">
                <a:moveTo>
                  <a:pt x="223" y="278"/>
                </a:moveTo>
                <a:lnTo>
                  <a:pt x="819" y="278"/>
                </a:lnTo>
                <a:lnTo>
                  <a:pt x="920" y="0"/>
                </a:lnTo>
                <a:lnTo>
                  <a:pt x="1218" y="108"/>
                </a:lnTo>
                <a:lnTo>
                  <a:pt x="1156" y="278"/>
                </a:lnTo>
                <a:lnTo>
                  <a:pt x="1463" y="278"/>
                </a:lnTo>
                <a:lnTo>
                  <a:pt x="1463" y="595"/>
                </a:lnTo>
                <a:lnTo>
                  <a:pt x="1041" y="595"/>
                </a:lnTo>
                <a:lnTo>
                  <a:pt x="983" y="754"/>
                </a:lnTo>
                <a:lnTo>
                  <a:pt x="1463" y="754"/>
                </a:lnTo>
                <a:lnTo>
                  <a:pt x="1463" y="1071"/>
                </a:lnTo>
                <a:lnTo>
                  <a:pt x="867" y="1071"/>
                </a:lnTo>
                <a:lnTo>
                  <a:pt x="766" y="1350"/>
                </a:lnTo>
                <a:lnTo>
                  <a:pt x="468" y="1241"/>
                </a:lnTo>
                <a:lnTo>
                  <a:pt x="530" y="1071"/>
                </a:lnTo>
                <a:lnTo>
                  <a:pt x="223" y="1071"/>
                </a:lnTo>
                <a:lnTo>
                  <a:pt x="223" y="754"/>
                </a:lnTo>
                <a:lnTo>
                  <a:pt x="645" y="754"/>
                </a:lnTo>
                <a:lnTo>
                  <a:pt x="703" y="595"/>
                </a:lnTo>
                <a:lnTo>
                  <a:pt x="223" y="595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乘号 9"/>
          <p:cNvSpPr/>
          <p:nvPr/>
        </p:nvSpPr>
        <p:spPr>
          <a:xfrm rot="19667400">
            <a:off x="8055000" y="388440"/>
            <a:ext cx="666720" cy="666720"/>
          </a:xfrm>
          <a:custGeom>
            <a:avLst/>
            <a:gdLst>
              <a:gd name="textAreaLeft" fmla="*/ 0 w 666720"/>
              <a:gd name="textAreaRight" fmla="*/ 667080 w 66672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1050" h="1050">
                <a:moveTo>
                  <a:pt x="164" y="339"/>
                </a:moveTo>
                <a:lnTo>
                  <a:pt x="339" y="164"/>
                </a:lnTo>
                <a:lnTo>
                  <a:pt x="525" y="350"/>
                </a:lnTo>
                <a:lnTo>
                  <a:pt x="710" y="164"/>
                </a:lnTo>
                <a:lnTo>
                  <a:pt x="885" y="339"/>
                </a:lnTo>
                <a:lnTo>
                  <a:pt x="699" y="525"/>
                </a:lnTo>
                <a:lnTo>
                  <a:pt x="885" y="710"/>
                </a:lnTo>
                <a:lnTo>
                  <a:pt x="710" y="885"/>
                </a:lnTo>
                <a:lnTo>
                  <a:pt x="525" y="699"/>
                </a:lnTo>
                <a:lnTo>
                  <a:pt x="339" y="885"/>
                </a:lnTo>
                <a:lnTo>
                  <a:pt x="164" y="710"/>
                </a:lnTo>
                <a:lnTo>
                  <a:pt x="350" y="525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除号 10"/>
          <p:cNvSpPr/>
          <p:nvPr/>
        </p:nvSpPr>
        <p:spPr>
          <a:xfrm rot="20251800">
            <a:off x="7675560" y="188892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800" h="1800">
                <a:moveTo>
                  <a:pt x="900" y="212"/>
                </a:moveTo>
                <a:lnTo>
                  <a:pt x="900" y="212"/>
                </a:lnTo>
                <a:arcTo wR="211" hR="211" stAng="-5400000" swAng="0"/>
                <a:close/>
                <a:moveTo>
                  <a:pt x="900" y="1587"/>
                </a:moveTo>
                <a:lnTo>
                  <a:pt x="900" y="1587"/>
                </a:lnTo>
                <a:arcTo wR="211" hR="211" stAng="5400000" swAng="0"/>
                <a:close/>
                <a:moveTo>
                  <a:pt x="238" y="688"/>
                </a:moveTo>
                <a:lnTo>
                  <a:pt x="1561" y="688"/>
                </a:lnTo>
                <a:lnTo>
                  <a:pt x="1561" y="1111"/>
                </a:lnTo>
                <a:lnTo>
                  <a:pt x="238" y="111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减号 11"/>
          <p:cNvSpPr/>
          <p:nvPr/>
        </p:nvSpPr>
        <p:spPr>
          <a:xfrm>
            <a:off x="6715080" y="1214280"/>
            <a:ext cx="714600" cy="857520"/>
          </a:xfrm>
          <a:custGeom>
            <a:avLst/>
            <a:gdLst>
              <a:gd name="textAreaLeft" fmla="*/ 0 w 714600"/>
              <a:gd name="textAreaRight" fmla="*/ 714960 w 714600"/>
              <a:gd name="textAreaTop" fmla="*/ 0 h 857520"/>
              <a:gd name="textAreaBottom" fmla="*/ 857880 h 857520"/>
            </a:gdLst>
            <a:ahLst/>
            <a:rect l="textAreaLeft" t="textAreaTop" r="textAreaRight" b="textAreaBottom"/>
            <a:pathLst>
              <a:path w="1125" h="1350">
                <a:moveTo>
                  <a:pt x="149" y="516"/>
                </a:moveTo>
                <a:lnTo>
                  <a:pt x="975" y="516"/>
                </a:lnTo>
                <a:lnTo>
                  <a:pt x="975" y="833"/>
                </a:lnTo>
                <a:lnTo>
                  <a:pt x="149" y="833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2143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 Black"/>
                <a:ea typeface="Calibri"/>
              </a:rPr>
              <a:t>Entertainment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Arial Black"/>
                <a:ea typeface="Calibri"/>
              </a:rPr>
              <a:t>         in Mathematics</a:t>
            </a:r>
            <a:endParaRPr b="1" lang="en-US" sz="44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Calibri"/>
              </a:rPr>
              <a:t>- Dr. Me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6251400" y="645480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1f497d"/>
                </a:solidFill>
                <a:latin typeface="Arial Black"/>
              </a:rPr>
              <a:t>Introduction</a:t>
            </a:r>
            <a:endParaRPr b="1" lang="en-US" sz="34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9680" y="1357200"/>
            <a:ext cx="835812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Fall 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Play exploring nature of infi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Following Semester, Spring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Game S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Game Show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History of calculus and Fundamental conce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1f497d"/>
                </a:solidFill>
                <a:latin typeface="Arial Black"/>
              </a:rPr>
              <a:t>Mathematics Course Content</a:t>
            </a:r>
            <a:endParaRPr b="1" lang="en-US" sz="34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6791400" y="4289400"/>
            <a:ext cx="1398600" cy="142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2146320" y="2533680"/>
            <a:ext cx="5207040" cy="2576520"/>
          </a:xfrm>
          <a:prstGeom prst="upArrow">
            <a:avLst>
              <a:gd name="adj1" fmla="val 57824"/>
              <a:gd name="adj2" fmla="val 5439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3035160" y="4289400"/>
            <a:ext cx="1398600" cy="142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2000160" y="1785960"/>
            <a:ext cx="5451480" cy="539640"/>
          </a:xfrm>
          <a:prstGeom prst="roundRect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1214280" y="4292640"/>
            <a:ext cx="1398600" cy="142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316160" y="4789440"/>
            <a:ext cx="116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3079800" y="4789440"/>
            <a:ext cx="12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0"/>
          <p:cNvSpPr/>
          <p:nvPr/>
        </p:nvSpPr>
        <p:spPr>
          <a:xfrm>
            <a:off x="4933800" y="4289400"/>
            <a:ext cx="1398600" cy="142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4929120" y="4786200"/>
            <a:ext cx="13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6231960" y="478620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51400" y="63817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7"/>
          <p:cNvSpPr/>
          <p:nvPr/>
        </p:nvSpPr>
        <p:spPr>
          <a:xfrm>
            <a:off x="0" y="5157720"/>
            <a:ext cx="9144000" cy="1714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不等于号 8"/>
          <p:cNvSpPr/>
          <p:nvPr/>
        </p:nvSpPr>
        <p:spPr>
          <a:xfrm>
            <a:off x="7532640" y="4032360"/>
            <a:ext cx="1071720" cy="857160"/>
          </a:xfrm>
          <a:custGeom>
            <a:avLst/>
            <a:gdLst>
              <a:gd name="textAreaLeft" fmla="*/ 0 w 1071720"/>
              <a:gd name="textAreaRight" fmla="*/ 1072080 w 107172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1687" h="1350">
                <a:moveTo>
                  <a:pt x="223" y="278"/>
                </a:moveTo>
                <a:lnTo>
                  <a:pt x="819" y="278"/>
                </a:lnTo>
                <a:lnTo>
                  <a:pt x="920" y="0"/>
                </a:lnTo>
                <a:lnTo>
                  <a:pt x="1218" y="108"/>
                </a:lnTo>
                <a:lnTo>
                  <a:pt x="1156" y="278"/>
                </a:lnTo>
                <a:lnTo>
                  <a:pt x="1463" y="278"/>
                </a:lnTo>
                <a:lnTo>
                  <a:pt x="1463" y="595"/>
                </a:lnTo>
                <a:lnTo>
                  <a:pt x="1041" y="595"/>
                </a:lnTo>
                <a:lnTo>
                  <a:pt x="983" y="754"/>
                </a:lnTo>
                <a:lnTo>
                  <a:pt x="1463" y="754"/>
                </a:lnTo>
                <a:lnTo>
                  <a:pt x="1463" y="1071"/>
                </a:lnTo>
                <a:lnTo>
                  <a:pt x="867" y="1071"/>
                </a:lnTo>
                <a:lnTo>
                  <a:pt x="766" y="1350"/>
                </a:lnTo>
                <a:lnTo>
                  <a:pt x="468" y="1241"/>
                </a:lnTo>
                <a:lnTo>
                  <a:pt x="530" y="1071"/>
                </a:lnTo>
                <a:lnTo>
                  <a:pt x="223" y="1071"/>
                </a:lnTo>
                <a:lnTo>
                  <a:pt x="223" y="754"/>
                </a:lnTo>
                <a:lnTo>
                  <a:pt x="645" y="754"/>
                </a:lnTo>
                <a:lnTo>
                  <a:pt x="703" y="595"/>
                </a:lnTo>
                <a:lnTo>
                  <a:pt x="223" y="595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乘号 9"/>
          <p:cNvSpPr/>
          <p:nvPr/>
        </p:nvSpPr>
        <p:spPr>
          <a:xfrm rot="19667400">
            <a:off x="8055000" y="388440"/>
            <a:ext cx="666720" cy="666720"/>
          </a:xfrm>
          <a:custGeom>
            <a:avLst/>
            <a:gdLst>
              <a:gd name="textAreaLeft" fmla="*/ 0 w 666720"/>
              <a:gd name="textAreaRight" fmla="*/ 667080 w 66672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1050" h="1050">
                <a:moveTo>
                  <a:pt x="164" y="339"/>
                </a:moveTo>
                <a:lnTo>
                  <a:pt x="339" y="164"/>
                </a:lnTo>
                <a:lnTo>
                  <a:pt x="525" y="350"/>
                </a:lnTo>
                <a:lnTo>
                  <a:pt x="710" y="164"/>
                </a:lnTo>
                <a:lnTo>
                  <a:pt x="885" y="339"/>
                </a:lnTo>
                <a:lnTo>
                  <a:pt x="699" y="525"/>
                </a:lnTo>
                <a:lnTo>
                  <a:pt x="885" y="710"/>
                </a:lnTo>
                <a:lnTo>
                  <a:pt x="710" y="885"/>
                </a:lnTo>
                <a:lnTo>
                  <a:pt x="525" y="699"/>
                </a:lnTo>
                <a:lnTo>
                  <a:pt x="339" y="885"/>
                </a:lnTo>
                <a:lnTo>
                  <a:pt x="164" y="710"/>
                </a:lnTo>
                <a:lnTo>
                  <a:pt x="350" y="525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除号 10"/>
          <p:cNvSpPr/>
          <p:nvPr/>
        </p:nvSpPr>
        <p:spPr>
          <a:xfrm rot="20251800">
            <a:off x="7675560" y="188892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800" h="1800">
                <a:moveTo>
                  <a:pt x="900" y="212"/>
                </a:moveTo>
                <a:lnTo>
                  <a:pt x="900" y="212"/>
                </a:lnTo>
                <a:arcTo wR="211" hR="211" stAng="-5400000" swAng="0"/>
                <a:close/>
                <a:moveTo>
                  <a:pt x="900" y="1587"/>
                </a:moveTo>
                <a:lnTo>
                  <a:pt x="900" y="1587"/>
                </a:lnTo>
                <a:arcTo wR="211" hR="211" stAng="5400000" swAng="0"/>
                <a:close/>
                <a:moveTo>
                  <a:pt x="238" y="688"/>
                </a:moveTo>
                <a:lnTo>
                  <a:pt x="1561" y="688"/>
                </a:lnTo>
                <a:lnTo>
                  <a:pt x="1561" y="1111"/>
                </a:lnTo>
                <a:lnTo>
                  <a:pt x="238" y="111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减号 11"/>
          <p:cNvSpPr/>
          <p:nvPr/>
        </p:nvSpPr>
        <p:spPr>
          <a:xfrm>
            <a:off x="6715080" y="1214280"/>
            <a:ext cx="714600" cy="857520"/>
          </a:xfrm>
          <a:custGeom>
            <a:avLst/>
            <a:gdLst>
              <a:gd name="textAreaLeft" fmla="*/ 0 w 714600"/>
              <a:gd name="textAreaRight" fmla="*/ 714960 w 714600"/>
              <a:gd name="textAreaTop" fmla="*/ 0 h 857520"/>
              <a:gd name="textAreaBottom" fmla="*/ 857880 h 857520"/>
            </a:gdLst>
            <a:ahLst/>
            <a:rect l="textAreaLeft" t="textAreaTop" r="textAreaRight" b="textAreaBottom"/>
            <a:pathLst>
              <a:path w="1125" h="1350">
                <a:moveTo>
                  <a:pt x="149" y="516"/>
                </a:moveTo>
                <a:lnTo>
                  <a:pt x="975" y="516"/>
                </a:lnTo>
                <a:lnTo>
                  <a:pt x="975" y="833"/>
                </a:lnTo>
                <a:lnTo>
                  <a:pt x="149" y="833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1f497d"/>
                </a:solidFill>
                <a:latin typeface="Arial Black"/>
                <a:ea typeface="Calibri"/>
              </a:rPr>
              <a:t>Thank you !</a:t>
            </a:r>
            <a:endParaRPr b="1" lang="en-US" sz="4800" spc="-1" strike="noStrike">
              <a:solidFill>
                <a:srgbClr val="1f497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335880" y="0"/>
            <a:ext cx="8802000" cy="6858000"/>
            <a:chOff x="-335880" y="0"/>
            <a:chExt cx="8802000" cy="6858000"/>
          </a:xfrm>
        </p:grpSpPr>
        <p:sp>
          <p:nvSpPr>
            <p:cNvPr id="72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8:32:00Z</dcterms:created>
  <dc:creator/>
  <dc:description/>
  <dc:language>en-US</dc:language>
  <cp:lastModifiedBy>YlmF</cp:lastModifiedBy>
  <dcterms:modified xsi:type="dcterms:W3CDTF">2015-01-09T02:54:2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