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79120" y="137160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9120" y="395856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52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1120" y="1371600"/>
            <a:ext cx="252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65040" y="1371600"/>
            <a:ext cx="252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52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1120" y="3958560"/>
            <a:ext cx="252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65040" y="3958560"/>
            <a:ext cx="252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83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79120" y="1371600"/>
            <a:ext cx="383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905120" y="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79120" y="1371600"/>
            <a:ext cx="383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83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79120" y="137160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479120" y="395856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479120" y="137160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79120" y="137160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479120" y="395856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52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11120" y="1371600"/>
            <a:ext cx="252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65040" y="1371600"/>
            <a:ext cx="252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52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11120" y="3958560"/>
            <a:ext cx="252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65040" y="3958560"/>
            <a:ext cx="252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83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79120" y="1371600"/>
            <a:ext cx="383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5120" y="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9120" y="1371600"/>
            <a:ext cx="383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83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9120" y="137160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79120" y="395856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79120" y="1371600"/>
            <a:ext cx="383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48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0" y="838080"/>
            <a:ext cx="9144000" cy="75960"/>
            <a:chOff x="0" y="838080"/>
            <a:chExt cx="9144000" cy="7596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0" y="895320"/>
              <a:ext cx="9144000" cy="1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4"/>
            <a:stretch/>
          </p:blipFill>
          <p:spPr>
            <a:xfrm>
              <a:off x="0" y="838080"/>
              <a:ext cx="9144000" cy="57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76520" cy="12574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"/>
          <p:cNvSpPr/>
          <p:nvPr/>
        </p:nvSpPr>
        <p:spPr>
          <a:xfrm>
            <a:off x="4572000" y="6561000"/>
            <a:ext cx="4572000" cy="297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241720"/>
            <a:ext cx="9144000" cy="7920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114800"/>
            <a:ext cx="9144000" cy="1619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924280"/>
            <a:ext cx="9144000" cy="111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4038480"/>
            <a:ext cx="9144000" cy="110880"/>
            <a:chOff x="0" y="4038480"/>
            <a:chExt cx="9144000" cy="11088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4122000"/>
              <a:ext cx="9144000" cy="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0" y="4038480"/>
              <a:ext cx="9144000" cy="8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"/>
          <p:cNvGrpSpPr/>
          <p:nvPr/>
        </p:nvGrpSpPr>
        <p:grpSpPr>
          <a:xfrm>
            <a:off x="0" y="2819520"/>
            <a:ext cx="9144000" cy="110880"/>
            <a:chOff x="0" y="2819520"/>
            <a:chExt cx="9144000" cy="110880"/>
          </a:xfrm>
        </p:grpSpPr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0" y="2903040"/>
              <a:ext cx="9144000" cy="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5"/>
            <a:stretch/>
          </p:blipFill>
          <p:spPr>
            <a:xfrm>
              <a:off x="0" y="2819520"/>
              <a:ext cx="9144000" cy="8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1042920" y="0"/>
            <a:ext cx="504720" cy="6858000"/>
            <a:chOff x="1042920" y="0"/>
            <a:chExt cx="504720" cy="6858000"/>
          </a:xfrm>
        </p:grpSpPr>
        <p:grpSp>
          <p:nvGrpSpPr>
            <p:cNvPr id="55" name=""/>
            <p:cNvGrpSpPr/>
            <p:nvPr/>
          </p:nvGrpSpPr>
          <p:grpSpPr>
            <a:xfrm>
              <a:off x="1463400" y="0"/>
              <a:ext cx="84240" cy="6858000"/>
              <a:chOff x="1463400" y="0"/>
              <a:chExt cx="84240" cy="6858000"/>
            </a:xfrm>
          </p:grpSpPr>
          <p:pic>
            <p:nvPicPr>
              <p:cNvPr id="56" name="" descr=""/>
              <p:cNvPicPr/>
              <p:nvPr/>
            </p:nvPicPr>
            <p:blipFill>
              <a:blip r:embed="rId6"/>
              <a:stretch/>
            </p:blipFill>
            <p:spPr>
              <a:xfrm rot="16200000">
                <a:off x="-1891440" y="3418560"/>
                <a:ext cx="6858000" cy="2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-1933560" y="3397320"/>
                <a:ext cx="6858000" cy="6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" name=""/>
            <p:cNvGrpSpPr/>
            <p:nvPr/>
          </p:nvGrpSpPr>
          <p:grpSpPr>
            <a:xfrm>
              <a:off x="1253160" y="0"/>
              <a:ext cx="84240" cy="6858000"/>
              <a:chOff x="1253160" y="0"/>
              <a:chExt cx="84240" cy="6858000"/>
            </a:xfrm>
          </p:grpSpPr>
          <p:pic>
            <p:nvPicPr>
              <p:cNvPr id="59" name="" descr="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2101680" y="3418560"/>
                <a:ext cx="6858000" cy="2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" descr=""/>
              <p:cNvPicPr/>
              <p:nvPr/>
            </p:nvPicPr>
            <p:blipFill>
              <a:blip r:embed="rId9"/>
              <a:stretch/>
            </p:blipFill>
            <p:spPr>
              <a:xfrm rot="16200000">
                <a:off x="-2143800" y="3397320"/>
                <a:ext cx="6858000" cy="6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" name=""/>
            <p:cNvGrpSpPr/>
            <p:nvPr/>
          </p:nvGrpSpPr>
          <p:grpSpPr>
            <a:xfrm>
              <a:off x="1042920" y="0"/>
              <a:ext cx="84240" cy="6858000"/>
              <a:chOff x="1042920" y="0"/>
              <a:chExt cx="84240" cy="6858000"/>
            </a:xfrm>
          </p:grpSpPr>
          <p:pic>
            <p:nvPicPr>
              <p:cNvPr id="62" name="" descr=""/>
              <p:cNvPicPr/>
              <p:nvPr/>
            </p:nvPicPr>
            <p:blipFill>
              <a:blip r:embed="rId10"/>
              <a:stretch/>
            </p:blipFill>
            <p:spPr>
              <a:xfrm rot="16200000">
                <a:off x="-2311920" y="3418560"/>
                <a:ext cx="6858000" cy="2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" descr=""/>
              <p:cNvPicPr/>
              <p:nvPr/>
            </p:nvPicPr>
            <p:blipFill>
              <a:blip r:embed="rId11"/>
              <a:stretch/>
            </p:blipFill>
            <p:spPr>
              <a:xfrm rot="16200000">
                <a:off x="-2354040" y="3397320"/>
                <a:ext cx="6858000" cy="6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4" name="" descr=""/>
          <p:cNvPicPr/>
          <p:nvPr/>
        </p:nvPicPr>
        <p:blipFill>
          <a:blip r:embed="rId12"/>
          <a:stretch/>
        </p:blipFill>
        <p:spPr>
          <a:xfrm>
            <a:off x="-147600" y="2060640"/>
            <a:ext cx="4359240" cy="32734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19360" y="28951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19360" y="28951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Presentation</a:t>
            </a:r>
            <a:br>
              <a:rPr sz="3200"/>
            </a:br>
            <a:r>
              <a:rPr b="1" lang="en-US" sz="3200" spc="-1" strike="noStrike">
                <a:solidFill>
                  <a:srgbClr val="0099ff"/>
                </a:solidFill>
                <a:latin typeface="Verdana"/>
                <a:ea typeface="Gulim"/>
              </a:rPr>
              <a:t>Templa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0" y="4343400"/>
            <a:ext cx="4572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Your company slogan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8028000" y="152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30840" y="616572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免费</a:t>
            </a:r>
            <a:r>
              <a:rPr b="1" lang="en-US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en-US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63640" y="5022720"/>
            <a:ext cx="7086600" cy="530280"/>
          </a:xfrm>
          <a:prstGeom prst="hexagon">
            <a:avLst>
              <a:gd name="adj" fmla="val 21531"/>
              <a:gd name="vf" fmla="val 115470"/>
            </a:avLst>
          </a:prstGeom>
          <a:gradFill rotWithShape="0">
            <a:gsLst>
              <a:gs pos="0">
                <a:srgbClr val="000000"/>
              </a:gs>
              <a:gs pos="50000">
                <a:srgbClr val="0099ff"/>
              </a:gs>
              <a:gs pos="100000">
                <a:srgbClr val="000000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63640" y="3968640"/>
            <a:ext cx="7086600" cy="530280"/>
          </a:xfrm>
          <a:prstGeom prst="hexagon">
            <a:avLst>
              <a:gd name="adj" fmla="val 21531"/>
              <a:gd name="vf" fmla="val 115470"/>
            </a:avLst>
          </a:prstGeom>
          <a:gradFill rotWithShape="0">
            <a:gsLst>
              <a:gs pos="0">
                <a:srgbClr val="000000"/>
              </a:gs>
              <a:gs pos="50000">
                <a:srgbClr val="0099ff"/>
              </a:gs>
              <a:gs pos="100000">
                <a:srgbClr val="000000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63640" y="2898720"/>
            <a:ext cx="7086600" cy="530280"/>
          </a:xfrm>
          <a:prstGeom prst="hexagon">
            <a:avLst>
              <a:gd name="adj" fmla="val 21531"/>
              <a:gd name="vf" fmla="val 115470"/>
            </a:avLst>
          </a:prstGeom>
          <a:gradFill rotWithShape="0">
            <a:gsLst>
              <a:gs pos="0">
                <a:srgbClr val="000000"/>
              </a:gs>
              <a:gs pos="50000">
                <a:srgbClr val="0099ff"/>
              </a:gs>
              <a:gs pos="100000">
                <a:srgbClr val="000000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63640" y="1857240"/>
            <a:ext cx="7086600" cy="530280"/>
          </a:xfrm>
          <a:prstGeom prst="hexagon">
            <a:avLst>
              <a:gd name="adj" fmla="val 21531"/>
              <a:gd name="vf" fmla="val 115470"/>
            </a:avLst>
          </a:prstGeom>
          <a:gradFill rotWithShape="0">
            <a:gsLst>
              <a:gs pos="0">
                <a:srgbClr val="000000"/>
              </a:gs>
              <a:gs pos="50000">
                <a:srgbClr val="0099ff"/>
              </a:gs>
              <a:gs pos="100000">
                <a:srgbClr val="000000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 of 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028880" y="2898720"/>
            <a:ext cx="7086600" cy="530280"/>
          </a:xfrm>
          <a:prstGeom prst="hexagon">
            <a:avLst>
              <a:gd name="adj" fmla="val 21531"/>
              <a:gd name="vf" fmla="val 115470"/>
            </a:avLst>
          </a:prstGeom>
          <a:gradFill rotWithShape="0">
            <a:gsLst>
              <a:gs pos="0">
                <a:srgbClr val="0073c0"/>
              </a:gs>
              <a:gs pos="50000">
                <a:srgbClr val="0099ff"/>
              </a:gs>
              <a:gs pos="100000">
                <a:srgbClr val="0073c0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HY견고딕"/>
              </a:rPr>
              <a:t>2. Main su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28880" y="3967200"/>
            <a:ext cx="7086600" cy="530280"/>
          </a:xfrm>
          <a:prstGeom prst="hexagon">
            <a:avLst>
              <a:gd name="adj" fmla="val 21531"/>
              <a:gd name="vf" fmla="val 115470"/>
            </a:avLst>
          </a:prstGeom>
          <a:gradFill rotWithShape="0">
            <a:gsLst>
              <a:gs pos="0">
                <a:srgbClr val="0073c0"/>
              </a:gs>
              <a:gs pos="50000">
                <a:srgbClr val="0099ff"/>
              </a:gs>
              <a:gs pos="100000">
                <a:srgbClr val="0073c0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HY견고딕"/>
              </a:rPr>
              <a:t>3.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28880" y="5022720"/>
            <a:ext cx="7086600" cy="530280"/>
          </a:xfrm>
          <a:prstGeom prst="hexagon">
            <a:avLst>
              <a:gd name="adj" fmla="val 21531"/>
              <a:gd name="vf" fmla="val 115470"/>
            </a:avLst>
          </a:prstGeom>
          <a:gradFill rotWithShape="0">
            <a:gsLst>
              <a:gs pos="0">
                <a:srgbClr val="0073c0"/>
              </a:gs>
              <a:gs pos="50000">
                <a:srgbClr val="0099ff"/>
              </a:gs>
              <a:gs pos="100000">
                <a:srgbClr val="0073c0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HY견고딕"/>
              </a:rPr>
              <a:t>4. 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28880" y="1857240"/>
            <a:ext cx="7086600" cy="530280"/>
          </a:xfrm>
          <a:prstGeom prst="hexagon">
            <a:avLst>
              <a:gd name="adj" fmla="val 21531"/>
              <a:gd name="vf" fmla="val 115470"/>
            </a:avLst>
          </a:prstGeom>
          <a:gradFill rotWithShape="0">
            <a:gsLst>
              <a:gs pos="0">
                <a:srgbClr val="0073c0"/>
              </a:gs>
              <a:gs pos="50000">
                <a:srgbClr val="0099ff"/>
              </a:gs>
              <a:gs pos="100000">
                <a:srgbClr val="0073c0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HY견고딕"/>
              </a:rPr>
              <a:t>1.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2916360" y="3429000"/>
            <a:ext cx="576000" cy="824040"/>
          </a:xfrm>
          <a:prstGeom prst="rightArrow">
            <a:avLst>
              <a:gd name="adj1" fmla="val 66093"/>
              <a:gd name="adj2" fmla="val 26722"/>
            </a:avLst>
          </a:pr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2360" y="1773360"/>
            <a:ext cx="2270160" cy="417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9767" y="0"/>
                </a:lnTo>
                <a:lnTo>
                  <a:pt x="21600" y="10800"/>
                </a:lnTo>
                <a:lnTo>
                  <a:pt x="19767" y="21600"/>
                </a:lnTo>
                <a:lnTo>
                  <a:pt x="0" y="21600"/>
                </a:lnTo>
                <a:lnTo>
                  <a:pt x="1833" y="10800"/>
                </a:lnTo>
                <a:close/>
              </a:path>
            </a:pathLst>
          </a:custGeom>
          <a:gradFill rotWithShape="0">
            <a:gsLst>
              <a:gs pos="0">
                <a:srgbClr val="005c9a"/>
              </a:gs>
              <a:gs pos="50000">
                <a:srgbClr val="0099ff"/>
              </a:gs>
              <a:gs pos="100000">
                <a:srgbClr val="005c9a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exampl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36920" y="1773360"/>
            <a:ext cx="2270160" cy="417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9767" y="0"/>
                </a:lnTo>
                <a:lnTo>
                  <a:pt x="21600" y="10800"/>
                </a:lnTo>
                <a:lnTo>
                  <a:pt x="19767" y="21600"/>
                </a:lnTo>
                <a:lnTo>
                  <a:pt x="0" y="21600"/>
                </a:lnTo>
                <a:lnTo>
                  <a:pt x="1833" y="10800"/>
                </a:lnTo>
                <a:close/>
              </a:path>
            </a:pathLst>
          </a:custGeom>
          <a:gradFill rotWithShape="0">
            <a:gsLst>
              <a:gs pos="0">
                <a:srgbClr val="005c9a"/>
              </a:gs>
              <a:gs pos="50000">
                <a:srgbClr val="0099ff"/>
              </a:gs>
              <a:gs pos="100000">
                <a:srgbClr val="005c9a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exampl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53280" y="1773360"/>
            <a:ext cx="2270160" cy="417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9767" y="0"/>
                </a:lnTo>
                <a:lnTo>
                  <a:pt x="21600" y="10800"/>
                </a:lnTo>
                <a:lnTo>
                  <a:pt x="19767" y="21600"/>
                </a:lnTo>
                <a:lnTo>
                  <a:pt x="0" y="21600"/>
                </a:lnTo>
                <a:lnTo>
                  <a:pt x="1833" y="10800"/>
                </a:lnTo>
                <a:close/>
              </a:path>
            </a:pathLst>
          </a:custGeom>
          <a:gradFill rotWithShape="0">
            <a:gsLst>
              <a:gs pos="0">
                <a:srgbClr val="005c9a"/>
              </a:gs>
              <a:gs pos="50000">
                <a:srgbClr val="0099ff"/>
              </a:gs>
              <a:gs pos="100000">
                <a:srgbClr val="005c9a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exampl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32360" y="3429000"/>
            <a:ext cx="576360" cy="824040"/>
          </a:xfrm>
          <a:prstGeom prst="rightArrow">
            <a:avLst>
              <a:gd name="adj1" fmla="val 66093"/>
              <a:gd name="adj2" fmla="val 26722"/>
            </a:avLst>
          </a:pr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0320" y="6060960"/>
            <a:ext cx="1758960" cy="176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713040" y="6060960"/>
            <a:ext cx="1758960" cy="176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523200" y="6060960"/>
            <a:ext cx="1749240" cy="176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H="1">
            <a:off x="465840" y="1773360"/>
            <a:ext cx="2235240" cy="468360"/>
          </a:xfrm>
          <a:prstGeom prst="parallelogram">
            <a:avLst>
              <a:gd name="adj" fmla="val 12395"/>
            </a:avLst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380760" y="1736640"/>
            <a:ext cx="2235240" cy="468360"/>
          </a:xfrm>
          <a:prstGeom prst="parallelogram">
            <a:avLst>
              <a:gd name="adj" fmla="val 12395"/>
            </a:avLst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296760" y="1736640"/>
            <a:ext cx="2235240" cy="468360"/>
          </a:xfrm>
          <a:prstGeom prst="parallelogram">
            <a:avLst>
              <a:gd name="adj" fmla="val 12395"/>
            </a:avLst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30840" y="609300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免费</a:t>
            </a:r>
            <a:r>
              <a:rPr b="1" lang="en-US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en-US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743280" y="4869000"/>
            <a:ext cx="2160720" cy="684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411280" y="2368440"/>
            <a:ext cx="1513080" cy="86364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519280" y="4384440"/>
            <a:ext cx="1405080" cy="71892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327640" y="2440080"/>
            <a:ext cx="1440000" cy="79200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543640" y="4492440"/>
            <a:ext cx="1116000" cy="61092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62560" y="4518000"/>
            <a:ext cx="2486160" cy="1708200"/>
          </a:xfrm>
          <a:prstGeom prst="hexagon">
            <a:avLst>
              <a:gd name="adj" fmla="val 36386"/>
              <a:gd name="vf" fmla="val 115470"/>
            </a:avLst>
          </a:prstGeom>
          <a:gradFill rotWithShape="0">
            <a:gsLst>
              <a:gs pos="0">
                <a:srgbClr val="0060a1"/>
              </a:gs>
              <a:gs pos="50000">
                <a:srgbClr val="0099ff"/>
              </a:gs>
              <a:gs pos="100000">
                <a:srgbClr val="0060a1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518000"/>
            <a:ext cx="2486160" cy="1708200"/>
          </a:xfrm>
          <a:prstGeom prst="hexagon">
            <a:avLst>
              <a:gd name="adj" fmla="val 36386"/>
              <a:gd name="vf" fmla="val 115470"/>
            </a:avLst>
          </a:prstGeom>
          <a:gradFill rotWithShape="0">
            <a:gsLst>
              <a:gs pos="0">
                <a:srgbClr val="0060a1"/>
              </a:gs>
              <a:gs pos="50000">
                <a:srgbClr val="0099ff"/>
              </a:gs>
              <a:gs pos="100000">
                <a:srgbClr val="0060a1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305000"/>
            <a:ext cx="2486160" cy="1708200"/>
          </a:xfrm>
          <a:prstGeom prst="hexagon">
            <a:avLst>
              <a:gd name="adj" fmla="val 36386"/>
              <a:gd name="vf" fmla="val 115470"/>
            </a:avLst>
          </a:prstGeom>
          <a:gradFill rotWithShape="0">
            <a:gsLst>
              <a:gs pos="0">
                <a:srgbClr val="0060a1"/>
              </a:gs>
              <a:gs pos="50000">
                <a:srgbClr val="0099ff"/>
              </a:gs>
              <a:gs pos="100000">
                <a:srgbClr val="0060a1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62560" y="1305000"/>
            <a:ext cx="2486160" cy="1708200"/>
          </a:xfrm>
          <a:prstGeom prst="hexagon">
            <a:avLst>
              <a:gd name="adj" fmla="val 36386"/>
              <a:gd name="vf" fmla="val 115470"/>
            </a:avLst>
          </a:prstGeom>
          <a:gradFill rotWithShape="0">
            <a:gsLst>
              <a:gs pos="0">
                <a:srgbClr val="0060a1"/>
              </a:gs>
              <a:gs pos="50000">
                <a:srgbClr val="0099ff"/>
              </a:gs>
              <a:gs pos="100000">
                <a:srgbClr val="0060a1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0" y="2960640"/>
            <a:ext cx="2664000" cy="2305080"/>
          </a:xfrm>
          <a:prstGeom prst="hexagon">
            <a:avLst>
              <a:gd name="adj" fmla="val 28893"/>
              <a:gd name="vf" fmla="val 115470"/>
            </a:avLst>
          </a:prstGeom>
          <a:gradFill rotWithShape="0">
            <a:gsLst>
              <a:gs pos="0">
                <a:srgbClr val="002e4c"/>
              </a:gs>
              <a:gs pos="100000">
                <a:srgbClr val="0099ff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HY견고딕"/>
              </a:rPr>
              <a:t>Sub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112760" y="6310440"/>
            <a:ext cx="1120680" cy="150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112760" y="3141720"/>
            <a:ext cx="1120680" cy="150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983280" y="3141720"/>
            <a:ext cx="1117800" cy="150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981840" y="6310440"/>
            <a:ext cx="1120680" cy="1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03280" y="4365720"/>
            <a:ext cx="1103400" cy="179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14600" y="1592280"/>
            <a:ext cx="2057400" cy="1779480"/>
          </a:xfrm>
          <a:prstGeom prst="hexagon">
            <a:avLst>
              <a:gd name="adj" fmla="val 28905"/>
              <a:gd name="vf" fmla="val 115470"/>
            </a:avLst>
          </a:prstGeom>
          <a:gradFill rotWithShape="0">
            <a:gsLst>
              <a:gs pos="0">
                <a:srgbClr val="005c9a"/>
              </a:gs>
              <a:gs pos="50000">
                <a:srgbClr val="0099ff"/>
              </a:gs>
              <a:gs pos="100000">
                <a:srgbClr val="005c9a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3486240"/>
            <a:ext cx="2057400" cy="1779480"/>
          </a:xfrm>
          <a:prstGeom prst="hexagon">
            <a:avLst>
              <a:gd name="adj" fmla="val 28905"/>
              <a:gd name="vf" fmla="val 115470"/>
            </a:avLst>
          </a:prstGeom>
          <a:gradFill rotWithShape="0">
            <a:gsLst>
              <a:gs pos="0">
                <a:srgbClr val="005c9a"/>
              </a:gs>
              <a:gs pos="50000">
                <a:srgbClr val="0099ff"/>
              </a:gs>
              <a:gs pos="100000">
                <a:srgbClr val="005c9a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538360"/>
            <a:ext cx="2057400" cy="1779480"/>
          </a:xfrm>
          <a:prstGeom prst="hexagon">
            <a:avLst>
              <a:gd name="adj" fmla="val 28905"/>
              <a:gd name="vf" fmla="val 115470"/>
            </a:avLst>
          </a:prstGeom>
          <a:gradFill rotWithShape="0">
            <a:gsLst>
              <a:gs pos="0">
                <a:srgbClr val="005c9a"/>
              </a:gs>
              <a:gs pos="50000">
                <a:srgbClr val="0099ff"/>
              </a:gs>
              <a:gs pos="100000">
                <a:srgbClr val="005c9a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4437000"/>
            <a:ext cx="2057400" cy="1779480"/>
          </a:xfrm>
          <a:prstGeom prst="hexagon">
            <a:avLst>
              <a:gd name="adj" fmla="val 28905"/>
              <a:gd name="vf" fmla="val 115470"/>
            </a:avLst>
          </a:prstGeom>
          <a:gradFill rotWithShape="0">
            <a:gsLst>
              <a:gs pos="0">
                <a:srgbClr val="005c9a"/>
              </a:gs>
              <a:gs pos="50000">
                <a:srgbClr val="0099ff"/>
              </a:gs>
              <a:gs pos="100000">
                <a:srgbClr val="005c9a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3500280"/>
            <a:ext cx="2057400" cy="1779840"/>
          </a:xfrm>
          <a:prstGeom prst="hexagon">
            <a:avLst>
              <a:gd name="adj" fmla="val 28899"/>
              <a:gd name="vf" fmla="val 115470"/>
            </a:avLst>
          </a:prstGeom>
          <a:gradFill rotWithShape="0">
            <a:gsLst>
              <a:gs pos="0">
                <a:srgbClr val="005c9a"/>
              </a:gs>
              <a:gs pos="50000">
                <a:srgbClr val="0099ff"/>
              </a:gs>
              <a:gs pos="100000">
                <a:srgbClr val="005c9a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024360" y="5302080"/>
            <a:ext cx="1103040" cy="179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643280" y="6272280"/>
            <a:ext cx="1103400" cy="179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6264360" y="5337000"/>
            <a:ext cx="1103400" cy="1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600200" y="1828800"/>
            <a:ext cx="6019920" cy="4038480"/>
          </a:xfrm>
          <a:prstGeom prst="ellipse">
            <a:avLst/>
          </a:prstGeom>
          <a:noFill/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264360" y="3645000"/>
            <a:ext cx="1008000" cy="3636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12000" y="2924280"/>
            <a:ext cx="1790640" cy="1482480"/>
          </a:xfrm>
          <a:prstGeom prst="hexagon">
            <a:avLst>
              <a:gd name="adj" fmla="val 30197"/>
              <a:gd name="vf" fmla="val 115470"/>
            </a:avLst>
          </a:prstGeom>
          <a:gradFill rotWithShape="0">
            <a:gsLst>
              <a:gs pos="0">
                <a:srgbClr val="005c9a"/>
              </a:gs>
              <a:gs pos="50000">
                <a:srgbClr val="0099ff"/>
              </a:gs>
              <a:gs pos="100000">
                <a:srgbClr val="005c9a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79640" y="2168640"/>
            <a:ext cx="1463760" cy="65088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40000" y="1557360"/>
            <a:ext cx="1378080" cy="1143000"/>
          </a:xfrm>
          <a:prstGeom prst="hexagon">
            <a:avLst>
              <a:gd name="adj" fmla="val 30142"/>
              <a:gd name="vf" fmla="val 115470"/>
            </a:avLst>
          </a:prstGeom>
          <a:gradFill rotWithShape="0">
            <a:gsLst>
              <a:gs pos="0">
                <a:srgbClr val="005c9a"/>
              </a:gs>
              <a:gs pos="50000">
                <a:srgbClr val="0099ff"/>
              </a:gs>
              <a:gs pos="100000">
                <a:srgbClr val="005c9a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411280" y="3809520"/>
            <a:ext cx="1703520" cy="127476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7640" y="4257720"/>
            <a:ext cx="2419560" cy="2009880"/>
          </a:xfrm>
          <a:prstGeom prst="hexagon">
            <a:avLst>
              <a:gd name="adj" fmla="val 30096"/>
              <a:gd name="vf" fmla="val 115470"/>
            </a:avLst>
          </a:prstGeom>
          <a:gradFill rotWithShape="0">
            <a:gsLst>
              <a:gs pos="0">
                <a:srgbClr val="005c9a"/>
              </a:gs>
              <a:gs pos="50000">
                <a:srgbClr val="0099ff"/>
              </a:gs>
              <a:gs pos="100000">
                <a:srgbClr val="005c9a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124080" y="2362320"/>
            <a:ext cx="3311640" cy="2485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43000" y="263700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exampl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91280" y="357336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exampl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65120" y="3092400"/>
            <a:ext cx="111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example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332000" y="6381720"/>
            <a:ext cx="1079280" cy="144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7458120" y="4508640"/>
            <a:ext cx="714240" cy="107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2664000" y="2781360"/>
            <a:ext cx="792000" cy="10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630840" y="609300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 rot="1909200">
            <a:off x="3123720" y="2638080"/>
            <a:ext cx="2895840" cy="2222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111280" y="1522440"/>
            <a:ext cx="1368360" cy="122400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9202400">
            <a:off x="3662640" y="306936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exampl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376600">
            <a:off x="3697920" y="393336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exampl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8900600">
            <a:off x="4851720" y="400644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example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2169000">
            <a:off x="4705560" y="306972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exampl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27280" y="3683160"/>
            <a:ext cx="1871640" cy="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616360" y="4798800"/>
            <a:ext cx="1439640" cy="125892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879640" y="4906800"/>
            <a:ext cx="1332000" cy="115128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079640" y="3610080"/>
            <a:ext cx="1800000" cy="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592000" y="1341000"/>
            <a:ext cx="1476360" cy="129852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81400" y="148104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33520" y="242244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33520" y="4510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tex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02240" y="5626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text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73880" y="436572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text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38960" y="2494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tex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86960" y="6165720"/>
            <a:ext cx="57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之家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en-US" sz="16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1" lang="zh-CN" sz="16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1" lang="en-US" sz="16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1" lang="en-US" sz="16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zh-CN" sz="16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1" lang="en-US" sz="16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05:44:25Z</dcterms:created>
  <dc:creator>sinbin</dc:creator>
  <dc:description/>
  <dc:language>en-US</dc:language>
  <cp:lastModifiedBy>sinbin</cp:lastModifiedBy>
  <dcterms:modified xsi:type="dcterms:W3CDTF">2015-01-07T09:30:09Z</dcterms:modified>
  <cp:revision>1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