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652-B473-40EE-8B3E-BF32308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9B4-FF5E-4774-944D-4F45ADD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2BF-AE45-4124-B9FD-EF39C5DD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89F-17DA-4E0B-A437-B7337B66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D7A-0B7E-4A9D-9191-6F1AFAF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B9D-6261-4680-B4E4-0FB7398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78E-42D0-4033-BB1E-616DE66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4D8-B64F-42E1-87CD-6604D1F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DD1-B1BD-49CD-A78A-06416D4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CA8-24A3-44A1-8201-05B96B0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AB7-5040-4914-A27B-8DD114B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4E5-2758-45E6-907B-0E0CB57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F620-B6A7-43EE-958C-514255BB45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916-FE77-4723-956B-9ECB56E077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1803240"/>
            <a:ext cx="9144000" cy="22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4803" t="41336" r="1448" b="25532"/>
          <a:stretch/>
        </p:blipFill>
        <p:spPr>
          <a:xfrm>
            <a:off x="0" y="1849320"/>
            <a:ext cx="9144000" cy="2156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160600" y="39639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蓝色商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66080" y="53071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0" y="2022480"/>
            <a:ext cx="9144000" cy="1655640"/>
          </a:xfrm>
          <a:prstGeom prst="rect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755640" y="2022480"/>
            <a:ext cx="3529080" cy="1655640"/>
          </a:xfrm>
          <a:prstGeom prst="rect">
            <a:avLst/>
          </a:prstGeom>
          <a:solidFill>
            <a:srgbClr val="026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0" r="43031" b="3929"/>
          <a:stretch/>
        </p:blipFill>
        <p:spPr>
          <a:xfrm>
            <a:off x="1366920" y="1096920"/>
            <a:ext cx="2305080" cy="25812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0" y="3614760"/>
            <a:ext cx="9144000" cy="22212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32400" y="20527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aul St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 rot="21043800">
            <a:off x="1488240" y="3246120"/>
            <a:ext cx="31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unstler Script"/>
              </a:rPr>
              <a:t>Paul St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635280" y="2712960"/>
            <a:ext cx="466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was the ranked 201 in the United States in 2009, according to the Social Security Administration.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reached its peak popularity in 1951 but remained very common through the mid 1990s, when popularity started to decrease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2748600" y="36003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c83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725200" y="2427120"/>
            <a:ext cx="38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nshine Company.  C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" descr=""/>
          <p:cNvPicPr/>
          <p:nvPr/>
        </p:nvPicPr>
        <p:blipFill>
          <a:blip r:embed="rId1"/>
          <a:stretch/>
        </p:blipFill>
        <p:spPr>
          <a:xfrm>
            <a:off x="-2090880" y="6386400"/>
            <a:ext cx="7439040" cy="4657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4308120" y="249696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935360" y="223056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2748600" y="41799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rcRect l="20055" t="0" r="34033" b="0"/>
          <a:stretch/>
        </p:blipFill>
        <p:spPr>
          <a:xfrm>
            <a:off x="3925800" y="1900080"/>
            <a:ext cx="1438200" cy="2084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8"/>
          <p:cNvSpPr/>
          <p:nvPr/>
        </p:nvSpPr>
        <p:spPr>
          <a:xfrm>
            <a:off x="1930320" y="257004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c8dd"/>
                </a:solidFill>
                <a:latin typeface="Calibri"/>
                <a:ea typeface="Calibri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329720" y="277344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8dd"/>
                </a:solidFill>
                <a:latin typeface="Calibri"/>
                <a:ea typeface="Calibri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1020600" y="1598760"/>
            <a:ext cx="2543400" cy="24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rcRect l="0" t="0" r="0" b="54436"/>
          <a:stretch/>
        </p:blipFill>
        <p:spPr>
          <a:xfrm>
            <a:off x="5878440" y="24703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4"/>
          <p:cNvSpPr/>
          <p:nvPr/>
        </p:nvSpPr>
        <p:spPr>
          <a:xfrm>
            <a:off x="6133680" y="286848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5"/>
          <p:cNvSpPr/>
          <p:nvPr/>
        </p:nvSpPr>
        <p:spPr>
          <a:xfrm>
            <a:off x="6155280" y="3143160"/>
            <a:ext cx="271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c8dd"/>
                </a:solidFill>
                <a:latin typeface="Calibri"/>
                <a:ea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1417680"/>
            <a:ext cx="9144000" cy="21607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342040" y="2665440"/>
            <a:ext cx="28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2748600" y="41799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rcRect l="20060" t="0" r="34031" b="0"/>
          <a:stretch/>
        </p:blipFill>
        <p:spPr>
          <a:xfrm>
            <a:off x="5234040" y="2230560"/>
            <a:ext cx="1209600" cy="1753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5360760" y="29401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c8dd"/>
                </a:solidFill>
                <a:latin typeface="Calibri"/>
                <a:ea typeface="Calibri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rcRect l="0" t="0" r="0" b="54436"/>
          <a:stretch/>
        </p:blipFill>
        <p:spPr>
          <a:xfrm>
            <a:off x="6599160" y="24829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4"/>
          <p:cNvSpPr/>
          <p:nvPr/>
        </p:nvSpPr>
        <p:spPr>
          <a:xfrm>
            <a:off x="6853680" y="286848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6875280" y="3143160"/>
            <a:ext cx="271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c8dd"/>
                </a:solidFill>
                <a:latin typeface="Calibri"/>
                <a:ea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250920" y="1138320"/>
            <a:ext cx="3025800" cy="2892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2083680" y="16336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2987640" y="206532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rector is head of chartered company's colonial administration in a terr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3DC-0F34-4E91-8B92-3CDE1EA0F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-808920" y="19368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"/>
          <p:cNvSpPr/>
          <p:nvPr/>
        </p:nvSpPr>
        <p:spPr>
          <a:xfrm>
            <a:off x="826920" y="770040"/>
            <a:ext cx="1692360" cy="16905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6"/>
          <p:cNvSpPr/>
          <p:nvPr/>
        </p:nvSpPr>
        <p:spPr>
          <a:xfrm>
            <a:off x="2200320" y="127620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7"/>
          <p:cNvSpPr/>
          <p:nvPr/>
        </p:nvSpPr>
        <p:spPr>
          <a:xfrm>
            <a:off x="1623960" y="1925640"/>
            <a:ext cx="787320" cy="78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5160" y="112860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62280" y="2044800"/>
            <a:ext cx="338040" cy="380880"/>
            <a:chOff x="1862280" y="2044800"/>
            <a:chExt cx="338040" cy="380880"/>
          </a:xfrm>
        </p:grpSpPr>
        <p:sp>
          <p:nvSpPr>
            <p:cNvPr id="97" name="圆角矩形 9"/>
            <p:cNvSpPr/>
            <p:nvPr/>
          </p:nvSpPr>
          <p:spPr>
            <a:xfrm>
              <a:off x="1862280" y="204480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同侧圆角矩形 10"/>
            <p:cNvSpPr/>
            <p:nvPr/>
          </p:nvSpPr>
          <p:spPr>
            <a:xfrm>
              <a:off x="1884240" y="2070000"/>
              <a:ext cx="297000" cy="169920"/>
            </a:xfrm>
            <a:custGeom>
              <a:avLst/>
              <a:gdLst>
                <a:gd name="textAreaLeft" fmla="*/ 0 w 297000"/>
                <a:gd name="textAreaRight" fmla="*/ 12600 w 297000"/>
                <a:gd name="textAreaTop" fmla="*/ 0 h 169920"/>
                <a:gd name="textAreaBottom" fmla="*/ 12600 h 169920"/>
              </a:gdLst>
              <a:ahLst/>
              <a:rect l="textAreaLeft" t="textAreaTop" r="textAreaRight" b="textAreaBottom"/>
              <a:pathLst>
                <a:path w="505746" h="288933">
                  <a:moveTo>
                    <a:pt x="0" y="3000"/>
                  </a:moveTo>
                  <a:lnTo>
                    <a:pt x="21600" y="0"/>
                  </a:lnTo>
                </a:path>
                <a:path w="505746" h="288933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1600200" y="237168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78160" y="1430280"/>
            <a:ext cx="431640" cy="274680"/>
            <a:chOff x="2378160" y="1430280"/>
            <a:chExt cx="431640" cy="274680"/>
          </a:xfrm>
        </p:grpSpPr>
        <p:sp>
          <p:nvSpPr>
            <p:cNvPr id="101" name="矩形 14"/>
            <p:cNvSpPr/>
            <p:nvPr/>
          </p:nvSpPr>
          <p:spPr>
            <a:xfrm>
              <a:off x="2378160" y="1430280"/>
              <a:ext cx="431640" cy="2746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15"/>
            <p:cNvSpPr/>
            <p:nvPr/>
          </p:nvSpPr>
          <p:spPr>
            <a:xfrm flipV="1">
              <a:off x="2378160" y="1430280"/>
              <a:ext cx="431640" cy="13824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7"/>
          <p:cNvSpPr/>
          <p:nvPr/>
        </p:nvSpPr>
        <p:spPr>
          <a:xfrm>
            <a:off x="2124000" y="17049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8"/>
          <p:cNvSpPr/>
          <p:nvPr/>
        </p:nvSpPr>
        <p:spPr>
          <a:xfrm>
            <a:off x="3684600" y="1935000"/>
            <a:ext cx="2616120" cy="261648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9"/>
          <p:cNvSpPr/>
          <p:nvPr/>
        </p:nvSpPr>
        <p:spPr>
          <a:xfrm>
            <a:off x="3495600" y="3076560"/>
            <a:ext cx="2084400" cy="208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20"/>
          <p:cNvSpPr/>
          <p:nvPr/>
        </p:nvSpPr>
        <p:spPr>
          <a:xfrm>
            <a:off x="3564000" y="3144960"/>
            <a:ext cx="1949400" cy="1949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14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21"/>
          <p:cNvSpPr/>
          <p:nvPr/>
        </p:nvSpPr>
        <p:spPr>
          <a:xfrm>
            <a:off x="3419640" y="4226040"/>
            <a:ext cx="792000" cy="792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2"/>
          <p:cNvSpPr/>
          <p:nvPr/>
        </p:nvSpPr>
        <p:spPr>
          <a:xfrm>
            <a:off x="4140360" y="4586400"/>
            <a:ext cx="792000" cy="792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3"/>
          <p:cNvSpPr/>
          <p:nvPr/>
        </p:nvSpPr>
        <p:spPr>
          <a:xfrm>
            <a:off x="2519280" y="3110040"/>
            <a:ext cx="612720" cy="610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4"/>
          <p:cNvSpPr/>
          <p:nvPr/>
        </p:nvSpPr>
        <p:spPr>
          <a:xfrm>
            <a:off x="2268360" y="3770280"/>
            <a:ext cx="611280" cy="611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37200" y="1344600"/>
            <a:ext cx="1090440" cy="1092240"/>
            <a:chOff x="5137200" y="1344600"/>
            <a:chExt cx="1090440" cy="1092240"/>
          </a:xfrm>
        </p:grpSpPr>
        <p:sp>
          <p:nvSpPr>
            <p:cNvPr id="112" name="椭圆 25"/>
            <p:cNvSpPr/>
            <p:nvPr/>
          </p:nvSpPr>
          <p:spPr>
            <a:xfrm>
              <a:off x="5137200" y="1344600"/>
              <a:ext cx="1090440" cy="109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6"/>
            <p:cNvSpPr/>
            <p:nvPr/>
          </p:nvSpPr>
          <p:spPr>
            <a:xfrm>
              <a:off x="5172120" y="1379520"/>
              <a:ext cx="1020600" cy="10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1b4d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椭圆 28"/>
          <p:cNvSpPr/>
          <p:nvPr/>
        </p:nvSpPr>
        <p:spPr>
          <a:xfrm>
            <a:off x="4610160" y="1217520"/>
            <a:ext cx="765000" cy="765360"/>
          </a:xfrm>
          <a:prstGeom prst="ellipse">
            <a:avLst/>
          </a:prstGeom>
          <a:solidFill>
            <a:srgbClr val="2467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标注 29"/>
          <p:cNvSpPr/>
          <p:nvPr/>
        </p:nvSpPr>
        <p:spPr>
          <a:xfrm>
            <a:off x="4186080" y="3505320"/>
            <a:ext cx="601920" cy="398520"/>
          </a:xfrm>
          <a:prstGeom prst="wedgeRoundRectCallout">
            <a:avLst>
              <a:gd name="adj1" fmla="val 9638"/>
              <a:gd name="adj2" fmla="val 78175"/>
              <a:gd name="adj3" fmla="val 16667"/>
            </a:avLst>
          </a:prstGeom>
          <a:noFill/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0"/>
          <p:cNvSpPr/>
          <p:nvPr/>
        </p:nvSpPr>
        <p:spPr>
          <a:xfrm>
            <a:off x="3408480" y="3436920"/>
            <a:ext cx="21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 Black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3105000" y="40100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2619720" y="449424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  <a:ea typeface="Calibri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3242160" y="482436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  <a:ea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4"/>
          <p:cNvSpPr/>
          <p:nvPr/>
        </p:nvSpPr>
        <p:spPr>
          <a:xfrm>
            <a:off x="2879640" y="3560760"/>
            <a:ext cx="684360" cy="68436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5"/>
          <p:cNvSpPr/>
          <p:nvPr/>
        </p:nvSpPr>
        <p:spPr>
          <a:xfrm>
            <a:off x="2390760" y="3166920"/>
            <a:ext cx="1204920" cy="120492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51640" y="2496960"/>
            <a:ext cx="1306440" cy="1306800"/>
            <a:chOff x="5651640" y="2496960"/>
            <a:chExt cx="1306440" cy="1306800"/>
          </a:xfrm>
        </p:grpSpPr>
        <p:sp>
          <p:nvSpPr>
            <p:cNvPr id="123" name="椭圆 36"/>
            <p:cNvSpPr/>
            <p:nvPr/>
          </p:nvSpPr>
          <p:spPr>
            <a:xfrm>
              <a:off x="5651640" y="2496960"/>
              <a:ext cx="1306440" cy="130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37"/>
            <p:cNvSpPr/>
            <p:nvPr/>
          </p:nvSpPr>
          <p:spPr>
            <a:xfrm>
              <a:off x="5694480" y="2539800"/>
              <a:ext cx="1222560" cy="122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14c8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9"/>
          <p:cNvSpPr/>
          <p:nvPr/>
        </p:nvSpPr>
        <p:spPr>
          <a:xfrm>
            <a:off x="3047400" y="25858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N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8840" y="1596600"/>
            <a:ext cx="216000" cy="230760"/>
            <a:chOff x="5568840" y="1596600"/>
            <a:chExt cx="216000" cy="230760"/>
          </a:xfrm>
        </p:grpSpPr>
        <p:sp>
          <p:nvSpPr>
            <p:cNvPr id="127" name="等腰三角形 40"/>
            <p:cNvSpPr/>
            <p:nvPr/>
          </p:nvSpPr>
          <p:spPr>
            <a:xfrm flipV="1">
              <a:off x="5568840" y="1596240"/>
              <a:ext cx="216000" cy="96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2"/>
            <p:cNvSpPr/>
            <p:nvPr/>
          </p:nvSpPr>
          <p:spPr>
            <a:xfrm>
              <a:off x="5676840" y="1596960"/>
              <a:ext cx="0" cy="230400"/>
            </a:xfrm>
            <a:prstGeom prst="line">
              <a:avLst/>
            </a:prstGeom>
            <a:ln w="2844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6"/>
          <p:cNvSpPr/>
          <p:nvPr/>
        </p:nvSpPr>
        <p:spPr>
          <a:xfrm>
            <a:off x="4382280" y="1849320"/>
            <a:ext cx="26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Calibri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7"/>
          <p:cNvSpPr/>
          <p:nvPr/>
        </p:nvSpPr>
        <p:spPr>
          <a:xfrm>
            <a:off x="3798360" y="142704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8"/>
          <p:cNvSpPr/>
          <p:nvPr/>
        </p:nvSpPr>
        <p:spPr>
          <a:xfrm>
            <a:off x="6443640" y="2352600"/>
            <a:ext cx="792360" cy="79236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9"/>
          <p:cNvSpPr/>
          <p:nvPr/>
        </p:nvSpPr>
        <p:spPr>
          <a:xfrm>
            <a:off x="6443640" y="3144960"/>
            <a:ext cx="792360" cy="79200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67280" y="2894040"/>
            <a:ext cx="576360" cy="449280"/>
            <a:chOff x="5867280" y="2894040"/>
            <a:chExt cx="576360" cy="449280"/>
          </a:xfrm>
        </p:grpSpPr>
        <p:sp>
          <p:nvSpPr>
            <p:cNvPr id="134" name="圆角矩形 50"/>
            <p:cNvSpPr/>
            <p:nvPr/>
          </p:nvSpPr>
          <p:spPr>
            <a:xfrm>
              <a:off x="5867280" y="2894040"/>
              <a:ext cx="576360" cy="44928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51"/>
            <p:cNvSpPr/>
            <p:nvPr/>
          </p:nvSpPr>
          <p:spPr>
            <a:xfrm>
              <a:off x="5892480" y="2922480"/>
              <a:ext cx="497160" cy="39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52"/>
            <p:cNvSpPr/>
            <p:nvPr/>
          </p:nvSpPr>
          <p:spPr>
            <a:xfrm>
              <a:off x="6389640" y="3098880"/>
              <a:ext cx="37800" cy="396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54"/>
          <p:cNvSpPr/>
          <p:nvPr/>
        </p:nvSpPr>
        <p:spPr>
          <a:xfrm>
            <a:off x="4965120" y="29210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d"/>
                </a:solidFill>
                <a:latin typeface="Calibri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5"/>
          <p:cNvSpPr/>
          <p:nvPr/>
        </p:nvSpPr>
        <p:spPr>
          <a:xfrm>
            <a:off x="5574600" y="3413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d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66080" y="523548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85F-4BB6-41EC-A559-FC33232CF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-808920" y="19368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5"/>
          <p:cNvSpPr/>
          <p:nvPr/>
        </p:nvSpPr>
        <p:spPr>
          <a:xfrm>
            <a:off x="826920" y="696960"/>
            <a:ext cx="1692360" cy="16923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6"/>
          <p:cNvSpPr/>
          <p:nvPr/>
        </p:nvSpPr>
        <p:spPr>
          <a:xfrm>
            <a:off x="2200320" y="120492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7"/>
          <p:cNvSpPr/>
          <p:nvPr/>
        </p:nvSpPr>
        <p:spPr>
          <a:xfrm>
            <a:off x="1623960" y="185256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5160" y="105732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62280" y="1971720"/>
            <a:ext cx="338040" cy="380880"/>
            <a:chOff x="1862280" y="1971720"/>
            <a:chExt cx="338040" cy="380880"/>
          </a:xfrm>
        </p:grpSpPr>
        <p:sp>
          <p:nvSpPr>
            <p:cNvPr id="147" name="圆角矩形 10"/>
            <p:cNvSpPr/>
            <p:nvPr/>
          </p:nvSpPr>
          <p:spPr>
            <a:xfrm>
              <a:off x="1862280" y="197172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同侧圆角矩形 11"/>
            <p:cNvSpPr/>
            <p:nvPr/>
          </p:nvSpPr>
          <p:spPr>
            <a:xfrm>
              <a:off x="1884240" y="1996920"/>
              <a:ext cx="297000" cy="169920"/>
            </a:xfrm>
            <a:custGeom>
              <a:avLst/>
              <a:gdLst>
                <a:gd name="textAreaLeft" fmla="*/ 0 w 297000"/>
                <a:gd name="textAreaRight" fmla="*/ 12600 w 297000"/>
                <a:gd name="textAreaTop" fmla="*/ 0 h 169920"/>
                <a:gd name="textAreaBottom" fmla="*/ 12600 h 169920"/>
              </a:gdLst>
              <a:ahLst/>
              <a:rect l="textAreaLeft" t="textAreaTop" r="textAreaRight" b="textAreaBottom"/>
              <a:pathLst>
                <a:path w="505746" h="288933">
                  <a:moveTo>
                    <a:pt x="0" y="3000"/>
                  </a:moveTo>
                  <a:lnTo>
                    <a:pt x="21600" y="0"/>
                  </a:lnTo>
                </a:path>
                <a:path w="505746" h="288933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1600200" y="230040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78160" y="1357200"/>
            <a:ext cx="431640" cy="276480"/>
            <a:chOff x="2378160" y="1357200"/>
            <a:chExt cx="431640" cy="276480"/>
          </a:xfrm>
        </p:grpSpPr>
        <p:sp>
          <p:nvSpPr>
            <p:cNvPr id="151" name="矩形 14"/>
            <p:cNvSpPr/>
            <p:nvPr/>
          </p:nvSpPr>
          <p:spPr>
            <a:xfrm>
              <a:off x="2378160" y="1357200"/>
              <a:ext cx="431640" cy="2764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等腰三角形 15"/>
            <p:cNvSpPr/>
            <p:nvPr/>
          </p:nvSpPr>
          <p:spPr>
            <a:xfrm flipV="1">
              <a:off x="2378160" y="1357200"/>
              <a:ext cx="431640" cy="13824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6"/>
          <p:cNvSpPr/>
          <p:nvPr/>
        </p:nvSpPr>
        <p:spPr>
          <a:xfrm>
            <a:off x="2124000" y="16336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60680" y="2928960"/>
            <a:ext cx="1333440" cy="1836360"/>
            <a:chOff x="1660680" y="2928960"/>
            <a:chExt cx="1333440" cy="1836360"/>
          </a:xfrm>
        </p:grpSpPr>
        <p:pic>
          <p:nvPicPr>
            <p:cNvPr id="155" name="Picture 4" descr=""/>
            <p:cNvPicPr/>
            <p:nvPr/>
          </p:nvPicPr>
          <p:blipFill>
            <a:blip r:embed="rId1"/>
            <a:stretch/>
          </p:blipFill>
          <p:spPr>
            <a:xfrm>
              <a:off x="1696680" y="2928960"/>
              <a:ext cx="1261440" cy="126036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56" name="同侧圆角矩形 17"/>
            <p:cNvSpPr/>
            <p:nvPr/>
          </p:nvSpPr>
          <p:spPr>
            <a:xfrm flipV="1">
              <a:off x="1660680" y="4116600"/>
              <a:ext cx="1333440" cy="648360"/>
            </a:xfrm>
            <a:custGeom>
              <a:avLst/>
              <a:gdLst>
                <a:gd name="textAreaLeft" fmla="*/ 0 w 1333440"/>
                <a:gd name="textAreaRight" fmla="*/ 21600 w 1333440"/>
                <a:gd name="textAreaTop" fmla="*/ -360 h 648360"/>
                <a:gd name="textAreaBottom" fmla="*/ 21240 h 64836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19480" y="2532240"/>
            <a:ext cx="1332000" cy="2233440"/>
            <a:chOff x="3219480" y="2532240"/>
            <a:chExt cx="1332000" cy="2233440"/>
          </a:xfrm>
        </p:grpSpPr>
        <p:pic>
          <p:nvPicPr>
            <p:cNvPr id="158" name="Picture 6" descr=""/>
            <p:cNvPicPr/>
            <p:nvPr/>
          </p:nvPicPr>
          <p:blipFill>
            <a:blip r:embed="rId2"/>
            <a:srcRect l="3533" t="3006" r="3533" b="14393"/>
            <a:stretch/>
          </p:blipFill>
          <p:spPr>
            <a:xfrm>
              <a:off x="3255480" y="2532240"/>
              <a:ext cx="1260000" cy="158040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59" name="同侧圆角矩形 22"/>
            <p:cNvSpPr/>
            <p:nvPr/>
          </p:nvSpPr>
          <p:spPr>
            <a:xfrm flipV="1">
              <a:off x="3219480" y="4117680"/>
              <a:ext cx="1332000" cy="64800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0 h 648000"/>
                <a:gd name="textAreaBottom" fmla="*/ 21600 h 64800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78280" y="2532240"/>
            <a:ext cx="1332000" cy="2233440"/>
            <a:chOff x="4778280" y="2532240"/>
            <a:chExt cx="1332000" cy="2233440"/>
          </a:xfrm>
        </p:grpSpPr>
        <p:pic>
          <p:nvPicPr>
            <p:cNvPr id="161" name="Picture 6" descr=""/>
            <p:cNvPicPr/>
            <p:nvPr/>
          </p:nvPicPr>
          <p:blipFill>
            <a:blip r:embed="rId3"/>
            <a:srcRect l="3533" t="3006" r="3533" b="14393"/>
            <a:stretch/>
          </p:blipFill>
          <p:spPr>
            <a:xfrm>
              <a:off x="4814280" y="2532240"/>
              <a:ext cx="1260000" cy="158040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62" name="同侧圆角矩形 24"/>
            <p:cNvSpPr/>
            <p:nvPr/>
          </p:nvSpPr>
          <p:spPr>
            <a:xfrm flipV="1">
              <a:off x="4778280" y="4117680"/>
              <a:ext cx="1332000" cy="64800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0 h 648000"/>
                <a:gd name="textAreaBottom" fmla="*/ 21600 h 64800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35640" y="2928960"/>
            <a:ext cx="1332000" cy="1836360"/>
            <a:chOff x="6335640" y="2928960"/>
            <a:chExt cx="1332000" cy="1836360"/>
          </a:xfrm>
        </p:grpSpPr>
        <p:pic>
          <p:nvPicPr>
            <p:cNvPr id="164" name="Picture 4" descr=""/>
            <p:cNvPicPr/>
            <p:nvPr/>
          </p:nvPicPr>
          <p:blipFill>
            <a:blip r:embed="rId4"/>
            <a:stretch/>
          </p:blipFill>
          <p:spPr>
            <a:xfrm>
              <a:off x="6371640" y="2928960"/>
              <a:ext cx="1260000" cy="126036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65" name="同侧圆角矩形 26"/>
            <p:cNvSpPr/>
            <p:nvPr/>
          </p:nvSpPr>
          <p:spPr>
            <a:xfrm flipV="1">
              <a:off x="6335640" y="4116600"/>
              <a:ext cx="1332000" cy="64836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-360 h 648360"/>
                <a:gd name="textAreaBottom" fmla="*/ 21240 h 64836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燕尾形 28"/>
          <p:cNvSpPr/>
          <p:nvPr/>
        </p:nvSpPr>
        <p:spPr>
          <a:xfrm flipH="1">
            <a:off x="754920" y="3294000"/>
            <a:ext cx="181080" cy="820800"/>
          </a:xfrm>
          <a:custGeom>
            <a:avLst/>
            <a:gdLst>
              <a:gd name="textAreaLeft" fmla="*/ -360 w 181080"/>
              <a:gd name="textAreaRight" fmla="*/ 181080 w 18108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32"/>
          <p:cNvSpPr/>
          <p:nvPr/>
        </p:nvSpPr>
        <p:spPr>
          <a:xfrm>
            <a:off x="8244000" y="3294000"/>
            <a:ext cx="180720" cy="820800"/>
          </a:xfrm>
          <a:custGeom>
            <a:avLst/>
            <a:gdLst>
              <a:gd name="textAreaLeft" fmla="*/ 0 w 180720"/>
              <a:gd name="textAreaRight" fmla="*/ 181080 w 1807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057320" y="420840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5739480" y="42559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5"/>
          <p:cNvSpPr/>
          <p:nvPr/>
        </p:nvSpPr>
        <p:spPr>
          <a:xfrm>
            <a:off x="2619720" y="42084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4181040" y="42084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738840" y="3144960"/>
            <a:ext cx="857520" cy="809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rcRect l="0" t="0" r="0" b="5562"/>
          <a:stretch/>
        </p:blipFill>
        <p:spPr>
          <a:xfrm>
            <a:off x="1042920" y="2136600"/>
            <a:ext cx="22338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矩形 3"/>
          <p:cNvSpPr/>
          <p:nvPr/>
        </p:nvSpPr>
        <p:spPr>
          <a:xfrm>
            <a:off x="3203640" y="2171880"/>
            <a:ext cx="4681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  <a:ea typeface="Calibri"/>
              </a:rPr>
              <a:t>A newspaper is a regularly scheduled publication containing news of current events, informative articles, diverse features and advertising. It usually is printed on relatively inexpensive, low-grade paper such as newsprint. By 2007, there were 6580 daily newspapers in the world selling 395 million copies a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-896040" y="19368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NEWSPAPA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-597600" y="2181240"/>
            <a:ext cx="901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</a:rPr>
              <a:t>FOR YOUR ATTEN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000" y="4803840"/>
            <a:ext cx="63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0Z</dcterms:created>
  <dc:creator>Sophie</dc:creator>
  <dc:description/>
  <dc:language>en-US</dc:language>
  <cp:lastModifiedBy>微软用户</cp:lastModifiedBy>
  <dcterms:modified xsi:type="dcterms:W3CDTF">2015-01-07T09:18:45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