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736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59880" y="148896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29520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736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59880" y="3742200"/>
            <a:ext cx="274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520" y="410760"/>
            <a:ext cx="852012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3440" y="374220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3440" y="1488960"/>
            <a:ext cx="4159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95200" y="3742200"/>
            <a:ext cx="852480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36588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219240" y="6365880"/>
            <a:ext cx="13428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0" lang="de-DE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7591162F-4655-44AF-AF99-3201E2C12EFB}" type="slidenum">
              <a:rPr b="0" lang="de-D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body"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20720" indent="-274680">
              <a:spcAft>
                <a:spcPts val="1001"/>
              </a:spcAft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8748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54240" indent="-265320">
              <a:spcAft>
                <a:spcPts val="1001"/>
              </a:spcAft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9600" y="3428640"/>
            <a:ext cx="7059600" cy="1081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000" spc="-1" strike="noStrike">
                <a:solidFill>
                  <a:srgbClr val="ffffff"/>
                </a:solidFill>
                <a:latin typeface="Arial"/>
              </a:rPr>
              <a:t>Insert the title of your </a:t>
            </a:r>
            <a:br>
              <a:rPr sz="3000"/>
            </a:br>
            <a:r>
              <a:rPr b="1" sz="3000" spc="-1" strike="noStrike">
                <a:solidFill>
                  <a:srgbClr val="ffffff"/>
                </a:solidFill>
                <a:latin typeface="Arial"/>
              </a:rPr>
              <a:t>presentation he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9600" y="4592520"/>
            <a:ext cx="708336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ffffff"/>
                </a:solidFill>
                <a:latin typeface="Arial"/>
              </a:rPr>
              <a:t>Enter your subtitle or main author‘s name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976800" y="6413400"/>
            <a:ext cx="183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99520" y="410760"/>
            <a:ext cx="85201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600" spc="-1" strike="noStrike">
                <a:solidFill>
                  <a:srgbClr val="000000"/>
                </a:solidFill>
                <a:latin typeface="Arial"/>
              </a:rPr>
              <a:t>Sample Slide </a:t>
            </a:r>
            <a:r>
              <a:rPr b="1" sz="26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sz="2600" spc="-1" strike="noStrike">
                <a:solidFill>
                  <a:srgbClr val="000000"/>
                </a:solidFill>
                <a:latin typeface="Arial"/>
              </a:rPr>
              <a:t> Bullet Poi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95200" y="1488960"/>
            <a:ext cx="8524800" cy="431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e text demonstrates how your own text will look when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 replace the placeholder with your own tex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Arial"/>
              </a:rPr>
              <a:t>This is a placeholder text. This text can be replaced with 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Arial"/>
              </a:rPr>
              <a:t>your own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Aft>
                <a:spcPts val="10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If you don’t want to use the style and size of the fonts as used in this placeholder it is possible to replace it by selecting different op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For replacing the placeholder text you need to click on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placeholder text and insert your own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262080">
              <a:spcAft>
                <a:spcPts val="901"/>
              </a:spcAft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Arial"/>
              </a:rPr>
              <a:t>The text that you insert will retain the same style </a:t>
            </a:r>
            <a:br>
              <a:rPr sz="1800"/>
            </a:br>
            <a:r>
              <a:rPr b="0" sz="1800" spc="-1" strike="noStrike">
                <a:solidFill>
                  <a:srgbClr val="000000"/>
                </a:solidFill>
                <a:latin typeface="Arial"/>
              </a:rPr>
              <a:t>and format as the placeholder tex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" name="Rectangle 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3"/>
            <p:cNvSpPr/>
            <p:nvPr/>
          </p:nvSpPr>
          <p:spPr>
            <a:xfrm>
              <a:off x="461880" y="726840"/>
              <a:ext cx="8539200" cy="50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Feel free to use this PowerPoint template and background for your personal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educational and business presentations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Arial"/>
                </a:rPr>
                <a:t>D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a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py for backups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on your harddrive or local net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Use the free templates for your presentations and project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int hand outs or other promotional item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Link back to our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 if you like our free design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Display screenshots of our templates on your website or blog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should provide a link to our website – no dow</a:t>
              </a: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load purpos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Arial"/>
                </a:rPr>
                <a:t>Please feel free to contact us, if you do have any questions about usag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50021"/>
                  </a:solidFill>
                  <a:latin typeface="Arial"/>
                </a:rPr>
                <a:t>Don‘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Resell or distribute the templates or backgrounds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Make it available on a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 website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, portal or social network website </a:t>
              </a:r>
              <a:r>
                <a:rPr b="0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for download</a:t>
              </a: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br>
                <a:rPr sz="1400"/>
              </a:b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(Incl. groups, file sharing networks, Slideshare etc.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Edit or modify the downloaded templates and claim / pass off as your own work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All copyright and intellectual property rights, without limitation, are retained 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Arial"/>
                </a:rPr>
                <a:t>PresentationLoad.com. By downloading and using this template, you agree to this statement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54080" indent="-154080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4"/>
            <p:cNvSpPr/>
            <p:nvPr/>
          </p:nvSpPr>
          <p:spPr>
            <a:xfrm>
              <a:off x="459720" y="288720"/>
              <a:ext cx="220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Copyright noti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1897560" y="632448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40505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c40505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23:54:21Z</dcterms:created>
  <dc:creator/>
  <dc:description>PresentationLoad.com</dc:description>
  <dc:language>en-US</dc:language>
  <cp:lastModifiedBy>Jennifer</cp:lastModifiedBy>
  <dcterms:modified xsi:type="dcterms:W3CDTF">2015-01-09T02:56:45Z</dcterms:modified>
  <cp:revision>68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