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FA2-DA44-4225-AA67-17E36EC6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5EC-103F-4493-B649-11F52337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D29-7168-47B9-8313-25B620C6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24B-A244-49F5-AD66-8379270B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CBF5-1135-4664-B2E7-4C531AF4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2642-76AA-4492-80D5-4A750D52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5286-0288-46D1-99F7-FF296B45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229B-2676-46C8-87D6-2C9EB6ED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0478-DBDF-4284-8694-2BF64577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9EAA-6A92-48C3-8365-6B85E6D6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26EA-A14F-4E73-94BF-2D1D9019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2FE-0DAF-4C45-A890-5C1C8212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A0C1-EA1E-4AF6-B44D-4604A585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2669-229C-4F5E-A328-787D7C4D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FFAA-6B47-459C-887F-78B98C33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7205-4155-4D10-BF8E-2CD8C95E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FA51-DD02-446F-AF18-0720F42D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08C-AD17-4200-8967-105AB2A3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451-79A3-4251-82A2-F18CD3FF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581-D284-4C51-A4F1-228E53B5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1C0-DDF5-4095-9759-C485AD08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648-CF55-41B0-87D8-85A3BFE2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F9F-6C75-442B-BB67-4F2C6365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BF8-9AE7-48C1-834F-61A2237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32360" y="4292640"/>
            <a:ext cx="4211640" cy="2565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43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E3BE-6910-4FC9-979D-E15507938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3853-7C65-4DC7-BE76-08EA7EDB0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幻灯片通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00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54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33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02:06:39Z</dcterms:created>
  <dc:creator/>
  <dc:description/>
  <dc:language>en-US</dc:language>
  <cp:lastModifiedBy>zht</cp:lastModifiedBy>
  <dcterms:modified xsi:type="dcterms:W3CDTF">2015-01-08T13:04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