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BD3-1D73-4C4E-A84A-AC32B39B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75B-9929-4207-AE7A-D8B6389B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88D-BF54-4511-A39D-128C79FD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D1D-884E-4691-9DFF-6194097F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0295-4385-48A5-A4FB-C545B1A2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ACDE-C1C8-4964-9949-AB0ED498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FDBF-CF73-42EC-AA3C-2D50A6C4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F212-D026-4FD9-BCD1-876BA5A1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01AF-159A-440B-A366-99DEDFEE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4E9C-539E-4AF5-BF1E-2EA0E102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2977-3FFA-4267-963E-454008D3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ADF-BBDA-472F-A5D9-DB0DB81F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B21C-8E64-4FDA-91A2-9D5CD93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FD2E-C719-4FF8-9DE5-BCA462A9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9467-D2D4-456D-BE1E-B700BF91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035D-5528-4D80-89A6-48990C13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682A-759F-4C68-B8C5-3018071D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35DB-F2A7-447F-8C9F-6AE3B3E7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6668-5C57-424A-817C-6CED36BC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B3351-F578-486C-AECB-B2B8FD0D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E4C6-BEC6-44F5-B1B4-104CBFD2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E5E9-864A-4BE1-BAB8-374A6E0F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C88-0CAA-4AB4-B550-33D30F33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5F5F-997A-43E7-9B1E-9ACA447B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3B70-7DD7-4C6B-9474-EFEE3D54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4A61-3159-4904-B86E-0DA8726D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E794-6EFE-4610-B8D5-E689D303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8365-4891-4D07-AAED-D87BF2F9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3251-22E9-4001-8F38-1E6FF786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920C3-1EAA-4F07-B5B5-90D1BF50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65E-FAF8-466E-BBBF-98FC5EE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6DD-BC6A-4DDF-B417-E4AABC92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E1B-FAD9-4777-8DE5-8D00D5ED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F41-5076-461A-9076-1A468192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774-3A6E-48D3-A399-C411F98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782-7504-460E-9AE4-441C4CBD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0A5C-6DAF-4E05-9F11-5DCB87983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3434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C908-472E-439A-9E8A-44434246E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1C22-336C-4B4C-AC8D-56444DD1E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未知"/>
          <p:cNvSpPr/>
          <p:nvPr/>
        </p:nvSpPr>
        <p:spPr>
          <a:xfrm>
            <a:off x="108000" y="6845400"/>
            <a:ext cx="2520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</a:path>
            </a:pathLst>
          </a:custGeom>
          <a:solidFill>
            <a:srgbClr val="ffffff"/>
          </a:solidFill>
          <a:ln cap="sq" w="228600">
            <a:solidFill>
              <a:srgbClr val="ff9900">
                <a:alpha val="2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使用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种使用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可以直接打印出来给儿童当学画画的涂色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稍大点的孩子可以用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PS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演示的荧光笔工具学习鼠绘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方法：进入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点击左下角的荧光笔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6624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9:49:33Z</dcterms:created>
  <dc:creator/>
  <dc:description/>
  <dc:language>en-US</dc:language>
  <cp:lastModifiedBy/>
  <dcterms:modified xsi:type="dcterms:W3CDTF">2015-01-08T07:18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