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A7DE4-18B0-4A9D-A37F-346DB15CA7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03B6C-7AE7-4461-B806-0A81F5485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10C63-4983-47E4-B495-36C5ED0A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668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44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1092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668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44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D09CF-15D0-4390-8462-1DD5A19F23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E99D82-8766-426C-9885-0699EE688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FF526B-27C7-4670-B892-C5FED7A1E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C6DCDD-6985-45B3-9049-BA945B4D4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41EA38-495A-4DD6-8A78-1839A49F5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3D07F4-3675-4279-BEEE-87E9D5932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71280" y="333360"/>
            <a:ext cx="771516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949002-1552-4A60-AFF9-832D98BEA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5914A8-BF80-4FC6-B395-73D98A43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50206-3649-4985-8289-0A2BB3EA3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8440F0-79AB-41A3-9FD0-4486CD19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D1E182-6087-418E-ADB6-F7AD5C30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F50A76-A59F-48CB-A95F-639CC1698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1C874B-9E50-4E9B-BD07-D36F43D62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44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1092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44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342D6D-1980-4E08-B850-A8D2F7C96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43152-CE58-42AF-B21B-EB0FB6FBD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9F54E-9A27-4AAE-8974-C6F9D28A4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33B5E-AD4C-4F01-8371-22D4AA2C5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71280" y="333360"/>
            <a:ext cx="771516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D8AC1-C10D-42BD-ABD6-098607C26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BE8F1-0056-452D-BB40-930BA4D7A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22B6D-A619-4AEE-AD37-62542F891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F445D-A030-44DC-ADA0-C53A21D07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0727C-E063-436D-9C99-1D808A817613}" type="datetime"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732720" y="6381720"/>
            <a:ext cx="2133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2A137-E828-474D-8A76-86344AB320ED}" type="slidenum"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26920" y="3213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45684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930E8-0417-4366-BB78-F1CAF2B60568}" type="datetime"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4"/>
          </p:nvPr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5"/>
          </p:nvPr>
        </p:nvSpPr>
        <p:spPr>
          <a:xfrm>
            <a:off x="655272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46DAD-EE7A-42F9-BC52-AACE28A9BF25}" type="slidenum"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微软雅黑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微软雅黑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微软雅黑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971640" y="3718080"/>
            <a:ext cx="6975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755640" y="177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3" name=""/>
          <p:cNvSpPr/>
          <p:nvPr/>
        </p:nvSpPr>
        <p:spPr>
          <a:xfrm>
            <a:off x="70804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8137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EF894-23C8-4A2C-8CF1-47256CE4CD7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113AFA-6ACC-440C-8FBD-F661F0EAF85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1A008-6B2D-4970-B838-80DB5069834A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B1F813-C907-4BD3-811E-DD366B4A58B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195640" y="3114720"/>
            <a:ext cx="4713120" cy="16095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722960" y="602136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3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C3306-3C62-4509-A84F-556AEF07819A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BD946F-B539-4279-B100-3C885F8E7F9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0T15:21:49Z</dcterms:created>
  <dc:creator>微软中国</dc:creator>
  <dc:description/>
  <dc:language>en-US</dc:language>
  <cp:lastModifiedBy>微软中国</cp:lastModifiedBy>
  <cp:lastPrinted>1899-12-30T00:00:00Z</cp:lastPrinted>
  <dcterms:modified xsi:type="dcterms:W3CDTF">2014-05-15T06:51:27Z</dcterms:modified>
  <cp:revision>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