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30D-038C-43B8-BA46-90AD3DD0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173-88E1-4C4D-B95C-121741A4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48C-1CB7-48E3-9704-E03DD443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313-983D-46AD-83B4-8E069ADF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D02-EEF7-4AD2-8FFB-FC1DE54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2B9-35FF-4FDC-A5FD-48D3744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43E-9CA6-49D8-B907-B5871B41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A4B-6895-455E-B5EB-D8D14D3C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02680"/>
            <a:ext cx="835344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0E3-8217-483E-8E16-C272DC7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943-7928-4DA4-B612-61D4717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6F1-34BB-4F8A-997F-F0CCFE9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7F1-CC9C-4FE1-8AAD-C609F5E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4F4A-BF7F-4546-8108-4D5DAB144A80}" type="datetime">
              <a: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0D3-A37D-4FC9-BFB6-814D34BCCAAF}" type="slidenum">
              <a:rPr b="0" lang="zh-CN" sz="1200" spc="-1" strike="noStrike">
                <a:solidFill>
                  <a:srgbClr val="898989"/>
                </a:solidFill>
                <a:latin typeface="Constanti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同侧圆角矩形 3"/>
          <p:cNvSpPr/>
          <p:nvPr/>
        </p:nvSpPr>
        <p:spPr>
          <a:xfrm>
            <a:off x="139680" y="1773360"/>
            <a:ext cx="8856720" cy="2087280"/>
          </a:xfrm>
          <a:custGeom>
            <a:avLst/>
            <a:gdLst>
              <a:gd name="textAreaLeft" fmla="*/ 0 w 8856720"/>
              <a:gd name="textAreaRight" fmla="*/ 8857080 w 885672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13948" h="3287">
                <a:moveTo>
                  <a:pt x="0" y="0"/>
                </a:moveTo>
                <a:lnTo>
                  <a:pt x="13948" y="0"/>
                </a:lnTo>
                <a:lnTo>
                  <a:pt x="13948" y="0"/>
                </a:lnTo>
                <a:arcTo wR="0" hR="0" stAng="0" swAng="0"/>
                <a:lnTo>
                  <a:pt x="13948" y="3287"/>
                </a:lnTo>
                <a:lnTo>
                  <a:pt x="13948" y="3287"/>
                </a:lnTo>
                <a:arcTo wR="0" hR="0" stAng="0" swAng="0"/>
                <a:lnTo>
                  <a:pt x="0" y="3287"/>
                </a:lnTo>
                <a:lnTo>
                  <a:pt x="0" y="3287"/>
                </a:lnTo>
                <a:arcTo wR="0" hR="0" stAng="0" swAng="0"/>
                <a:lnTo>
                  <a:pt x="0" y="0"/>
                </a:lnTo>
                <a:lnTo>
                  <a:pt x="0" y="0"/>
                </a:lnTo>
                <a:arcTo wR="0" hR="0" stAng="0" swAng="0"/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264960" y="1773360"/>
            <a:ext cx="203400" cy="2087280"/>
          </a:xfrm>
          <a:prstGeom prst="rect">
            <a:avLst/>
          </a:prstGeom>
          <a:gradFill rotWithShape="0">
            <a:gsLst>
              <a:gs pos="0">
                <a:srgbClr val="747445"/>
              </a:gs>
              <a:gs pos="50000">
                <a:srgbClr val="ffff99"/>
              </a:gs>
              <a:gs pos="100000">
                <a:srgbClr val="7474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39680" y="3855960"/>
            <a:ext cx="8856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2185920" y="6381720"/>
            <a:ext cx="63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X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公司版权所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884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看的蓝色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815920"/>
            <a:ext cx="77752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主题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"/>
          <p:cNvSpPr/>
          <p:nvPr/>
        </p:nvSpPr>
        <p:spPr>
          <a:xfrm>
            <a:off x="-820800" y="60944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02680"/>
            <a:ext cx="8353440" cy="489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dd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2:14:00Z</dcterms:created>
  <dc:creator>我爱PPT官方网 - 中文演示设计平台 www.lioveppt.org; User</dc:creator>
  <dc:description>我爱PPT官方网 - 中文演示设计平台 www.lioveppt.org</dc:description>
  <cp:keywords>我爱PPT官方网 - 中文演示设计平台 www.lioveppt.org</cp:keywords>
  <dc:language>en-US</dc:language>
  <cp:lastModifiedBy>User</cp:lastModifiedBy>
  <dcterms:modified xsi:type="dcterms:W3CDTF">2015-01-07T09:28:15Z</dcterms:modified>
  <cp:revision>633</cp:revision>
  <dc:subject>通用纹理</dc:subject>
  <dc:title>我爱PPT官方网 - 中文演示设计平台 www.li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