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C65-BE82-47AA-95DD-D1764754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8CB-D1AE-4884-9D17-4CDBE37B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040F-8788-4EE1-BDCB-491BD2A8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54F-E776-44E8-954A-63404D37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9C6-8AF5-4A10-B9FE-CC3562F5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081-D223-4BE2-AC4C-D43C3AFF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A2C-C44E-4D6D-A5CC-52390BCD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78C-A15A-4833-9F7F-C0848751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F4C9-33C6-4D63-8F03-4B698ACA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12C-3B7D-4759-9C6A-B92320D1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0D2-E5D9-444D-9B7E-D2E7FE5F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A17-C2FA-413A-8693-8AC0A5DE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6528-00D9-4F5A-B913-0641FBB47EF6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" name="图片 3" descr="背景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帘子2" descr="帘子.png"/>
          <p:cNvPicPr/>
          <p:nvPr/>
        </p:nvPicPr>
        <p:blipFill>
          <a:blip r:embed="rId3"/>
          <a:stretch/>
        </p:blipFill>
        <p:spPr>
          <a:xfrm>
            <a:off x="6480" y="6270480"/>
            <a:ext cx="9137520" cy="58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" descr="背景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帘子" descr="帘子.png"/>
          <p:cNvPicPr/>
          <p:nvPr/>
        </p:nvPicPr>
        <p:blipFill>
          <a:blip r:embed="rId2"/>
          <a:srcRect l="0" t="19678" r="0" b="0"/>
          <a:stretch/>
        </p:blipFill>
        <p:spPr>
          <a:xfrm>
            <a:off x="0" y="-58680"/>
            <a:ext cx="913608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帘子2" descr="帘子.png"/>
          <p:cNvPicPr/>
          <p:nvPr/>
        </p:nvPicPr>
        <p:blipFill>
          <a:blip r:embed="rId3"/>
          <a:stretch/>
        </p:blipFill>
        <p:spPr>
          <a:xfrm>
            <a:off x="6480" y="6081840"/>
            <a:ext cx="9137520" cy="631800"/>
          </a:xfrm>
          <a:prstGeom prst="rect">
            <a:avLst/>
          </a:prstGeom>
          <a:ln w="0">
            <a:noFill/>
          </a:ln>
        </p:spPr>
      </p:pic>
      <p:pic>
        <p:nvPicPr>
          <p:cNvPr id="46" name="帘子2" descr="帘子.png"/>
          <p:cNvPicPr/>
          <p:nvPr/>
        </p:nvPicPr>
        <p:blipFill>
          <a:blip r:embed="rId4"/>
          <a:stretch/>
        </p:blipFill>
        <p:spPr>
          <a:xfrm>
            <a:off x="6480" y="6270480"/>
            <a:ext cx="9137520" cy="587520"/>
          </a:xfrm>
          <a:prstGeom prst="rect">
            <a:avLst/>
          </a:prstGeom>
          <a:ln w="0">
            <a:noFill/>
          </a:ln>
        </p:spPr>
      </p:pic>
      <p:pic>
        <p:nvPicPr>
          <p:cNvPr id="47" name="贺" descr=""/>
          <p:cNvPicPr/>
          <p:nvPr/>
        </p:nvPicPr>
        <p:blipFill>
          <a:blip r:embed="rId5"/>
          <a:stretch/>
        </p:blipFill>
        <p:spPr>
          <a:xfrm>
            <a:off x="3386160" y="2611440"/>
            <a:ext cx="2216160" cy="2514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43920" y="1587600"/>
            <a:ext cx="115524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在此添入祝福话语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"/>
          <p:cNvSpPr/>
          <p:nvPr/>
        </p:nvSpPr>
        <p:spPr>
          <a:xfrm>
            <a:off x="8128440" y="1587600"/>
            <a:ext cx="66780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Franklin Gothic Book"/>
                <a:ea typeface="宋体"/>
              </a:rPr>
              <a:t>在此添入祝福话语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"/>
          <p:cNvSpPr/>
          <p:nvPr/>
        </p:nvSpPr>
        <p:spPr>
          <a:xfrm>
            <a:off x="7094520" y="64562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Franklin Gothic Book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1:39:49Z</dcterms:created>
  <dc:creator/>
  <dc:description/>
  <dc:language>en-US</dc:language>
  <cp:lastModifiedBy>applena</cp:lastModifiedBy>
  <dcterms:modified xsi:type="dcterms:W3CDTF">2015-01-07T14:46:12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