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AB8A-8DF3-4426-932E-EFB05A369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57F4-1965-4CDD-9CBD-F7E954991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BFC5-592B-4D0E-89C6-952241003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FD43A-656A-4541-968C-A360ED153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306000"/>
            <a:ext cx="79311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225B-C5CB-4F4F-B392-3B7A94630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13E1-CFE5-4A9A-99B4-A131F99058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68000" y="306000"/>
            <a:ext cx="79311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836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4324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1812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076E-F50C-4A8B-A635-B5F67F452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3FCA-4318-416D-80D5-63FC984D2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306000"/>
            <a:ext cx="79311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CBDA-85CD-45CC-A9FD-8D5E56AE0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352D-6583-4176-94F4-677A612EE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AB2C-900D-41E2-A9D0-7C499ED57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4500-404F-4F9B-9BAB-94EF0B046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25.xml"/><Relationship Id="rId20" Type="http://schemas.openxmlformats.org/officeDocument/2006/relationships/slideLayout" Target="../slideLayouts/slideLayout26.xml"/><Relationship Id="rId21" Type="http://schemas.openxmlformats.org/officeDocument/2006/relationships/slideLayout" Target="../slideLayouts/slideLayout27.xml"/><Relationship Id="rId22" Type="http://schemas.openxmlformats.org/officeDocument/2006/relationships/slideLayout" Target="../slideLayouts/slideLayout28.xml"/><Relationship Id="rId23" Type="http://schemas.openxmlformats.org/officeDocument/2006/relationships/slideLayout" Target="../slideLayouts/slideLayout29.xml"/><Relationship Id="rId24" Type="http://schemas.openxmlformats.org/officeDocument/2006/relationships/slideLayout" Target="../slideLayouts/slideLayout30.xml"/><Relationship Id="rId25" Type="http://schemas.openxmlformats.org/officeDocument/2006/relationships/slideLayout" Target="../slideLayouts/slideLayout31.xml"/><Relationship Id="rId26" Type="http://schemas.openxmlformats.org/officeDocument/2006/relationships/slideLayout" Target="../slideLayouts/slideLayout32.xml"/><Relationship Id="rId27" Type="http://schemas.openxmlformats.org/officeDocument/2006/relationships/slideLayout" Target="../slideLayouts/slideLayout33.xml"/><Relationship Id="rId28" Type="http://schemas.openxmlformats.org/officeDocument/2006/relationships/slideLayout" Target="../slideLayouts/slideLayout34.xml"/><Relationship Id="rId29" Type="http://schemas.openxmlformats.org/officeDocument/2006/relationships/slideLayout" Target="../slideLayouts/slideLayout35.xml"/><Relationship Id="rId3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-3240"/>
            <a:ext cx="9171000" cy="687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70BC1C7-C885-4A49-91A4-C2DC729C6DCD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628812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7920" y="-3240"/>
            <a:ext cx="917100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76360" y="4319640"/>
            <a:ext cx="5398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8360" y="465120"/>
            <a:ext cx="1528560" cy="795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>
            <a:hlinkClick r:id="rId2"/>
          </p:cNvPr>
          <p:cNvSpPr/>
          <p:nvPr/>
        </p:nvSpPr>
        <p:spPr>
          <a:xfrm>
            <a:off x="133344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>
            <a:hlinkClick r:id="rId3"/>
          </p:cNvPr>
          <p:cNvSpPr/>
          <p:nvPr/>
        </p:nvSpPr>
        <p:spPr>
          <a:xfrm>
            <a:off x="3492360" y="263700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>
            <a:hlinkClick r:id="rId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>
            <a:hlinkClick r:id="rId5"/>
          </p:cNvPr>
          <p:cNvSpPr/>
          <p:nvPr/>
        </p:nvSpPr>
        <p:spPr>
          <a:xfrm>
            <a:off x="2368800" y="4220280"/>
            <a:ext cx="30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进行许可。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6372360" y="270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052720" y="270828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4211640" y="2708280"/>
            <a:ext cx="758880" cy="730080"/>
            <a:chOff x="4211640" y="2708280"/>
            <a:chExt cx="758880" cy="730080"/>
          </a:xfrm>
        </p:grpSpPr>
        <p:pic>
          <p:nvPicPr>
            <p:cNvPr id="88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70828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8640" y="286740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>
            <a:hlinkClick r:id="rId10"/>
          </p:cNvPr>
          <p:cNvSpPr/>
          <p:nvPr/>
        </p:nvSpPr>
        <p:spPr>
          <a:xfrm>
            <a:off x="133344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1"/>
          </p:cNvPr>
          <p:cNvSpPr/>
          <p:nvPr/>
        </p:nvSpPr>
        <p:spPr>
          <a:xfrm>
            <a:off x="3492360" y="342900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2"/>
          </p:cNvPr>
          <p:cNvSpPr/>
          <p:nvPr/>
        </p:nvSpPr>
        <p:spPr>
          <a:xfrm>
            <a:off x="565308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332000" y="242100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rdriDesign</a:t>
            </a: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中国专业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473436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i="1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>
            <a:hlinkClick r:id="rId13"/>
          </p:cNvPr>
          <p:cNvSpPr/>
          <p:nvPr/>
        </p:nvSpPr>
        <p:spPr>
          <a:xfrm>
            <a:off x="3492360" y="263700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>
            <a:hlinkClick r:id="rId1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>
            <a:hlinkClick r:id="rId15"/>
          </p:cNvPr>
          <p:cNvSpPr/>
          <p:nvPr/>
        </p:nvSpPr>
        <p:spPr>
          <a:xfrm>
            <a:off x="1332000" y="263700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6"/>
          </p:cNvPr>
          <p:cNvSpPr/>
          <p:nvPr/>
        </p:nvSpPr>
        <p:spPr>
          <a:xfrm>
            <a:off x="1332000" y="541656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i="1" lang="en-US" sz="1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32000" y="1486080"/>
            <a:ext cx="4321080" cy="576000"/>
            <a:chOff x="1332000" y="1486080"/>
            <a:chExt cx="4321080" cy="576000"/>
          </a:xfrm>
        </p:grpSpPr>
        <p:pic>
          <p:nvPicPr>
            <p:cNvPr id="100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486080"/>
              <a:ext cx="20170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544400"/>
              <a:ext cx="172872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349080" y="1486080"/>
              <a:ext cx="0" cy="576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9"/>
    <p:sldLayoutId id="2147483676" r:id="rId20"/>
    <p:sldLayoutId id="2147483677" r:id="rId21"/>
    <p:sldLayoutId id="2147483678" r:id="rId22"/>
    <p:sldLayoutId id="2147483679" r:id="rId23"/>
    <p:sldLayoutId id="2147483680" r:id="rId24"/>
    <p:sldLayoutId id="2147483681" r:id="rId25"/>
    <p:sldLayoutId id="2147483682" r:id="rId26"/>
    <p:sldLayoutId id="2147483683" r:id="rId27"/>
    <p:sldLayoutId id="2147483684" r:id="rId28"/>
    <p:sldLayoutId id="2147483685" r:id="rId29"/>
    <p:sldLayoutId id="2147483686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25440" y="4455720"/>
            <a:ext cx="5651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欢乐圣诞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74920" y="553536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6080" y="616572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4120" y="1337760"/>
            <a:ext cx="766620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1604-0293-4451-97C7-E45ED238392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7920" y="-3240"/>
            <a:ext cx="9171000" cy="68756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3624120" y="4233960"/>
            <a:ext cx="505152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8360" y="465120"/>
            <a:ext cx="1528560" cy="79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CC67-5334-4EDB-8439-7F68C85B08B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A138-F5BE-4798-9043-3941E48F94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07T17:10:44Z</dcterms:modified>
  <cp:revision>1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