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E15C-A86D-4D63-872D-A7791DD8B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B267-6D5B-4096-9E99-0DB4402A1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055B-FFE2-4637-9E58-9BD72EC2C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D451-0291-457D-9CF1-928735018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A22-53EA-4E0C-9E1E-CBCCB939DC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E28-91EE-4B88-9309-D2FFB186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B39-4CDF-43EE-BCF8-F6018051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742-17A5-44BC-9A0A-3708366C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4C2-3713-4BBC-900F-B8566868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3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76B-9E59-49F7-950A-EAFD6E18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3FF-338E-43A8-A2D3-A8CA8D7B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39AC-2EBE-44A8-AE88-6A898E0D3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B42-F51C-48DF-ADB6-2FE1F1E4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9BA-73F8-4113-8C6A-46F6A496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AE7-468F-4FC3-B18F-E9743B01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0F5-38A4-4D0C-B89D-A1CF4ECB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26C-18C2-4061-AAA3-D7D3AE055B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5743-C90F-46F8-8257-6AE0AD763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AEAB-9B74-42B5-A87C-164B57345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C19A-7EBC-4642-B1AB-75616D4AF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3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5CFC-C1B3-4060-9D34-4681DFE49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01EA-BC2A-4E1D-9719-CD6C04A01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DF23-083D-4E19-85CA-DA9B29852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668B-26BA-483B-9D9D-2417D3428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2536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792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2160" indent="-17964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0F171-B149-4C38-B480-F20B3744F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4280" indent="-22536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792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2160" indent="-17964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11-10-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14AEAB-98E0-464D-A6E3-C6284D864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57360"/>
            <a:ext cx="9144000" cy="3384360"/>
          </a:xfrm>
          <a:prstGeom prst="rect">
            <a:avLst/>
          </a:prstGeom>
          <a:solidFill>
            <a:srgbClr val="1895d3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2360" y="324000"/>
            <a:ext cx="790560" cy="790560"/>
          </a:xfrm>
          <a:prstGeom prst="ellipse">
            <a:avLst/>
          </a:prstGeom>
          <a:solidFill>
            <a:srgbClr val="dfe6eb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5640000">
            <a:off x="3279960" y="332280"/>
            <a:ext cx="395280" cy="403560"/>
          </a:xfrm>
          <a:prstGeom prst="pie">
            <a:avLst/>
          </a:prstGeom>
          <a:solidFill>
            <a:srgbClr val="287d9d">
              <a:alpha val="89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60400" y="4352760"/>
            <a:ext cx="358920" cy="3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687">
                <a:moveTo>
                  <a:pt x="3600" y="0"/>
                </a:moveTo>
                <a:arcTo wR="3600" hR="3600" stAng="16200000" swAng="-5400000"/>
                <a:lnTo>
                  <a:pt x="0" y="18087"/>
                </a:lnTo>
                <a:arcTo wR="3600" hR="3600" stAng="10800000" swAng="-5400000"/>
                <a:lnTo>
                  <a:pt x="18000" y="21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6840" y="4352760"/>
            <a:ext cx="361800" cy="360360"/>
          </a:xfrm>
          <a:prstGeom prst="roundRect">
            <a:avLst>
              <a:gd name="adj" fmla="val 16667"/>
            </a:avLst>
          </a:pr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44760" y="4352760"/>
            <a:ext cx="1727280" cy="432000"/>
          </a:xfrm>
          <a:prstGeom prst="roundRect">
            <a:avLst>
              <a:gd name="adj" fmla="val 16667"/>
            </a:avLst>
          </a:prstGeom>
          <a:solidFill>
            <a:srgbClr val="7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060640"/>
            <a:ext cx="90000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/>
          <p:nvPr/>
        </p:nvCxnSpPr>
        <p:spPr>
          <a:xfrm>
            <a:off x="5579640" y="2204640"/>
            <a:ext cx="3960" cy="2377080"/>
          </a:xfrm>
          <a:prstGeom prst="straightConnector1">
            <a:avLst/>
          </a:prstGeom>
          <a:ln w="19080">
            <a:solidFill>
              <a:srgbClr val="1391d3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108000" y="314172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005360"/>
            <a:ext cx="71928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680" y="369252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4352760"/>
            <a:ext cx="358560" cy="3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76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7a4c4"/>
                </a:solidFill>
                <a:latin typeface="Century Gothic"/>
                <a:ea typeface="方正粗倩简体"/>
              </a:rPr>
              <a:t>海蓝色</a:t>
            </a:r>
            <a:r>
              <a:rPr b="0" lang="en-US" sz="2400" spc="-1" strike="noStrike">
                <a:solidFill>
                  <a:srgbClr val="67a4c4"/>
                </a:solidFill>
                <a:latin typeface="Century Gothic"/>
                <a:ea typeface="方正粗倩简体"/>
              </a:rPr>
              <a:t>ppt</a:t>
            </a:r>
            <a:r>
              <a:rPr b="0" lang="zh-CN" sz="2400" spc="-1" strike="noStrike">
                <a:solidFill>
                  <a:srgbClr val="67a4c4"/>
                </a:solidFill>
                <a:latin typeface="Century Gothic"/>
                <a:ea typeface="方正粗倩简体"/>
              </a:rPr>
              <a:t>模板下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773360"/>
            <a:ext cx="43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r slogan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32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6deea"/>
                </a:solidFill>
                <a:latin typeface="Microsoft Tai 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35276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6deea"/>
                </a:solidFill>
                <a:latin typeface="Microsoft Tai 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24040" y="435276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6deea"/>
                </a:solidFill>
                <a:latin typeface="Microsoft Tai Le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205000"/>
            <a:ext cx="1260360" cy="12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2421000"/>
            <a:ext cx="57600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44370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c6deea"/>
                </a:solidFill>
                <a:latin typeface="Vrinda"/>
              </a:rPr>
              <a:t>CONTACT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4005360"/>
            <a:ext cx="971640" cy="9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2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11400" y="35496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38560" y="3621240"/>
            <a:ext cx="57600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9040" y="3352680"/>
            <a:ext cx="971280" cy="9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2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3645000"/>
            <a:ext cx="57636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3502080"/>
            <a:ext cx="971640" cy="9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2781360"/>
            <a:ext cx="718920" cy="71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4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400536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05600" y="285912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3840" y="31082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357336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89960" y="2782800"/>
            <a:ext cx="72072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53600" y="2389320"/>
            <a:ext cx="57600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4840" y="20131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59800" y="417204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4510080"/>
            <a:ext cx="71928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07400" y="3790800"/>
            <a:ext cx="971280" cy="9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2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156360" y="2205000"/>
            <a:ext cx="2425680" cy="1788840"/>
            <a:chOff x="6156360" y="2205000"/>
            <a:chExt cx="2425680" cy="1788840"/>
          </a:xfrm>
        </p:grpSpPr>
        <p:sp>
          <p:nvSpPr>
            <p:cNvPr id="120" name=""/>
            <p:cNvSpPr/>
            <p:nvPr/>
          </p:nvSpPr>
          <p:spPr>
            <a:xfrm>
              <a:off x="6183000" y="2205000"/>
              <a:ext cx="2373480" cy="945000"/>
            </a:xfrm>
            <a:prstGeom prst="rect">
              <a:avLst/>
            </a:prstGeom>
            <a:solidFill>
              <a:srgbClr val="bbe0e3">
                <a:alpha val="5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12160"/>
              <a:ext cx="242568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bbe0e3"/>
                  </a:solidFill>
                  <a:latin typeface="Calibri"/>
                </a:rPr>
                <a:t>Lorem Ipsum is simply dummy text of the printing and typesettin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6360" y="3304080"/>
              <a:ext cx="242568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828720" y="2492280"/>
            <a:ext cx="4680000" cy="1441440"/>
          </a:xfrm>
          <a:prstGeom prst="roundRect">
            <a:avLst>
              <a:gd name="adj" fmla="val 8273"/>
            </a:avLst>
          </a:prstGeom>
          <a:gradFill rotWithShape="0">
            <a:gsLst>
              <a:gs pos="0">
                <a:srgbClr val="d1eaec"/>
              </a:gs>
              <a:gs pos="100000">
                <a:srgbClr val="bbe0e3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56536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0480" y="6445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3860640"/>
            <a:ext cx="2643480" cy="26449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5080" y="1859040"/>
            <a:ext cx="6553080" cy="430848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2200" y="1771560"/>
            <a:ext cx="581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11240"/>
            <a:ext cx="913932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1011240"/>
            <a:ext cx="223200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08400" y="990720"/>
            <a:ext cx="21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0" y="981000"/>
            <a:ext cx="169092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6600" y="9907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4" name=""/>
          <p:cNvCxnSpPr/>
          <p:nvPr/>
        </p:nvCxnSpPr>
        <p:spPr>
          <a:xfrm>
            <a:off x="5579640" y="3428640"/>
            <a:ext cx="3960" cy="23770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6000" y="3430440"/>
            <a:ext cx="3192480" cy="235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02200" y="2349360"/>
            <a:ext cx="29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itle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8120" y="340848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7920" y="40165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2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42600" y="46227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3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7920" y="52293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4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011240"/>
            <a:ext cx="913932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24000" y="1011240"/>
            <a:ext cx="2232000" cy="2523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08400" y="9907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2720" y="99072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857160" y="760320"/>
            <a:ext cx="408240" cy="331560"/>
            <a:chOff x="857160" y="760320"/>
            <a:chExt cx="408240" cy="331560"/>
          </a:xfrm>
        </p:grpSpPr>
        <p:sp>
          <p:nvSpPr>
            <p:cNvPr id="146" name=""/>
            <p:cNvSpPr/>
            <p:nvPr/>
          </p:nvSpPr>
          <p:spPr>
            <a:xfrm>
              <a:off x="857160" y="760320"/>
              <a:ext cx="408240" cy="194040"/>
            </a:xfrm>
            <a:prstGeom prst="roundRect">
              <a:avLst>
                <a:gd name="adj" fmla="val 819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040" y="804240"/>
              <a:ext cx="292680" cy="287640"/>
            </a:xfrm>
            <a:prstGeom prst="roundRect">
              <a:avLst>
                <a:gd name="adj" fmla="val 546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787400" y="760320"/>
            <a:ext cx="408240" cy="382680"/>
          </a:xfrm>
          <a:prstGeom prst="roundRect">
            <a:avLst>
              <a:gd name="adj" fmla="val 4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62280" y="696960"/>
            <a:ext cx="381240" cy="380520"/>
            <a:chOff x="3662280" y="696960"/>
            <a:chExt cx="381240" cy="380520"/>
          </a:xfrm>
        </p:grpSpPr>
        <p:sp>
          <p:nvSpPr>
            <p:cNvPr id="150" name=""/>
            <p:cNvSpPr/>
            <p:nvPr/>
          </p:nvSpPr>
          <p:spPr>
            <a:xfrm>
              <a:off x="3746160" y="696960"/>
              <a:ext cx="213120" cy="172080"/>
            </a:xfrm>
            <a:prstGeom prst="roundRect">
              <a:avLst>
                <a:gd name="adj" fmla="val 92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62280" y="886320"/>
              <a:ext cx="381240" cy="191160"/>
            </a:xfrm>
            <a:prstGeom prst="roundRect">
              <a:avLst>
                <a:gd name="adj" fmla="val 83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27720" y="760320"/>
            <a:ext cx="473040" cy="319320"/>
          </a:xfrm>
          <a:prstGeom prst="roundRect">
            <a:avLst>
              <a:gd name="adj" fmla="val 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70200" y="696960"/>
            <a:ext cx="301680" cy="380520"/>
            <a:chOff x="2770200" y="696960"/>
            <a:chExt cx="301680" cy="380520"/>
          </a:xfrm>
        </p:grpSpPr>
        <p:sp>
          <p:nvSpPr>
            <p:cNvPr id="154" name=""/>
            <p:cNvSpPr/>
            <p:nvPr/>
          </p:nvSpPr>
          <p:spPr>
            <a:xfrm>
              <a:off x="2770200" y="847080"/>
              <a:ext cx="301680" cy="230400"/>
            </a:xfrm>
            <a:prstGeom prst="roundRect">
              <a:avLst>
                <a:gd name="adj" fmla="val 68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88920" y="696960"/>
              <a:ext cx="262080" cy="131040"/>
            </a:xfrm>
            <a:prstGeom prst="roundRect">
              <a:avLst>
                <a:gd name="adj" fmla="val 12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170000" y="149076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70000" y="260496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0000" y="369900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70000" y="479268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915240" y="1424160"/>
            <a:ext cx="823680" cy="801360"/>
            <a:chOff x="6915240" y="1424160"/>
            <a:chExt cx="823680" cy="801360"/>
          </a:xfrm>
        </p:grpSpPr>
        <p:grpSp>
          <p:nvGrpSpPr>
            <p:cNvPr id="161" name=""/>
            <p:cNvGrpSpPr/>
            <p:nvPr/>
          </p:nvGrpSpPr>
          <p:grpSpPr>
            <a:xfrm>
              <a:off x="6915240" y="1424160"/>
              <a:ext cx="823680" cy="801360"/>
              <a:chOff x="6915240" y="1424160"/>
              <a:chExt cx="823680" cy="8013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6915240" y="1424160"/>
                <a:ext cx="823680" cy="801360"/>
                <a:chOff x="6915240" y="1424160"/>
                <a:chExt cx="823680" cy="801360"/>
              </a:xfrm>
            </p:grpSpPr>
            <p:pic>
              <p:nvPicPr>
                <p:cNvPr id="16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915240" y="1424160"/>
                  <a:ext cx="823680" cy="79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>
                  <a:off x="6915240" y="1424160"/>
                  <a:ext cx="817200" cy="80136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997320" y="1431720"/>
                <a:ext cx="65052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6" name=""/>
            <p:cNvSpPr txBox="1"/>
            <p:nvPr/>
          </p:nvSpPr>
          <p:spPr>
            <a:xfrm>
              <a:off x="7196040" y="1639800"/>
              <a:ext cx="185040" cy="323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15240" y="2538360"/>
            <a:ext cx="823680" cy="801720"/>
            <a:chOff x="6915240" y="2538360"/>
            <a:chExt cx="823680" cy="801720"/>
          </a:xfrm>
        </p:grpSpPr>
        <p:grpSp>
          <p:nvGrpSpPr>
            <p:cNvPr id="168" name=""/>
            <p:cNvGrpSpPr/>
            <p:nvPr/>
          </p:nvGrpSpPr>
          <p:grpSpPr>
            <a:xfrm>
              <a:off x="6915240" y="2538360"/>
              <a:ext cx="823680" cy="801720"/>
              <a:chOff x="6915240" y="2538360"/>
              <a:chExt cx="823680" cy="8017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6915240" y="2538360"/>
                <a:ext cx="823680" cy="801720"/>
                <a:chOff x="6915240" y="2538360"/>
                <a:chExt cx="823680" cy="801720"/>
              </a:xfrm>
            </p:grpSpPr>
            <p:pic>
              <p:nvPicPr>
                <p:cNvPr id="17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15240" y="2538360"/>
                  <a:ext cx="823680" cy="79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"/>
                <p:cNvSpPr/>
                <p:nvPr/>
              </p:nvSpPr>
              <p:spPr>
                <a:xfrm>
                  <a:off x="6915240" y="2538360"/>
                  <a:ext cx="819000" cy="80172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320" y="2546280"/>
                <a:ext cx="652320" cy="28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" name=""/>
            <p:cNvSpPr txBox="1"/>
            <p:nvPr/>
          </p:nvSpPr>
          <p:spPr>
            <a:xfrm>
              <a:off x="7222680" y="2754360"/>
              <a:ext cx="228240" cy="323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915240" y="3630600"/>
            <a:ext cx="823680" cy="801720"/>
            <a:chOff x="6915240" y="3630600"/>
            <a:chExt cx="823680" cy="801720"/>
          </a:xfrm>
        </p:grpSpPr>
        <p:grpSp>
          <p:nvGrpSpPr>
            <p:cNvPr id="175" name=""/>
            <p:cNvGrpSpPr/>
            <p:nvPr/>
          </p:nvGrpSpPr>
          <p:grpSpPr>
            <a:xfrm>
              <a:off x="6915240" y="3630600"/>
              <a:ext cx="823680" cy="801720"/>
              <a:chOff x="6915240" y="3630600"/>
              <a:chExt cx="823680" cy="80172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6915240" y="3630600"/>
                <a:ext cx="823680" cy="801720"/>
                <a:chOff x="6915240" y="3630600"/>
                <a:chExt cx="823680" cy="801720"/>
              </a:xfrm>
            </p:grpSpPr>
            <p:pic>
              <p:nvPicPr>
                <p:cNvPr id="17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915240" y="3630600"/>
                  <a:ext cx="823680" cy="79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>
                  <a:off x="6915240" y="3630600"/>
                  <a:ext cx="819000" cy="80172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997320" y="3638520"/>
                <a:ext cx="652320" cy="28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"/>
            <p:cNvSpPr txBox="1"/>
            <p:nvPr/>
          </p:nvSpPr>
          <p:spPr>
            <a:xfrm>
              <a:off x="7222680" y="3846600"/>
              <a:ext cx="228240" cy="323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915240" y="4713120"/>
            <a:ext cx="823680" cy="801720"/>
            <a:chOff x="6915240" y="4713120"/>
            <a:chExt cx="823680" cy="801720"/>
          </a:xfrm>
        </p:grpSpPr>
        <p:grpSp>
          <p:nvGrpSpPr>
            <p:cNvPr id="182" name=""/>
            <p:cNvGrpSpPr/>
            <p:nvPr/>
          </p:nvGrpSpPr>
          <p:grpSpPr>
            <a:xfrm>
              <a:off x="6915240" y="4713120"/>
              <a:ext cx="823680" cy="801720"/>
              <a:chOff x="6915240" y="4713120"/>
              <a:chExt cx="823680" cy="801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915240" y="4713120"/>
                <a:ext cx="823680" cy="801720"/>
                <a:chOff x="6915240" y="4713120"/>
                <a:chExt cx="823680" cy="801720"/>
              </a:xfrm>
            </p:grpSpPr>
            <p:pic>
              <p:nvPicPr>
                <p:cNvPr id="1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15240" y="4713120"/>
                  <a:ext cx="823680" cy="79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6915240" y="4713120"/>
                  <a:ext cx="819000" cy="80172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97320" y="4721040"/>
                <a:ext cx="652320" cy="28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"/>
            <p:cNvSpPr txBox="1"/>
            <p:nvPr/>
          </p:nvSpPr>
          <p:spPr>
            <a:xfrm>
              <a:off x="7184880" y="4929120"/>
              <a:ext cx="266040" cy="323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080480" y="6489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1917720"/>
            <a:ext cx="8712000" cy="4390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3355920"/>
            <a:ext cx="259092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6708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9400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67080" y="3355920"/>
            <a:ext cx="259092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836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9400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044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3736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0440" y="3355920"/>
            <a:ext cx="259056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8172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3736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198756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1339920"/>
            <a:ext cx="2737080" cy="647640"/>
          </a:xfrm>
          <a:prstGeom prst="roundRect">
            <a:avLst>
              <a:gd name="adj" fmla="val 16667"/>
            </a:avLst>
          </a:prstGeom>
          <a:solidFill>
            <a:srgbClr val="1391d3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4920" y="1339920"/>
            <a:ext cx="27370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83080" y="145728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or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8640" y="28004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5280" y="2851200"/>
            <a:ext cx="22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00960" y="280044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57160" y="760320"/>
            <a:ext cx="408240" cy="331560"/>
            <a:chOff x="857160" y="760320"/>
            <a:chExt cx="408240" cy="331560"/>
          </a:xfrm>
        </p:grpSpPr>
        <p:sp>
          <p:nvSpPr>
            <p:cNvPr id="213" name=""/>
            <p:cNvSpPr/>
            <p:nvPr/>
          </p:nvSpPr>
          <p:spPr>
            <a:xfrm>
              <a:off x="857160" y="760320"/>
              <a:ext cx="408240" cy="194040"/>
            </a:xfrm>
            <a:prstGeom prst="roundRect">
              <a:avLst>
                <a:gd name="adj" fmla="val 81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4040" y="804240"/>
              <a:ext cx="292680" cy="287640"/>
            </a:xfrm>
            <a:prstGeom prst="roundRect">
              <a:avLst>
                <a:gd name="adj" fmla="val 5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787400" y="760320"/>
            <a:ext cx="408240" cy="382680"/>
          </a:xfrm>
          <a:prstGeom prst="roundRect">
            <a:avLst>
              <a:gd name="adj" fmla="val 417"/>
            </a:avLst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62280" y="696960"/>
            <a:ext cx="381240" cy="380520"/>
            <a:chOff x="3662280" y="696960"/>
            <a:chExt cx="381240" cy="380520"/>
          </a:xfrm>
        </p:grpSpPr>
        <p:sp>
          <p:nvSpPr>
            <p:cNvPr id="217" name=""/>
            <p:cNvSpPr/>
            <p:nvPr/>
          </p:nvSpPr>
          <p:spPr>
            <a:xfrm>
              <a:off x="3746160" y="696960"/>
              <a:ext cx="213120" cy="172080"/>
            </a:xfrm>
            <a:prstGeom prst="roundRect">
              <a:avLst>
                <a:gd name="adj" fmla="val 92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62280" y="886320"/>
              <a:ext cx="381240" cy="191160"/>
            </a:xfrm>
            <a:prstGeom prst="roundRect">
              <a:avLst>
                <a:gd name="adj" fmla="val 83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527720" y="760320"/>
            <a:ext cx="473040" cy="319320"/>
          </a:xfrm>
          <a:prstGeom prst="roundRect">
            <a:avLst>
              <a:gd name="adj" fmla="val 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770200" y="696960"/>
            <a:ext cx="301680" cy="380520"/>
            <a:chOff x="2770200" y="696960"/>
            <a:chExt cx="301680" cy="380520"/>
          </a:xfrm>
        </p:grpSpPr>
        <p:sp>
          <p:nvSpPr>
            <p:cNvPr id="221" name=""/>
            <p:cNvSpPr/>
            <p:nvPr/>
          </p:nvSpPr>
          <p:spPr>
            <a:xfrm>
              <a:off x="2770200" y="847080"/>
              <a:ext cx="301680" cy="230400"/>
            </a:xfrm>
            <a:prstGeom prst="roundRect">
              <a:avLst>
                <a:gd name="adj" fmla="val 68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88920" y="696960"/>
              <a:ext cx="262080" cy="131040"/>
            </a:xfrm>
            <a:prstGeom prst="roundRect">
              <a:avLst>
                <a:gd name="adj" fmla="val 12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flipV="1" rot="10800000">
            <a:off x="2209680" y="4730760"/>
            <a:ext cx="4422960" cy="434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29080" y="1557360"/>
            <a:ext cx="1720800" cy="2570040"/>
          </a:xfrm>
          <a:prstGeom prst="pie">
            <a:avLst/>
          </a:prstGeom>
          <a:solidFill>
            <a:srgbClr val="79c2e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30400" y="3276720"/>
            <a:ext cx="2981520" cy="1708200"/>
          </a:xfrm>
          <a:prstGeom prst="pie">
            <a:avLst/>
          </a:prstGeom>
          <a:solidFill>
            <a:srgbClr val="79c2e6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95680" y="1558800"/>
            <a:ext cx="1730160" cy="2570400"/>
          </a:xfrm>
          <a:prstGeom prst="pie">
            <a:avLst/>
          </a:prstGeom>
          <a:solidFill>
            <a:srgbClr val="79c2e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6300000">
            <a:off x="2990520" y="3782880"/>
            <a:ext cx="38880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3500000">
            <a:off x="4232880" y="1656360"/>
            <a:ext cx="393840" cy="3891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0700000">
            <a:off x="5470200" y="3790800"/>
            <a:ext cx="390600" cy="392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833200" y="1672200"/>
            <a:ext cx="3207240" cy="3204000"/>
            <a:chOff x="2833200" y="1672200"/>
            <a:chExt cx="3207240" cy="3204000"/>
          </a:xfrm>
        </p:grpSpPr>
        <p:sp>
          <p:nvSpPr>
            <p:cNvPr id="231" name=""/>
            <p:cNvSpPr/>
            <p:nvPr/>
          </p:nvSpPr>
          <p:spPr>
            <a:xfrm rot="660000">
              <a:off x="3068640" y="1908000"/>
              <a:ext cx="2736360" cy="27320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139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660000">
              <a:off x="3222720" y="2056320"/>
              <a:ext cx="2427840" cy="2432880"/>
            </a:xfrm>
            <a:prstGeom prst="ellipse">
              <a:avLst/>
            </a:prstGeom>
            <a:solidFill>
              <a:srgbClr val="79c2e6"/>
            </a:solidFill>
            <a:ln w="9360">
              <a:solidFill>
                <a:srgbClr val="139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57160" y="760320"/>
            <a:ext cx="408240" cy="331560"/>
            <a:chOff x="857160" y="760320"/>
            <a:chExt cx="408240" cy="331560"/>
          </a:xfrm>
        </p:grpSpPr>
        <p:sp>
          <p:nvSpPr>
            <p:cNvPr id="234" name=""/>
            <p:cNvSpPr/>
            <p:nvPr/>
          </p:nvSpPr>
          <p:spPr>
            <a:xfrm>
              <a:off x="857160" y="760320"/>
              <a:ext cx="408240" cy="194040"/>
            </a:xfrm>
            <a:prstGeom prst="roundRect">
              <a:avLst>
                <a:gd name="adj" fmla="val 81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040" y="804240"/>
              <a:ext cx="292680" cy="287640"/>
            </a:xfrm>
            <a:prstGeom prst="roundRect">
              <a:avLst>
                <a:gd name="adj" fmla="val 5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787400" y="760320"/>
            <a:ext cx="408240" cy="382680"/>
          </a:xfrm>
          <a:prstGeom prst="roundRect">
            <a:avLst>
              <a:gd name="adj" fmla="val 4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62280" y="696960"/>
            <a:ext cx="381240" cy="380520"/>
            <a:chOff x="3662280" y="696960"/>
            <a:chExt cx="381240" cy="380520"/>
          </a:xfrm>
        </p:grpSpPr>
        <p:sp>
          <p:nvSpPr>
            <p:cNvPr id="238" name=""/>
            <p:cNvSpPr/>
            <p:nvPr/>
          </p:nvSpPr>
          <p:spPr>
            <a:xfrm>
              <a:off x="3746160" y="696960"/>
              <a:ext cx="213120" cy="172080"/>
            </a:xfrm>
            <a:prstGeom prst="roundRect">
              <a:avLst>
                <a:gd name="adj" fmla="val 92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62280" y="886320"/>
              <a:ext cx="381240" cy="191160"/>
            </a:xfrm>
            <a:prstGeom prst="roundRect">
              <a:avLst>
                <a:gd name="adj" fmla="val 83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527720" y="760320"/>
            <a:ext cx="473040" cy="319320"/>
          </a:xfrm>
          <a:prstGeom prst="roundRect">
            <a:avLst>
              <a:gd name="adj" fmla="val 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770200" y="696960"/>
            <a:ext cx="301680" cy="380520"/>
            <a:chOff x="2770200" y="696960"/>
            <a:chExt cx="301680" cy="380520"/>
          </a:xfrm>
        </p:grpSpPr>
        <p:sp>
          <p:nvSpPr>
            <p:cNvPr id="242" name=""/>
            <p:cNvSpPr/>
            <p:nvPr/>
          </p:nvSpPr>
          <p:spPr>
            <a:xfrm>
              <a:off x="2770200" y="847080"/>
              <a:ext cx="301680" cy="230400"/>
            </a:xfrm>
            <a:prstGeom prst="roundRect">
              <a:avLst>
                <a:gd name="adj" fmla="val 681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88920" y="696960"/>
              <a:ext cx="262080" cy="131040"/>
            </a:xfrm>
            <a:prstGeom prst="roundRect">
              <a:avLst>
                <a:gd name="adj" fmla="val 1218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93800" y="3067200"/>
            <a:ext cx="2952720" cy="57780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6880" y="3067200"/>
            <a:ext cx="279720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09800" y="3139920"/>
            <a:ext cx="2574720" cy="48276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39960" y="3067200"/>
            <a:ext cx="149040" cy="95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66880" y="3139920"/>
            <a:ext cx="269532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160" y="6381720"/>
            <a:ext cx="151452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2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10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24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2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7960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94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2252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4944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494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8288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2580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88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2580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2580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1816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610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800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56360" y="6381720"/>
            <a:ext cx="151452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294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992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2944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294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31280" y="5734080"/>
            <a:ext cx="151272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3596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0580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3596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3596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0880" y="3067200"/>
            <a:ext cx="2952720" cy="57780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03960" y="3067200"/>
            <a:ext cx="279720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3139920"/>
            <a:ext cx="2574720" cy="48276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77040" y="3067200"/>
            <a:ext cx="149040" cy="95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03960" y="3139920"/>
            <a:ext cx="269532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71960" y="1628640"/>
            <a:ext cx="2952720" cy="57816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1800" y="1628640"/>
            <a:ext cx="280008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87600" y="1701720"/>
            <a:ext cx="2571840" cy="47952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14880" y="1628640"/>
            <a:ext cx="152280" cy="95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1800" y="1701720"/>
            <a:ext cx="269856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158920" y="1844640"/>
            <a:ext cx="1015920" cy="18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62160" y="1844640"/>
            <a:ext cx="1440" cy="1225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62160" y="3645000"/>
            <a:ext cx="1440" cy="72072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3800" y="4149720"/>
            <a:ext cx="144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800" y="4149720"/>
            <a:ext cx="2952720" cy="1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46520" y="4149720"/>
            <a:ext cx="144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24680" y="1844640"/>
            <a:ext cx="933480" cy="18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58160" y="1844640"/>
            <a:ext cx="1440" cy="1225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8160" y="3645000"/>
            <a:ext cx="1440" cy="72072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546880" y="4146480"/>
            <a:ext cx="1440" cy="22248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46880" y="4149720"/>
            <a:ext cx="2879640" cy="1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26520" y="4149720"/>
            <a:ext cx="144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89480" y="1739880"/>
            <a:ext cx="23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rand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323208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24520" y="32194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 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4680" y="2206800"/>
            <a:ext cx="2806920" cy="14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66880" y="3648240"/>
            <a:ext cx="2736720" cy="14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77040" y="3648240"/>
            <a:ext cx="2736720" cy="21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57160" y="760320"/>
            <a:ext cx="408240" cy="331560"/>
            <a:chOff x="857160" y="760320"/>
            <a:chExt cx="408240" cy="331560"/>
          </a:xfrm>
        </p:grpSpPr>
        <p:sp>
          <p:nvSpPr>
            <p:cNvPr id="308" name=""/>
            <p:cNvSpPr/>
            <p:nvPr/>
          </p:nvSpPr>
          <p:spPr>
            <a:xfrm>
              <a:off x="857160" y="760320"/>
              <a:ext cx="408240" cy="194040"/>
            </a:xfrm>
            <a:prstGeom prst="roundRect">
              <a:avLst>
                <a:gd name="adj" fmla="val 81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4040" y="804240"/>
              <a:ext cx="292680" cy="287640"/>
            </a:xfrm>
            <a:prstGeom prst="roundRect">
              <a:avLst>
                <a:gd name="adj" fmla="val 5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787400" y="760320"/>
            <a:ext cx="408240" cy="382680"/>
          </a:xfrm>
          <a:prstGeom prst="roundRect">
            <a:avLst>
              <a:gd name="adj" fmla="val 4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662280" y="696960"/>
            <a:ext cx="381240" cy="380520"/>
            <a:chOff x="3662280" y="696960"/>
            <a:chExt cx="381240" cy="380520"/>
          </a:xfrm>
        </p:grpSpPr>
        <p:sp>
          <p:nvSpPr>
            <p:cNvPr id="312" name=""/>
            <p:cNvSpPr/>
            <p:nvPr/>
          </p:nvSpPr>
          <p:spPr>
            <a:xfrm>
              <a:off x="3746160" y="696960"/>
              <a:ext cx="213120" cy="172080"/>
            </a:xfrm>
            <a:prstGeom prst="roundRect">
              <a:avLst>
                <a:gd name="adj" fmla="val 926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62280" y="886320"/>
              <a:ext cx="381240" cy="191160"/>
            </a:xfrm>
            <a:prstGeom prst="roundRect">
              <a:avLst>
                <a:gd name="adj" fmla="val 833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527720" y="760320"/>
            <a:ext cx="473040" cy="319320"/>
          </a:xfrm>
          <a:prstGeom prst="roundRect">
            <a:avLst>
              <a:gd name="adj" fmla="val 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770200" y="696960"/>
            <a:ext cx="301680" cy="380520"/>
            <a:chOff x="2770200" y="696960"/>
            <a:chExt cx="301680" cy="380520"/>
          </a:xfrm>
        </p:grpSpPr>
        <p:sp>
          <p:nvSpPr>
            <p:cNvPr id="316" name=""/>
            <p:cNvSpPr/>
            <p:nvPr/>
          </p:nvSpPr>
          <p:spPr>
            <a:xfrm>
              <a:off x="2770200" y="847080"/>
              <a:ext cx="301680" cy="230400"/>
            </a:xfrm>
            <a:prstGeom prst="roundRect">
              <a:avLst>
                <a:gd name="adj" fmla="val 68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88920" y="696960"/>
              <a:ext cx="262080" cy="131040"/>
            </a:xfrm>
            <a:prstGeom prst="roundRect">
              <a:avLst>
                <a:gd name="adj" fmla="val 12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034400" y="6445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857160" y="760320"/>
            <a:ext cx="408240" cy="331560"/>
            <a:chOff x="857160" y="760320"/>
            <a:chExt cx="408240" cy="331560"/>
          </a:xfrm>
        </p:grpSpPr>
        <p:sp>
          <p:nvSpPr>
            <p:cNvPr id="320" name=""/>
            <p:cNvSpPr/>
            <p:nvPr/>
          </p:nvSpPr>
          <p:spPr>
            <a:xfrm>
              <a:off x="857160" y="760320"/>
              <a:ext cx="408240" cy="194040"/>
            </a:xfrm>
            <a:prstGeom prst="roundRect">
              <a:avLst>
                <a:gd name="adj" fmla="val 81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4040" y="804240"/>
              <a:ext cx="292680" cy="287640"/>
            </a:xfrm>
            <a:prstGeom prst="roundRect">
              <a:avLst>
                <a:gd name="adj" fmla="val 5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787400" y="760320"/>
            <a:ext cx="408240" cy="382680"/>
          </a:xfrm>
          <a:prstGeom prst="roundRect">
            <a:avLst>
              <a:gd name="adj" fmla="val 4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662280" y="696960"/>
            <a:ext cx="381240" cy="380520"/>
            <a:chOff x="3662280" y="696960"/>
            <a:chExt cx="381240" cy="380520"/>
          </a:xfrm>
        </p:grpSpPr>
        <p:sp>
          <p:nvSpPr>
            <p:cNvPr id="324" name=""/>
            <p:cNvSpPr/>
            <p:nvPr/>
          </p:nvSpPr>
          <p:spPr>
            <a:xfrm>
              <a:off x="3746160" y="696960"/>
              <a:ext cx="213120" cy="172080"/>
            </a:xfrm>
            <a:prstGeom prst="roundRect">
              <a:avLst>
                <a:gd name="adj" fmla="val 92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62280" y="886320"/>
              <a:ext cx="381240" cy="191160"/>
            </a:xfrm>
            <a:prstGeom prst="roundRect">
              <a:avLst>
                <a:gd name="adj" fmla="val 83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27720" y="760320"/>
            <a:ext cx="473040" cy="319320"/>
          </a:xfrm>
          <a:prstGeom prst="roundRect">
            <a:avLst>
              <a:gd name="adj" fmla="val 500"/>
            </a:avLst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770200" y="696960"/>
            <a:ext cx="301680" cy="380520"/>
            <a:chOff x="2770200" y="696960"/>
            <a:chExt cx="301680" cy="380520"/>
          </a:xfrm>
        </p:grpSpPr>
        <p:sp>
          <p:nvSpPr>
            <p:cNvPr id="328" name=""/>
            <p:cNvSpPr/>
            <p:nvPr/>
          </p:nvSpPr>
          <p:spPr>
            <a:xfrm>
              <a:off x="2770200" y="847080"/>
              <a:ext cx="301680" cy="230400"/>
            </a:xfrm>
            <a:prstGeom prst="roundRect">
              <a:avLst>
                <a:gd name="adj" fmla="val 68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8920" y="696960"/>
              <a:ext cx="262080" cy="131040"/>
            </a:xfrm>
            <a:prstGeom prst="roundRect">
              <a:avLst>
                <a:gd name="adj" fmla="val 12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124000" y="2709720"/>
            <a:ext cx="5256360" cy="2667240"/>
          </a:xfrm>
          <a:prstGeom prst="roundRect">
            <a:avLst>
              <a:gd name="adj" fmla="val 787"/>
            </a:avLst>
          </a:prstGeom>
          <a:gradFill rotWithShape="0">
            <a:gsLst>
              <a:gs pos="0">
                <a:srgbClr val="3c3c3c"/>
              </a:gs>
              <a:gs pos="100000">
                <a:srgbClr val="141414"/>
              </a:gs>
            </a:gsLst>
            <a:lin ang="54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2709720"/>
            <a:ext cx="360360" cy="26672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667240"/>
              <a:gd name="textAreaBottom" fmla="*/ 2649960 h 2667240"/>
            </a:gdLst>
            <a:ahLst/>
            <a:rect l="textAreaLeft" t="textAreaTop" r="textAreaRight" b="textAreaBottom"/>
            <a:pathLst>
              <a:path w="21600" h="159737">
                <a:moveTo>
                  <a:pt x="3600" y="0"/>
                </a:moveTo>
                <a:arcTo wR="3600" hR="3600" stAng="16200000" swAng="-5400000"/>
                <a:lnTo>
                  <a:pt x="0" y="156137"/>
                </a:lnTo>
                <a:arcTo wR="3600" hR="3600" stAng="10800000" swAng="-5400000"/>
                <a:lnTo>
                  <a:pt x="18000" y="1597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c3c3c"/>
              </a:gs>
              <a:gs pos="100000">
                <a:srgbClr val="141414"/>
              </a:gs>
            </a:gsLst>
            <a:lin ang="54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2782800"/>
            <a:ext cx="75960" cy="252108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2521080"/>
              <a:gd name="textAreaBottom" fmla="*/ 2517480 h 2521080"/>
            </a:gdLst>
            <a:ahLst/>
            <a:rect l="textAreaLeft" t="textAreaTop" r="textAreaRight" b="textAreaBottom"/>
            <a:pathLst>
              <a:path w="21600" h="713615">
                <a:moveTo>
                  <a:pt x="3600" y="0"/>
                </a:moveTo>
                <a:arcTo wR="3600" hR="3600" stAng="16200000" swAng="-5400000"/>
                <a:lnTo>
                  <a:pt x="0" y="710015"/>
                </a:lnTo>
                <a:arcTo wR="3600" hR="3600" stAng="10800000" swAng="-5400000"/>
                <a:lnTo>
                  <a:pt x="18000" y="713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2998800"/>
            <a:ext cx="4537080" cy="863640"/>
          </a:xfrm>
          <a:prstGeom prst="roundRect">
            <a:avLst>
              <a:gd name="adj" fmla="val 77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335320" y="2992320"/>
            <a:ext cx="4545000" cy="876240"/>
            <a:chOff x="2335320" y="2992320"/>
            <a:chExt cx="4545000" cy="87624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2335320" y="2992320"/>
              <a:ext cx="45450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360520" y="3015720"/>
              <a:ext cx="449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340000" y="4799160"/>
            <a:ext cx="3889440" cy="36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1e1e"/>
              </a:gs>
              <a:gs pos="100000">
                <a:srgbClr val="272727"/>
              </a:gs>
            </a:gsLst>
            <a:lin ang="5400000"/>
          </a:gradFill>
          <a:ln w="1908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72360" y="4799160"/>
            <a:ext cx="792000" cy="36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4646"/>
              </a:gs>
              <a:gs pos="50000">
                <a:srgbClr val="393939"/>
              </a:gs>
              <a:gs pos="100000">
                <a:srgbClr val="464646"/>
              </a:gs>
            </a:gsLst>
            <a:lin ang="10800000"/>
          </a:gradFill>
          <a:ln w="12600">
            <a:solidFill>
              <a:srgbClr val="65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030320" y="2620800"/>
            <a:ext cx="650880" cy="322560"/>
            <a:chOff x="1030320" y="2620800"/>
            <a:chExt cx="650880" cy="32256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1030320" y="2620800"/>
              <a:ext cx="65088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 rot="16140000">
              <a:off x="1152720" y="2548080"/>
              <a:ext cx="2606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044720" y="2639880"/>
            <a:ext cx="50472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44720" y="263988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52800" y="1566720"/>
            <a:ext cx="31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tac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74920" y="3049560"/>
            <a:ext cx="4286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CT 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95560" y="404964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elcome to visit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44840" y="4827600"/>
            <a:ext cx="3539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10160" y="4840200"/>
            <a:ext cx="75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13080" y="2062080"/>
            <a:ext cx="18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your slogan goes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6120" y="5877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33440" y="5815080"/>
            <a:ext cx="62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15:57:43Z</dcterms:created>
  <dc:creator>闃胯揪娓</dc:creator>
  <dc:description/>
  <dc:language>en-US</dc:language>
  <cp:lastModifiedBy>闆ㄦ灄鏈ㄩ</cp:lastModifiedBy>
  <dcterms:modified xsi:type="dcterms:W3CDTF">2015-01-07T17:14:24Z</dcterms:modified>
  <cp:revision>2</cp:revision>
  <dc:subject/>
  <dc:title>钃濊壊闆呰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