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4D86-68D8-487D-940E-641C8DC1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16A3-FA8B-417E-AA25-01837AD4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9D23-F783-4D5A-9EE6-1E26D3A5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E950-0A58-42CF-9EAF-C25B2539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77F8-E040-4A3F-915D-6EB3308D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35B-1EA8-4D19-BA8C-CFA75A7E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D1EF-31E3-4838-B70E-5D652389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8EFD-C8FC-4F7A-A6BB-4FB1D926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86BA-294A-4F61-A0BD-CCB8FFBE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A0EE-DEBE-4FE9-B1BB-1BC5FD78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7882-6510-460A-A694-5F9F7088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2AED-9108-4BCA-B138-95A9C125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8707" t="36480" r="0" b="0"/>
          <a:stretch/>
        </p:blipFill>
        <p:spPr>
          <a:xfrm>
            <a:off x="0" y="1440"/>
            <a:ext cx="3679920" cy="1600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92ED-8023-43A6-B469-D78CB70554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973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0" y="6858000"/>
            <a:ext cx="9144000" cy="85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"/>
          <p:cNvPicPr/>
          <p:nvPr/>
        </p:nvPicPr>
        <p:blipFill>
          <a:blip r:embed="rId2"/>
          <a:stretch/>
        </p:blipFill>
        <p:spPr>
          <a:xfrm>
            <a:off x="0" y="6858000"/>
            <a:ext cx="4572000" cy="8571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4572000" y="714204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果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工作室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weibo.com/guoyin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39333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黄色动感音乐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81120" y="5241960"/>
            <a:ext cx="640080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48" name=""/>
          <p:cNvSpPr/>
          <p:nvPr/>
        </p:nvSpPr>
        <p:spPr>
          <a:xfrm>
            <a:off x="5698440" y="6237360"/>
            <a:ext cx="41540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319800"/>
            <a:ext cx="607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08:46:00Z</dcterms:created>
  <dc:creator>果因PPT工作室</dc:creator>
  <dc:description/>
  <cp:keywords>XS-普屏 4：3;SC-淡黄色;BG-浅色;DH-静态;XJ-二级</cp:keywords>
  <dc:language>en-US</dc:language>
  <cp:lastModifiedBy>田士庆</cp:lastModifiedBy>
  <dcterms:modified xsi:type="dcterms:W3CDTF">2015-01-07T14:52:04Z</dcterms:modified>
  <cp:revision>2</cp:revision>
  <dc:subject>TP-流行娱乐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