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25C-C560-4641-BCA2-0026A8B4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66C-067C-46C0-9411-814DFC59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33C-3FE3-464E-80C8-2AE3B544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304-E1E0-4907-B374-B2EDC0D0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139-0A88-4C7B-8E8F-ADDE7850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B4F-13F5-464F-85D7-5FE007CC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573-CA04-4EAF-81B4-847D0874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8F8-0179-4966-ADC0-E8497579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E60-0BDB-4BE5-9E20-B1AC3A15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CEB-0717-4947-9771-3896C39D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4CA-4B3E-4370-96AF-4FAA1353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DB9-7576-4531-9FA9-0F0DB0B9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278B-3C5C-4CE5-BB7E-26332CF7633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0624e"/>
                </a:solidFill>
                <a:latin typeface="Calibri"/>
              </a:rPr>
              <a:t>灰色古典国外</a:t>
            </a:r>
            <a:r>
              <a:rPr b="0" lang="en-US" sz="4800" spc="-1" strike="noStrike">
                <a:solidFill>
                  <a:srgbClr val="60624e"/>
                </a:solidFill>
                <a:latin typeface="Calibri"/>
              </a:rPr>
              <a:t>PPT</a:t>
            </a:r>
            <a:r>
              <a:rPr b="0" lang="zh-CN" sz="4800" spc="-1" strike="noStrike">
                <a:solidFill>
                  <a:srgbClr val="60624e"/>
                </a:solidFill>
                <a:latin typeface="Calibri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1324080" y="6381720"/>
            <a:ext cx="61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/>
  <dc:description/>
  <dc:language>en-US</dc:language>
  <cp:lastModifiedBy>Éric Vadeboncoeur</cp:lastModifiedBy>
  <dcterms:modified xsi:type="dcterms:W3CDTF">2015-01-07T14:33:0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