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3B2-E0D2-43AE-A68B-0F011DF3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036-022C-46D4-BB27-E4B39618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EA5-1101-43F5-9F60-D1D8D58C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1BF-BF7F-4BED-A06B-7B30D57B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571F-042C-42B8-AF01-514D0321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1C68-E25F-46DF-9565-77A9EDED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6131-EBA2-4F37-B18F-60BA4DF7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C80B-199F-4A5E-B21C-93223D43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D28C-3758-4AF0-9ADB-E09ECE7E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36CB-C8C2-432F-9C82-692B0328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0F37-FB12-4B04-929C-2224DD64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4AD-9850-4696-BCCB-7C32ADB0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AD61-2C43-41F4-AA4D-39E90DF6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99E3-4721-4565-98AE-C607407B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934F-6F11-49B2-A8AB-570ABE30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02F2-4F0D-40D1-A7D9-7FA9F4C3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FD83-D9DB-4F45-BDBF-AF1F0C39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E69-45BC-415C-85D7-C3E6EF52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CBB-AC31-4DE7-9EA6-483E44AA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E75-22E7-4267-84E1-52A435F8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04B-06B7-4BDF-9243-CF8A91A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D99-A0FF-4FAD-8354-9A3516D8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1C3-6DE5-47B8-B9A6-592083AA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A76-B94F-455D-8221-942B791E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4427640"/>
            <a:ext cx="914400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C:\Users\Administrator\Desktop\013.jpg"/>
          <p:cNvPicPr/>
          <p:nvPr/>
        </p:nvPicPr>
        <p:blipFill>
          <a:blip r:embed="rId3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B5DE-AEED-4E2B-B674-701F7C3B4D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013.jpg"/>
          <p:cNvPicPr/>
          <p:nvPr/>
        </p:nvPicPr>
        <p:blipFill>
          <a:blip r:embed="rId3"/>
          <a:stretch/>
        </p:blipFill>
        <p:spPr>
          <a:xfrm>
            <a:off x="5226120" y="0"/>
            <a:ext cx="3917880" cy="9795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0"/>
            <a:ext cx="8028000" cy="980640"/>
            <a:chOff x="0" y="0"/>
            <a:chExt cx="8028000" cy="980640"/>
          </a:xfrm>
        </p:grpSpPr>
        <p:pic>
          <p:nvPicPr>
            <p:cNvPr id="45" name="矩形 7" descr=""/>
            <p:cNvPicPr/>
            <p:nvPr/>
          </p:nvPicPr>
          <p:blipFill>
            <a:blip r:embed="rId4"/>
            <a:stretch/>
          </p:blipFill>
          <p:spPr>
            <a:xfrm>
              <a:off x="0" y="1080"/>
              <a:ext cx="802800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8028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矩形 8"/>
          <p:cNvSpPr/>
          <p:nvPr/>
        </p:nvSpPr>
        <p:spPr>
          <a:xfrm>
            <a:off x="0" y="9795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C059-0B52-4457-97E3-A044ED66E0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黄色麦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8720" y="64533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638172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a6a21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a6a21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33:45Z</dcterms:created>
  <dc:creator/>
  <dc:description/>
  <dc:language>en-US</dc:language>
  <cp:lastModifiedBy>zouendong</cp:lastModifiedBy>
  <dcterms:modified xsi:type="dcterms:W3CDTF">2015-01-07T14:50:5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