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922-1A6C-410D-8DB7-B5C76799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373-0239-42EE-8A10-1C184518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AAF-722E-4871-B38C-70A3B09C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E52-00F4-4C37-9E4B-3CFE8826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D46-041C-4E4B-9733-D117581A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D8E-45FA-4546-8262-0E45FFAE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5C9-5398-4448-BDAC-AFD87BF9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4FD-5D99-4B2A-98B7-F5FF7525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B1A-E566-463D-AC04-BA44CA6B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009-F810-433E-81EC-B94E3A9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CEF-F47C-4973-A775-39B3927C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53D-DF72-435F-B265-B63C2FED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12CC-7448-4DB5-B9A6-64DA70C93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 rot="21240000">
            <a:off x="21960" y="6611760"/>
            <a:ext cx="647640" cy="2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5f5f5f"/>
                </a:solidFill>
                <a:latin typeface="Arial"/>
              </a:rPr>
              <a:t>灰色拼图</a:t>
            </a:r>
            <a:r>
              <a:rPr b="0" lang="zh-CN" sz="4400" spc="-1" strike="noStrike">
                <a:solidFill>
                  <a:srgbClr val="5f5f5f"/>
                </a:solidFill>
                <a:latin typeface="Arial"/>
                <a:ea typeface="宋体"/>
              </a:rPr>
              <a:t>PPT</a:t>
            </a:r>
            <a:r>
              <a:rPr b="0" lang="es-UY" sz="4400" spc="-1" strike="noStrike">
                <a:solidFill>
                  <a:srgbClr val="5f5f5f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960" y="6597720"/>
            <a:ext cx="344520" cy="233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40" y="6262560"/>
            <a:ext cx="538200" cy="596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4012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s-E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s-E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5-01-08T07:19:14Z</dcterms:modified>
  <cp:revision>5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