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757-CAA6-4D9C-B44C-436EEAFF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CF4-3B7A-45F5-ACCD-4575FCE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4D9-AE84-4E22-AB61-0C526C55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5C2-B8B0-4BF4-B619-AFCC6507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BFC0-F3E4-4F6C-991E-1390A65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EEE-498E-4925-9F56-C968270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54EB-22D1-41C1-81A7-927DC10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7BA-AD1F-4463-9602-CDED6FB0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A75F-9055-4221-9F87-5C1B469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98240" y="306360"/>
            <a:ext cx="744516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F07E-F1AA-4F20-9483-A217517F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CDB7-8684-447A-A1FA-AE9C977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E41-78F0-4F22-B8CE-D1381CA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6E6F-8882-40A9-A7C4-A4E4C53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08FB-3CA6-4BB4-B353-853C2BD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A377-2D90-403F-AE00-083AC059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BAD-A13A-413F-9307-23F831D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698-916B-4D48-9740-9C3A74B0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57D-7531-493F-8191-BD3B7D1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4EB-C552-42C9-A9C9-19744AA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D71-2806-48C7-B2EE-B80138F4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8240" y="306360"/>
            <a:ext cx="744516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03C-63F3-4672-888A-C40CA01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160-D2D3-43A1-BE1C-5B7DE88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821-B31A-40AD-A18A-E279EF9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710-3015-4A27-999A-3CD7C39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1600"/>
            <a:ext cx="9144000" cy="144360"/>
          </a:xfrm>
          <a:prstGeom prst="rect">
            <a:avLst/>
          </a:prstGeom>
          <a:gradFill rotWithShape="0">
            <a:gsLst>
              <a:gs pos="0">
                <a:srgbClr val="19222b">
                  <a:alpha val="0"/>
                </a:srgbClr>
              </a:gs>
              <a:gs pos="100000">
                <a:srgbClr val="384a5e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66680" y="5411880"/>
            <a:ext cx="1944720" cy="1235160"/>
            <a:chOff x="166680" y="5411880"/>
            <a:chExt cx="1944720" cy="1235160"/>
          </a:xfrm>
        </p:grpSpPr>
        <p:sp>
          <p:nvSpPr>
            <p:cNvPr id="2" name="未知"/>
            <p:cNvSpPr/>
            <p:nvPr/>
          </p:nvSpPr>
          <p:spPr>
            <a:xfrm>
              <a:off x="166680" y="5470560"/>
              <a:ext cx="307800" cy="1135800"/>
            </a:xfrm>
            <a:custGeom>
              <a:avLst/>
              <a:gdLst/>
              <a:ahLst/>
              <a:rect l="l" t="t" r="r" b="b"/>
              <a:pathLst>
                <a:path w="471" h="1736">
                  <a:moveTo>
                    <a:pt x="453" y="322"/>
                  </a:moveTo>
                  <a:cubicBezTo>
                    <a:pt x="417" y="282"/>
                    <a:pt x="417" y="282"/>
                    <a:pt x="417" y="282"/>
                  </a:cubicBezTo>
                  <a:cubicBezTo>
                    <a:pt x="429" y="275"/>
                    <a:pt x="429" y="275"/>
                    <a:pt x="429" y="275"/>
                  </a:cubicBezTo>
                  <a:cubicBezTo>
                    <a:pt x="429" y="275"/>
                    <a:pt x="412" y="222"/>
                    <a:pt x="401" y="222"/>
                  </a:cubicBezTo>
                  <a:cubicBezTo>
                    <a:pt x="401" y="222"/>
                    <a:pt x="390" y="207"/>
                    <a:pt x="400" y="195"/>
                  </a:cubicBezTo>
                  <a:cubicBezTo>
                    <a:pt x="400" y="195"/>
                    <a:pt x="429" y="164"/>
                    <a:pt x="427" y="143"/>
                  </a:cubicBezTo>
                  <a:cubicBezTo>
                    <a:pt x="427" y="143"/>
                    <a:pt x="416" y="86"/>
                    <a:pt x="409" y="70"/>
                  </a:cubicBezTo>
                  <a:cubicBezTo>
                    <a:pt x="403" y="54"/>
                    <a:pt x="360" y="0"/>
                    <a:pt x="293" y="35"/>
                  </a:cubicBezTo>
                  <a:cubicBezTo>
                    <a:pt x="227" y="70"/>
                    <a:pt x="260" y="147"/>
                    <a:pt x="260" y="147"/>
                  </a:cubicBezTo>
                  <a:cubicBezTo>
                    <a:pt x="260" y="147"/>
                    <a:pt x="265" y="158"/>
                    <a:pt x="264" y="166"/>
                  </a:cubicBezTo>
                  <a:cubicBezTo>
                    <a:pt x="264" y="166"/>
                    <a:pt x="275" y="239"/>
                    <a:pt x="303" y="247"/>
                  </a:cubicBezTo>
                  <a:cubicBezTo>
                    <a:pt x="303" y="247"/>
                    <a:pt x="301" y="260"/>
                    <a:pt x="297" y="260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73" y="278"/>
                    <a:pt x="262" y="293"/>
                    <a:pt x="231" y="296"/>
                  </a:cubicBezTo>
                  <a:cubicBezTo>
                    <a:pt x="231" y="296"/>
                    <a:pt x="196" y="310"/>
                    <a:pt x="189" y="326"/>
                  </a:cubicBezTo>
                  <a:cubicBezTo>
                    <a:pt x="189" y="326"/>
                    <a:pt x="169" y="368"/>
                    <a:pt x="161" y="380"/>
                  </a:cubicBezTo>
                  <a:cubicBezTo>
                    <a:pt x="161" y="380"/>
                    <a:pt x="153" y="388"/>
                    <a:pt x="148" y="400"/>
                  </a:cubicBezTo>
                  <a:cubicBezTo>
                    <a:pt x="148" y="400"/>
                    <a:pt x="145" y="412"/>
                    <a:pt x="140" y="415"/>
                  </a:cubicBezTo>
                  <a:cubicBezTo>
                    <a:pt x="140" y="415"/>
                    <a:pt x="129" y="423"/>
                    <a:pt x="127" y="430"/>
                  </a:cubicBezTo>
                  <a:cubicBezTo>
                    <a:pt x="127" y="430"/>
                    <a:pt x="116" y="446"/>
                    <a:pt x="117" y="454"/>
                  </a:cubicBezTo>
                  <a:cubicBezTo>
                    <a:pt x="117" y="454"/>
                    <a:pt x="93" y="476"/>
                    <a:pt x="93" y="488"/>
                  </a:cubicBezTo>
                  <a:cubicBezTo>
                    <a:pt x="93" y="488"/>
                    <a:pt x="60" y="499"/>
                    <a:pt x="63" y="540"/>
                  </a:cubicBezTo>
                  <a:cubicBezTo>
                    <a:pt x="63" y="540"/>
                    <a:pt x="56" y="588"/>
                    <a:pt x="76" y="590"/>
                  </a:cubicBezTo>
                  <a:cubicBezTo>
                    <a:pt x="147" y="610"/>
                    <a:pt x="147" y="610"/>
                    <a:pt x="147" y="610"/>
                  </a:cubicBezTo>
                  <a:cubicBezTo>
                    <a:pt x="140" y="640"/>
                    <a:pt x="140" y="640"/>
                    <a:pt x="140" y="640"/>
                  </a:cubicBezTo>
                  <a:cubicBezTo>
                    <a:pt x="145" y="640"/>
                    <a:pt x="145" y="640"/>
                    <a:pt x="145" y="640"/>
                  </a:cubicBezTo>
                  <a:cubicBezTo>
                    <a:pt x="145" y="640"/>
                    <a:pt x="135" y="696"/>
                    <a:pt x="125" y="726"/>
                  </a:cubicBezTo>
                  <a:cubicBezTo>
                    <a:pt x="125" y="726"/>
                    <a:pt x="129" y="734"/>
                    <a:pt x="141" y="734"/>
                  </a:cubicBezTo>
                  <a:cubicBezTo>
                    <a:pt x="141" y="734"/>
                    <a:pt x="143" y="780"/>
                    <a:pt x="139" y="786"/>
                  </a:cubicBezTo>
                  <a:cubicBezTo>
                    <a:pt x="139" y="786"/>
                    <a:pt x="128" y="799"/>
                    <a:pt x="128" y="811"/>
                  </a:cubicBezTo>
                  <a:cubicBezTo>
                    <a:pt x="128" y="811"/>
                    <a:pt x="127" y="828"/>
                    <a:pt x="127" y="835"/>
                  </a:cubicBezTo>
                  <a:cubicBezTo>
                    <a:pt x="127" y="835"/>
                    <a:pt x="112" y="857"/>
                    <a:pt x="112" y="867"/>
                  </a:cubicBezTo>
                  <a:cubicBezTo>
                    <a:pt x="112" y="867"/>
                    <a:pt x="106" y="902"/>
                    <a:pt x="103" y="916"/>
                  </a:cubicBezTo>
                  <a:cubicBezTo>
                    <a:pt x="103" y="916"/>
                    <a:pt x="87" y="1043"/>
                    <a:pt x="91" y="1056"/>
                  </a:cubicBezTo>
                  <a:cubicBezTo>
                    <a:pt x="91" y="1056"/>
                    <a:pt x="67" y="1170"/>
                    <a:pt x="73" y="1222"/>
                  </a:cubicBezTo>
                  <a:cubicBezTo>
                    <a:pt x="73" y="1222"/>
                    <a:pt x="83" y="1295"/>
                    <a:pt x="73" y="1330"/>
                  </a:cubicBezTo>
                  <a:cubicBezTo>
                    <a:pt x="73" y="1330"/>
                    <a:pt x="64" y="1392"/>
                    <a:pt x="64" y="1399"/>
                  </a:cubicBezTo>
                  <a:cubicBezTo>
                    <a:pt x="64" y="1399"/>
                    <a:pt x="52" y="1671"/>
                    <a:pt x="53" y="1686"/>
                  </a:cubicBezTo>
                  <a:cubicBezTo>
                    <a:pt x="53" y="1686"/>
                    <a:pt x="0" y="1702"/>
                    <a:pt x="1" y="1706"/>
                  </a:cubicBezTo>
                  <a:cubicBezTo>
                    <a:pt x="1" y="1706"/>
                    <a:pt x="84" y="1734"/>
                    <a:pt x="127" y="1726"/>
                  </a:cubicBezTo>
                  <a:cubicBezTo>
                    <a:pt x="127" y="1726"/>
                    <a:pt x="151" y="1703"/>
                    <a:pt x="152" y="1695"/>
                  </a:cubicBezTo>
                  <a:cubicBezTo>
                    <a:pt x="152" y="1695"/>
                    <a:pt x="199" y="1694"/>
                    <a:pt x="203" y="1688"/>
                  </a:cubicBezTo>
                  <a:cubicBezTo>
                    <a:pt x="203" y="1710"/>
                    <a:pt x="203" y="1710"/>
                    <a:pt x="203" y="1710"/>
                  </a:cubicBezTo>
                  <a:cubicBezTo>
                    <a:pt x="212" y="1708"/>
                    <a:pt x="212" y="1708"/>
                    <a:pt x="212" y="1708"/>
                  </a:cubicBezTo>
                  <a:cubicBezTo>
                    <a:pt x="216" y="1687"/>
                    <a:pt x="216" y="1687"/>
                    <a:pt x="216" y="1687"/>
                  </a:cubicBezTo>
                  <a:cubicBezTo>
                    <a:pt x="216" y="1687"/>
                    <a:pt x="229" y="1690"/>
                    <a:pt x="233" y="1687"/>
                  </a:cubicBezTo>
                  <a:cubicBezTo>
                    <a:pt x="235" y="1700"/>
                    <a:pt x="235" y="1700"/>
                    <a:pt x="235" y="1700"/>
                  </a:cubicBezTo>
                  <a:cubicBezTo>
                    <a:pt x="209" y="1722"/>
                    <a:pt x="209" y="1722"/>
                    <a:pt x="209" y="1722"/>
                  </a:cubicBezTo>
                  <a:cubicBezTo>
                    <a:pt x="209" y="1722"/>
                    <a:pt x="205" y="1727"/>
                    <a:pt x="219" y="1727"/>
                  </a:cubicBezTo>
                  <a:cubicBezTo>
                    <a:pt x="219" y="1727"/>
                    <a:pt x="317" y="1736"/>
                    <a:pt x="328" y="1706"/>
                  </a:cubicBezTo>
                  <a:cubicBezTo>
                    <a:pt x="328" y="1706"/>
                    <a:pt x="339" y="1703"/>
                    <a:pt x="348" y="1699"/>
                  </a:cubicBezTo>
                  <a:cubicBezTo>
                    <a:pt x="348" y="1704"/>
                    <a:pt x="348" y="1704"/>
                    <a:pt x="348" y="1704"/>
                  </a:cubicBezTo>
                  <a:cubicBezTo>
                    <a:pt x="356" y="1706"/>
                    <a:pt x="356" y="1706"/>
                    <a:pt x="356" y="1706"/>
                  </a:cubicBezTo>
                  <a:cubicBezTo>
                    <a:pt x="356" y="1690"/>
                    <a:pt x="356" y="1690"/>
                    <a:pt x="356" y="1690"/>
                  </a:cubicBezTo>
                  <a:cubicBezTo>
                    <a:pt x="356" y="1690"/>
                    <a:pt x="376" y="1676"/>
                    <a:pt x="379" y="1668"/>
                  </a:cubicBezTo>
                  <a:cubicBezTo>
                    <a:pt x="379" y="1668"/>
                    <a:pt x="375" y="1491"/>
                    <a:pt x="380" y="1486"/>
                  </a:cubicBezTo>
                  <a:cubicBezTo>
                    <a:pt x="380" y="1486"/>
                    <a:pt x="407" y="1190"/>
                    <a:pt x="375" y="1138"/>
                  </a:cubicBezTo>
                  <a:cubicBezTo>
                    <a:pt x="375" y="1138"/>
                    <a:pt x="381" y="1106"/>
                    <a:pt x="383" y="1095"/>
                  </a:cubicBezTo>
                  <a:cubicBezTo>
                    <a:pt x="396" y="950"/>
                    <a:pt x="396" y="950"/>
                    <a:pt x="396" y="950"/>
                  </a:cubicBezTo>
                  <a:cubicBezTo>
                    <a:pt x="396" y="950"/>
                    <a:pt x="440" y="872"/>
                    <a:pt x="389" y="740"/>
                  </a:cubicBezTo>
                  <a:cubicBezTo>
                    <a:pt x="389" y="740"/>
                    <a:pt x="359" y="638"/>
                    <a:pt x="348" y="628"/>
                  </a:cubicBezTo>
                  <a:cubicBezTo>
                    <a:pt x="348" y="628"/>
                    <a:pt x="361" y="606"/>
                    <a:pt x="345" y="579"/>
                  </a:cubicBezTo>
                  <a:cubicBezTo>
                    <a:pt x="345" y="579"/>
                    <a:pt x="375" y="564"/>
                    <a:pt x="375" y="547"/>
                  </a:cubicBezTo>
                  <a:cubicBezTo>
                    <a:pt x="375" y="547"/>
                    <a:pt x="389" y="546"/>
                    <a:pt x="399" y="526"/>
                  </a:cubicBezTo>
                  <a:cubicBezTo>
                    <a:pt x="399" y="526"/>
                    <a:pt x="421" y="474"/>
                    <a:pt x="427" y="474"/>
                  </a:cubicBezTo>
                  <a:cubicBezTo>
                    <a:pt x="427" y="474"/>
                    <a:pt x="451" y="468"/>
                    <a:pt x="453" y="420"/>
                  </a:cubicBezTo>
                  <a:cubicBezTo>
                    <a:pt x="453" y="420"/>
                    <a:pt x="471" y="359"/>
                    <a:pt x="453" y="322"/>
                  </a:cubicBezTo>
                  <a:close/>
                  <a:moveTo>
                    <a:pt x="262" y="1584"/>
                  </a:moveTo>
                  <a:cubicBezTo>
                    <a:pt x="259" y="1607"/>
                    <a:pt x="249" y="1609"/>
                    <a:pt x="249" y="1609"/>
                  </a:cubicBezTo>
                  <a:cubicBezTo>
                    <a:pt x="240" y="1535"/>
                    <a:pt x="210" y="1280"/>
                    <a:pt x="210" y="1280"/>
                  </a:cubicBezTo>
                  <a:cubicBezTo>
                    <a:pt x="205" y="1257"/>
                    <a:pt x="205" y="1225"/>
                    <a:pt x="205" y="1225"/>
                  </a:cubicBezTo>
                  <a:cubicBezTo>
                    <a:pt x="212" y="1200"/>
                    <a:pt x="223" y="1163"/>
                    <a:pt x="223" y="1163"/>
                  </a:cubicBezTo>
                  <a:cubicBezTo>
                    <a:pt x="227" y="1140"/>
                    <a:pt x="244" y="1093"/>
                    <a:pt x="244" y="1093"/>
                  </a:cubicBezTo>
                  <a:cubicBezTo>
                    <a:pt x="254" y="1102"/>
                    <a:pt x="255" y="1152"/>
                    <a:pt x="255" y="1152"/>
                  </a:cubicBezTo>
                  <a:cubicBezTo>
                    <a:pt x="261" y="1215"/>
                    <a:pt x="271" y="1224"/>
                    <a:pt x="271" y="1224"/>
                  </a:cubicBezTo>
                  <a:cubicBezTo>
                    <a:pt x="274" y="1234"/>
                    <a:pt x="275" y="1510"/>
                    <a:pt x="275" y="1510"/>
                  </a:cubicBezTo>
                  <a:cubicBezTo>
                    <a:pt x="267" y="1535"/>
                    <a:pt x="262" y="1584"/>
                    <a:pt x="262" y="1584"/>
                  </a:cubicBezTo>
                  <a:close/>
                </a:path>
              </a:pathLst>
            </a:custGeom>
            <a:solidFill>
              <a:srgbClr val="8ea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278280" y="5616720"/>
              <a:ext cx="160920" cy="166680"/>
            </a:xfrm>
            <a:custGeom>
              <a:avLst/>
              <a:gdLst/>
              <a:ahLst/>
              <a:rect l="l" t="t" r="r" b="b"/>
              <a:pathLst>
                <a:path w="246" h="255">
                  <a:moveTo>
                    <a:pt x="18" y="255"/>
                  </a:moveTo>
                  <a:cubicBezTo>
                    <a:pt x="18" y="255"/>
                    <a:pt x="0" y="215"/>
                    <a:pt x="18" y="193"/>
                  </a:cubicBezTo>
                  <a:cubicBezTo>
                    <a:pt x="18" y="193"/>
                    <a:pt x="72" y="126"/>
                    <a:pt x="78" y="108"/>
                  </a:cubicBezTo>
                  <a:cubicBezTo>
                    <a:pt x="78" y="108"/>
                    <a:pt x="99" y="80"/>
                    <a:pt x="100" y="77"/>
                  </a:cubicBezTo>
                  <a:cubicBezTo>
                    <a:pt x="101" y="74"/>
                    <a:pt x="103" y="59"/>
                    <a:pt x="103" y="59"/>
                  </a:cubicBezTo>
                  <a:cubicBezTo>
                    <a:pt x="129" y="39"/>
                    <a:pt x="129" y="39"/>
                    <a:pt x="129" y="39"/>
                  </a:cubicBezTo>
                  <a:cubicBezTo>
                    <a:pt x="128" y="59"/>
                    <a:pt x="128" y="59"/>
                    <a:pt x="128" y="59"/>
                  </a:cubicBezTo>
                  <a:cubicBezTo>
                    <a:pt x="57" y="152"/>
                    <a:pt x="57" y="152"/>
                    <a:pt x="57" y="152"/>
                  </a:cubicBezTo>
                  <a:cubicBezTo>
                    <a:pt x="141" y="70"/>
                    <a:pt x="141" y="70"/>
                    <a:pt x="141" y="70"/>
                  </a:cubicBezTo>
                  <a:cubicBezTo>
                    <a:pt x="139" y="59"/>
                    <a:pt x="139" y="59"/>
                    <a:pt x="139" y="59"/>
                  </a:cubicBezTo>
                  <a:cubicBezTo>
                    <a:pt x="139" y="59"/>
                    <a:pt x="134" y="50"/>
                    <a:pt x="152" y="43"/>
                  </a:cubicBezTo>
                  <a:cubicBezTo>
                    <a:pt x="152" y="43"/>
                    <a:pt x="224" y="14"/>
                    <a:pt x="229" y="0"/>
                  </a:cubicBezTo>
                  <a:cubicBezTo>
                    <a:pt x="229" y="0"/>
                    <a:pt x="239" y="6"/>
                    <a:pt x="243" y="18"/>
                  </a:cubicBezTo>
                  <a:cubicBezTo>
                    <a:pt x="246" y="25"/>
                    <a:pt x="246" y="25"/>
                    <a:pt x="246" y="25"/>
                  </a:cubicBezTo>
                  <a:cubicBezTo>
                    <a:pt x="246" y="25"/>
                    <a:pt x="215" y="32"/>
                    <a:pt x="180" y="50"/>
                  </a:cubicBezTo>
                  <a:cubicBezTo>
                    <a:pt x="180" y="50"/>
                    <a:pt x="38" y="159"/>
                    <a:pt x="28" y="254"/>
                  </a:cubicBezTo>
                  <a:lnTo>
                    <a:pt x="18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77720" y="5445000"/>
              <a:ext cx="390600" cy="1166040"/>
            </a:xfrm>
            <a:custGeom>
              <a:avLst/>
              <a:gdLst/>
              <a:ahLst/>
              <a:rect l="l" t="t" r="r" b="b"/>
              <a:pathLst>
                <a:path w="598" h="1782">
                  <a:moveTo>
                    <a:pt x="76" y="1693"/>
                  </a:moveTo>
                  <a:cubicBezTo>
                    <a:pt x="76" y="1693"/>
                    <a:pt x="51" y="1729"/>
                    <a:pt x="11" y="1743"/>
                  </a:cubicBezTo>
                  <a:cubicBezTo>
                    <a:pt x="11" y="1743"/>
                    <a:pt x="0" y="1753"/>
                    <a:pt x="5" y="1769"/>
                  </a:cubicBezTo>
                  <a:cubicBezTo>
                    <a:pt x="5" y="1769"/>
                    <a:pt x="65" y="1782"/>
                    <a:pt x="111" y="1759"/>
                  </a:cubicBezTo>
                  <a:cubicBezTo>
                    <a:pt x="111" y="1759"/>
                    <a:pt x="135" y="1737"/>
                    <a:pt x="136" y="1731"/>
                  </a:cubicBezTo>
                  <a:cubicBezTo>
                    <a:pt x="136" y="1731"/>
                    <a:pt x="141" y="1729"/>
                    <a:pt x="148" y="1737"/>
                  </a:cubicBezTo>
                  <a:cubicBezTo>
                    <a:pt x="148" y="1737"/>
                    <a:pt x="159" y="1740"/>
                    <a:pt x="172" y="1737"/>
                  </a:cubicBezTo>
                  <a:cubicBezTo>
                    <a:pt x="172" y="1737"/>
                    <a:pt x="195" y="1731"/>
                    <a:pt x="198" y="1726"/>
                  </a:cubicBezTo>
                  <a:cubicBezTo>
                    <a:pt x="198" y="1726"/>
                    <a:pt x="201" y="1706"/>
                    <a:pt x="198" y="1698"/>
                  </a:cubicBezTo>
                  <a:cubicBezTo>
                    <a:pt x="205" y="1661"/>
                    <a:pt x="205" y="1661"/>
                    <a:pt x="205" y="1661"/>
                  </a:cubicBezTo>
                  <a:cubicBezTo>
                    <a:pt x="205" y="1661"/>
                    <a:pt x="221" y="1609"/>
                    <a:pt x="209" y="1568"/>
                  </a:cubicBezTo>
                  <a:cubicBezTo>
                    <a:pt x="209" y="1568"/>
                    <a:pt x="205" y="1530"/>
                    <a:pt x="215" y="1502"/>
                  </a:cubicBezTo>
                  <a:cubicBezTo>
                    <a:pt x="215" y="1502"/>
                    <a:pt x="241" y="1337"/>
                    <a:pt x="245" y="1304"/>
                  </a:cubicBezTo>
                  <a:cubicBezTo>
                    <a:pt x="250" y="1272"/>
                    <a:pt x="260" y="1270"/>
                    <a:pt x="290" y="1132"/>
                  </a:cubicBezTo>
                  <a:cubicBezTo>
                    <a:pt x="290" y="1132"/>
                    <a:pt x="311" y="1050"/>
                    <a:pt x="317" y="1046"/>
                  </a:cubicBezTo>
                  <a:cubicBezTo>
                    <a:pt x="317" y="1046"/>
                    <a:pt x="330" y="1168"/>
                    <a:pt x="363" y="1199"/>
                  </a:cubicBezTo>
                  <a:cubicBezTo>
                    <a:pt x="363" y="1199"/>
                    <a:pt x="367" y="1299"/>
                    <a:pt x="380" y="1320"/>
                  </a:cubicBezTo>
                  <a:cubicBezTo>
                    <a:pt x="380" y="1320"/>
                    <a:pt x="376" y="1452"/>
                    <a:pt x="385" y="1471"/>
                  </a:cubicBezTo>
                  <a:cubicBezTo>
                    <a:pt x="393" y="1491"/>
                    <a:pt x="366" y="1515"/>
                    <a:pt x="363" y="1598"/>
                  </a:cubicBezTo>
                  <a:cubicBezTo>
                    <a:pt x="360" y="1680"/>
                    <a:pt x="378" y="1684"/>
                    <a:pt x="391" y="1694"/>
                  </a:cubicBezTo>
                  <a:cubicBezTo>
                    <a:pt x="397" y="1698"/>
                    <a:pt x="397" y="1698"/>
                    <a:pt x="397" y="1698"/>
                  </a:cubicBezTo>
                  <a:cubicBezTo>
                    <a:pt x="397" y="1698"/>
                    <a:pt x="403" y="1718"/>
                    <a:pt x="402" y="1721"/>
                  </a:cubicBezTo>
                  <a:cubicBezTo>
                    <a:pt x="400" y="1724"/>
                    <a:pt x="407" y="1732"/>
                    <a:pt x="405" y="1743"/>
                  </a:cubicBezTo>
                  <a:cubicBezTo>
                    <a:pt x="405" y="1743"/>
                    <a:pt x="396" y="1759"/>
                    <a:pt x="419" y="1765"/>
                  </a:cubicBezTo>
                  <a:cubicBezTo>
                    <a:pt x="419" y="1765"/>
                    <a:pt x="492" y="1779"/>
                    <a:pt x="496" y="1746"/>
                  </a:cubicBezTo>
                  <a:cubicBezTo>
                    <a:pt x="496" y="1746"/>
                    <a:pt x="500" y="1741"/>
                    <a:pt x="494" y="1723"/>
                  </a:cubicBezTo>
                  <a:cubicBezTo>
                    <a:pt x="494" y="1723"/>
                    <a:pt x="477" y="1701"/>
                    <a:pt x="477" y="1699"/>
                  </a:cubicBezTo>
                  <a:cubicBezTo>
                    <a:pt x="483" y="1699"/>
                    <a:pt x="483" y="1699"/>
                    <a:pt x="483" y="1699"/>
                  </a:cubicBezTo>
                  <a:cubicBezTo>
                    <a:pt x="483" y="1699"/>
                    <a:pt x="486" y="1661"/>
                    <a:pt x="488" y="1659"/>
                  </a:cubicBezTo>
                  <a:cubicBezTo>
                    <a:pt x="488" y="1659"/>
                    <a:pt x="498" y="1514"/>
                    <a:pt x="491" y="1507"/>
                  </a:cubicBezTo>
                  <a:cubicBezTo>
                    <a:pt x="491" y="1507"/>
                    <a:pt x="500" y="1463"/>
                    <a:pt x="500" y="1438"/>
                  </a:cubicBezTo>
                  <a:cubicBezTo>
                    <a:pt x="500" y="1438"/>
                    <a:pt x="499" y="1279"/>
                    <a:pt x="494" y="1268"/>
                  </a:cubicBezTo>
                  <a:cubicBezTo>
                    <a:pt x="490" y="1257"/>
                    <a:pt x="504" y="1144"/>
                    <a:pt x="504" y="1144"/>
                  </a:cubicBezTo>
                  <a:cubicBezTo>
                    <a:pt x="504" y="1144"/>
                    <a:pt x="514" y="1037"/>
                    <a:pt x="512" y="1025"/>
                  </a:cubicBezTo>
                  <a:cubicBezTo>
                    <a:pt x="511" y="1012"/>
                    <a:pt x="530" y="916"/>
                    <a:pt x="493" y="769"/>
                  </a:cubicBezTo>
                  <a:cubicBezTo>
                    <a:pt x="485" y="741"/>
                    <a:pt x="485" y="741"/>
                    <a:pt x="485" y="741"/>
                  </a:cubicBezTo>
                  <a:cubicBezTo>
                    <a:pt x="485" y="741"/>
                    <a:pt x="488" y="720"/>
                    <a:pt x="479" y="706"/>
                  </a:cubicBezTo>
                  <a:cubicBezTo>
                    <a:pt x="479" y="706"/>
                    <a:pt x="505" y="706"/>
                    <a:pt x="512" y="693"/>
                  </a:cubicBezTo>
                  <a:cubicBezTo>
                    <a:pt x="512" y="693"/>
                    <a:pt x="518" y="661"/>
                    <a:pt x="515" y="656"/>
                  </a:cubicBezTo>
                  <a:cubicBezTo>
                    <a:pt x="515" y="656"/>
                    <a:pt x="520" y="634"/>
                    <a:pt x="520" y="622"/>
                  </a:cubicBezTo>
                  <a:cubicBezTo>
                    <a:pt x="520" y="622"/>
                    <a:pt x="572" y="532"/>
                    <a:pt x="574" y="458"/>
                  </a:cubicBezTo>
                  <a:cubicBezTo>
                    <a:pt x="575" y="413"/>
                    <a:pt x="575" y="413"/>
                    <a:pt x="575" y="413"/>
                  </a:cubicBezTo>
                  <a:cubicBezTo>
                    <a:pt x="575" y="413"/>
                    <a:pt x="598" y="331"/>
                    <a:pt x="542" y="310"/>
                  </a:cubicBezTo>
                  <a:cubicBezTo>
                    <a:pt x="542" y="310"/>
                    <a:pt x="519" y="292"/>
                    <a:pt x="494" y="288"/>
                  </a:cubicBezTo>
                  <a:cubicBezTo>
                    <a:pt x="494" y="288"/>
                    <a:pt x="479" y="271"/>
                    <a:pt x="460" y="266"/>
                  </a:cubicBezTo>
                  <a:cubicBezTo>
                    <a:pt x="441" y="260"/>
                    <a:pt x="432" y="250"/>
                    <a:pt x="432" y="250"/>
                  </a:cubicBezTo>
                  <a:cubicBezTo>
                    <a:pt x="432" y="250"/>
                    <a:pt x="424" y="215"/>
                    <a:pt x="413" y="215"/>
                  </a:cubicBezTo>
                  <a:cubicBezTo>
                    <a:pt x="413" y="215"/>
                    <a:pt x="409" y="206"/>
                    <a:pt x="409" y="196"/>
                  </a:cubicBezTo>
                  <a:cubicBezTo>
                    <a:pt x="409" y="186"/>
                    <a:pt x="406" y="159"/>
                    <a:pt x="414" y="154"/>
                  </a:cubicBezTo>
                  <a:cubicBezTo>
                    <a:pt x="423" y="150"/>
                    <a:pt x="423" y="144"/>
                    <a:pt x="423" y="126"/>
                  </a:cubicBezTo>
                  <a:cubicBezTo>
                    <a:pt x="423" y="108"/>
                    <a:pt x="420" y="107"/>
                    <a:pt x="416" y="105"/>
                  </a:cubicBezTo>
                  <a:cubicBezTo>
                    <a:pt x="411" y="102"/>
                    <a:pt x="420" y="52"/>
                    <a:pt x="393" y="34"/>
                  </a:cubicBezTo>
                  <a:cubicBezTo>
                    <a:pt x="367" y="16"/>
                    <a:pt x="352" y="0"/>
                    <a:pt x="307" y="5"/>
                  </a:cubicBezTo>
                  <a:cubicBezTo>
                    <a:pt x="262" y="10"/>
                    <a:pt x="245" y="68"/>
                    <a:pt x="243" y="96"/>
                  </a:cubicBezTo>
                  <a:cubicBezTo>
                    <a:pt x="242" y="125"/>
                    <a:pt x="263" y="156"/>
                    <a:pt x="263" y="156"/>
                  </a:cubicBezTo>
                  <a:cubicBezTo>
                    <a:pt x="263" y="156"/>
                    <a:pt x="287" y="226"/>
                    <a:pt x="307" y="245"/>
                  </a:cubicBezTo>
                  <a:cubicBezTo>
                    <a:pt x="307" y="245"/>
                    <a:pt x="302" y="253"/>
                    <a:pt x="293" y="264"/>
                  </a:cubicBezTo>
                  <a:cubicBezTo>
                    <a:pt x="290" y="267"/>
                    <a:pt x="273" y="270"/>
                    <a:pt x="233" y="289"/>
                  </a:cubicBezTo>
                  <a:cubicBezTo>
                    <a:pt x="233" y="289"/>
                    <a:pt x="199" y="293"/>
                    <a:pt x="183" y="305"/>
                  </a:cubicBezTo>
                  <a:cubicBezTo>
                    <a:pt x="172" y="313"/>
                    <a:pt x="144" y="333"/>
                    <a:pt x="123" y="399"/>
                  </a:cubicBezTo>
                  <a:cubicBezTo>
                    <a:pt x="101" y="466"/>
                    <a:pt x="84" y="514"/>
                    <a:pt x="88" y="524"/>
                  </a:cubicBezTo>
                  <a:cubicBezTo>
                    <a:pt x="91" y="535"/>
                    <a:pt x="96" y="605"/>
                    <a:pt x="148" y="600"/>
                  </a:cubicBezTo>
                  <a:cubicBezTo>
                    <a:pt x="180" y="604"/>
                    <a:pt x="180" y="604"/>
                    <a:pt x="180" y="604"/>
                  </a:cubicBezTo>
                  <a:cubicBezTo>
                    <a:pt x="180" y="604"/>
                    <a:pt x="169" y="705"/>
                    <a:pt x="189" y="715"/>
                  </a:cubicBezTo>
                  <a:cubicBezTo>
                    <a:pt x="189" y="715"/>
                    <a:pt x="195" y="720"/>
                    <a:pt x="195" y="726"/>
                  </a:cubicBezTo>
                  <a:cubicBezTo>
                    <a:pt x="195" y="733"/>
                    <a:pt x="191" y="749"/>
                    <a:pt x="191" y="749"/>
                  </a:cubicBezTo>
                  <a:cubicBezTo>
                    <a:pt x="191" y="749"/>
                    <a:pt x="135" y="794"/>
                    <a:pt x="147" y="845"/>
                  </a:cubicBezTo>
                  <a:cubicBezTo>
                    <a:pt x="147" y="845"/>
                    <a:pt x="151" y="883"/>
                    <a:pt x="142" y="913"/>
                  </a:cubicBezTo>
                  <a:cubicBezTo>
                    <a:pt x="133" y="942"/>
                    <a:pt x="119" y="1118"/>
                    <a:pt x="114" y="1227"/>
                  </a:cubicBezTo>
                  <a:cubicBezTo>
                    <a:pt x="110" y="1337"/>
                    <a:pt x="102" y="1404"/>
                    <a:pt x="103" y="1480"/>
                  </a:cubicBezTo>
                  <a:cubicBezTo>
                    <a:pt x="105" y="1557"/>
                    <a:pt x="88" y="1635"/>
                    <a:pt x="88" y="1635"/>
                  </a:cubicBezTo>
                  <a:lnTo>
                    <a:pt x="76" y="1693"/>
                  </a:lnTo>
                  <a:close/>
                </a:path>
              </a:pathLst>
            </a:custGeom>
            <a:solidFill>
              <a:srgbClr val="384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44040" y="5636160"/>
              <a:ext cx="73080" cy="129960"/>
            </a:xfrm>
            <a:custGeom>
              <a:avLst/>
              <a:gdLst/>
              <a:ahLst/>
              <a:rect l="l" t="t" r="r" b="b"/>
              <a:pathLst>
                <a:path w="112" h="199">
                  <a:moveTo>
                    <a:pt x="80" y="0"/>
                  </a:moveTo>
                  <a:cubicBezTo>
                    <a:pt x="99" y="3"/>
                    <a:pt x="99" y="3"/>
                    <a:pt x="99" y="3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94" y="44"/>
                    <a:pt x="94" y="44"/>
                    <a:pt x="94" y="44"/>
                  </a:cubicBezTo>
                  <a:cubicBezTo>
                    <a:pt x="94" y="44"/>
                    <a:pt x="99" y="75"/>
                    <a:pt x="95" y="87"/>
                  </a:cubicBezTo>
                  <a:cubicBezTo>
                    <a:pt x="95" y="87"/>
                    <a:pt x="72" y="191"/>
                    <a:pt x="71" y="199"/>
                  </a:cubicBezTo>
                  <a:cubicBezTo>
                    <a:pt x="11" y="198"/>
                    <a:pt x="11" y="198"/>
                    <a:pt x="11" y="19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5" y="135"/>
                    <a:pt x="57" y="5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1" y="25"/>
                    <a:pt x="71" y="3"/>
                    <a:pt x="8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12000" y="5841000"/>
              <a:ext cx="65160" cy="11628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31" y="0"/>
                  </a:moveTo>
                  <a:cubicBezTo>
                    <a:pt x="57" y="9"/>
                    <a:pt x="57" y="9"/>
                    <a:pt x="57" y="9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100" y="27"/>
                    <a:pt x="100" y="27"/>
                    <a:pt x="100" y="27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31" y="178"/>
                    <a:pt x="31" y="178"/>
                    <a:pt x="31" y="178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36" y="2"/>
                    <a:pt x="3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56800" y="5411880"/>
              <a:ext cx="421200" cy="1226880"/>
            </a:xfrm>
            <a:custGeom>
              <a:avLst/>
              <a:gdLst/>
              <a:ahLst/>
              <a:rect l="l" t="t" r="r" b="b"/>
              <a:pathLst>
                <a:path w="645" h="1875">
                  <a:moveTo>
                    <a:pt x="641" y="780"/>
                  </a:moveTo>
                  <a:cubicBezTo>
                    <a:pt x="638" y="757"/>
                    <a:pt x="636" y="745"/>
                    <a:pt x="635" y="728"/>
                  </a:cubicBezTo>
                  <a:cubicBezTo>
                    <a:pt x="635" y="728"/>
                    <a:pt x="635" y="722"/>
                    <a:pt x="638" y="708"/>
                  </a:cubicBezTo>
                  <a:cubicBezTo>
                    <a:pt x="638" y="708"/>
                    <a:pt x="634" y="683"/>
                    <a:pt x="627" y="680"/>
                  </a:cubicBezTo>
                  <a:cubicBezTo>
                    <a:pt x="623" y="662"/>
                    <a:pt x="623" y="662"/>
                    <a:pt x="623" y="662"/>
                  </a:cubicBezTo>
                  <a:cubicBezTo>
                    <a:pt x="623" y="662"/>
                    <a:pt x="631" y="639"/>
                    <a:pt x="623" y="630"/>
                  </a:cubicBezTo>
                  <a:cubicBezTo>
                    <a:pt x="619" y="624"/>
                    <a:pt x="616" y="570"/>
                    <a:pt x="608" y="562"/>
                  </a:cubicBezTo>
                  <a:cubicBezTo>
                    <a:pt x="600" y="555"/>
                    <a:pt x="617" y="478"/>
                    <a:pt x="586" y="450"/>
                  </a:cubicBezTo>
                  <a:cubicBezTo>
                    <a:pt x="556" y="421"/>
                    <a:pt x="613" y="428"/>
                    <a:pt x="509" y="357"/>
                  </a:cubicBezTo>
                  <a:cubicBezTo>
                    <a:pt x="509" y="357"/>
                    <a:pt x="465" y="343"/>
                    <a:pt x="463" y="336"/>
                  </a:cubicBezTo>
                  <a:cubicBezTo>
                    <a:pt x="462" y="328"/>
                    <a:pt x="420" y="310"/>
                    <a:pt x="420" y="310"/>
                  </a:cubicBezTo>
                  <a:cubicBezTo>
                    <a:pt x="420" y="310"/>
                    <a:pt x="408" y="263"/>
                    <a:pt x="415" y="254"/>
                  </a:cubicBezTo>
                  <a:cubicBezTo>
                    <a:pt x="421" y="245"/>
                    <a:pt x="431" y="216"/>
                    <a:pt x="430" y="213"/>
                  </a:cubicBezTo>
                  <a:cubicBezTo>
                    <a:pt x="429" y="209"/>
                    <a:pt x="453" y="196"/>
                    <a:pt x="447" y="147"/>
                  </a:cubicBezTo>
                  <a:cubicBezTo>
                    <a:pt x="447" y="147"/>
                    <a:pt x="453" y="104"/>
                    <a:pt x="440" y="69"/>
                  </a:cubicBezTo>
                  <a:cubicBezTo>
                    <a:pt x="427" y="35"/>
                    <a:pt x="340" y="0"/>
                    <a:pt x="280" y="67"/>
                  </a:cubicBezTo>
                  <a:cubicBezTo>
                    <a:pt x="280" y="67"/>
                    <a:pt x="262" y="111"/>
                    <a:pt x="271" y="141"/>
                  </a:cubicBezTo>
                  <a:cubicBezTo>
                    <a:pt x="271" y="141"/>
                    <a:pt x="260" y="206"/>
                    <a:pt x="280" y="214"/>
                  </a:cubicBezTo>
                  <a:cubicBezTo>
                    <a:pt x="288" y="237"/>
                    <a:pt x="288" y="237"/>
                    <a:pt x="288" y="237"/>
                  </a:cubicBezTo>
                  <a:cubicBezTo>
                    <a:pt x="288" y="237"/>
                    <a:pt x="296" y="260"/>
                    <a:pt x="287" y="265"/>
                  </a:cubicBezTo>
                  <a:cubicBezTo>
                    <a:pt x="287" y="265"/>
                    <a:pt x="271" y="301"/>
                    <a:pt x="264" y="302"/>
                  </a:cubicBezTo>
                  <a:cubicBezTo>
                    <a:pt x="264" y="302"/>
                    <a:pt x="148" y="356"/>
                    <a:pt x="132" y="374"/>
                  </a:cubicBezTo>
                  <a:cubicBezTo>
                    <a:pt x="132" y="374"/>
                    <a:pt x="110" y="389"/>
                    <a:pt x="79" y="475"/>
                  </a:cubicBezTo>
                  <a:cubicBezTo>
                    <a:pt x="79" y="475"/>
                    <a:pt x="43" y="622"/>
                    <a:pt x="43" y="633"/>
                  </a:cubicBezTo>
                  <a:cubicBezTo>
                    <a:pt x="43" y="633"/>
                    <a:pt x="37" y="674"/>
                    <a:pt x="48" y="678"/>
                  </a:cubicBezTo>
                  <a:cubicBezTo>
                    <a:pt x="48" y="678"/>
                    <a:pt x="42" y="707"/>
                    <a:pt x="46" y="710"/>
                  </a:cubicBezTo>
                  <a:cubicBezTo>
                    <a:pt x="46" y="710"/>
                    <a:pt x="51" y="739"/>
                    <a:pt x="59" y="738"/>
                  </a:cubicBezTo>
                  <a:cubicBezTo>
                    <a:pt x="69" y="775"/>
                    <a:pt x="69" y="775"/>
                    <a:pt x="69" y="775"/>
                  </a:cubicBezTo>
                  <a:cubicBezTo>
                    <a:pt x="69" y="775"/>
                    <a:pt x="61" y="818"/>
                    <a:pt x="75" y="831"/>
                  </a:cubicBezTo>
                  <a:cubicBezTo>
                    <a:pt x="75" y="831"/>
                    <a:pt x="125" y="908"/>
                    <a:pt x="132" y="922"/>
                  </a:cubicBezTo>
                  <a:cubicBezTo>
                    <a:pt x="146" y="930"/>
                    <a:pt x="146" y="930"/>
                    <a:pt x="146" y="930"/>
                  </a:cubicBezTo>
                  <a:cubicBezTo>
                    <a:pt x="151" y="945"/>
                    <a:pt x="151" y="945"/>
                    <a:pt x="151" y="945"/>
                  </a:cubicBezTo>
                  <a:cubicBezTo>
                    <a:pt x="151" y="945"/>
                    <a:pt x="153" y="971"/>
                    <a:pt x="160" y="979"/>
                  </a:cubicBezTo>
                  <a:cubicBezTo>
                    <a:pt x="160" y="979"/>
                    <a:pt x="142" y="1089"/>
                    <a:pt x="138" y="1103"/>
                  </a:cubicBezTo>
                  <a:cubicBezTo>
                    <a:pt x="138" y="1103"/>
                    <a:pt x="119" y="1203"/>
                    <a:pt x="120" y="1248"/>
                  </a:cubicBezTo>
                  <a:cubicBezTo>
                    <a:pt x="120" y="1248"/>
                    <a:pt x="124" y="1282"/>
                    <a:pt x="112" y="1290"/>
                  </a:cubicBezTo>
                  <a:cubicBezTo>
                    <a:pt x="101" y="1298"/>
                    <a:pt x="100" y="1359"/>
                    <a:pt x="100" y="1359"/>
                  </a:cubicBezTo>
                  <a:cubicBezTo>
                    <a:pt x="100" y="1359"/>
                    <a:pt x="78" y="1419"/>
                    <a:pt x="85" y="1499"/>
                  </a:cubicBezTo>
                  <a:cubicBezTo>
                    <a:pt x="85" y="1499"/>
                    <a:pt x="73" y="1554"/>
                    <a:pt x="73" y="1587"/>
                  </a:cubicBezTo>
                  <a:cubicBezTo>
                    <a:pt x="73" y="1620"/>
                    <a:pt x="68" y="1672"/>
                    <a:pt x="68" y="1672"/>
                  </a:cubicBezTo>
                  <a:cubicBezTo>
                    <a:pt x="68" y="1672"/>
                    <a:pt x="50" y="1679"/>
                    <a:pt x="53" y="1705"/>
                  </a:cubicBezTo>
                  <a:cubicBezTo>
                    <a:pt x="57" y="1746"/>
                    <a:pt x="57" y="1746"/>
                    <a:pt x="57" y="1746"/>
                  </a:cubicBezTo>
                  <a:cubicBezTo>
                    <a:pt x="65" y="1754"/>
                    <a:pt x="65" y="1754"/>
                    <a:pt x="65" y="1754"/>
                  </a:cubicBezTo>
                  <a:cubicBezTo>
                    <a:pt x="65" y="1754"/>
                    <a:pt x="48" y="1797"/>
                    <a:pt x="12" y="1825"/>
                  </a:cubicBezTo>
                  <a:cubicBezTo>
                    <a:pt x="12" y="1825"/>
                    <a:pt x="0" y="1841"/>
                    <a:pt x="9" y="1860"/>
                  </a:cubicBezTo>
                  <a:cubicBezTo>
                    <a:pt x="9" y="1860"/>
                    <a:pt x="78" y="1875"/>
                    <a:pt x="118" y="1839"/>
                  </a:cubicBezTo>
                  <a:cubicBezTo>
                    <a:pt x="118" y="1839"/>
                    <a:pt x="123" y="1819"/>
                    <a:pt x="125" y="1815"/>
                  </a:cubicBezTo>
                  <a:cubicBezTo>
                    <a:pt x="125" y="1815"/>
                    <a:pt x="147" y="1821"/>
                    <a:pt x="161" y="1810"/>
                  </a:cubicBezTo>
                  <a:cubicBezTo>
                    <a:pt x="161" y="1810"/>
                    <a:pt x="182" y="1818"/>
                    <a:pt x="178" y="1780"/>
                  </a:cubicBezTo>
                  <a:cubicBezTo>
                    <a:pt x="175" y="1760"/>
                    <a:pt x="175" y="1760"/>
                    <a:pt x="175" y="1760"/>
                  </a:cubicBezTo>
                  <a:cubicBezTo>
                    <a:pt x="175" y="1760"/>
                    <a:pt x="182" y="1754"/>
                    <a:pt x="179" y="1739"/>
                  </a:cubicBezTo>
                  <a:cubicBezTo>
                    <a:pt x="176" y="1725"/>
                    <a:pt x="192" y="1720"/>
                    <a:pt x="194" y="1660"/>
                  </a:cubicBezTo>
                  <a:cubicBezTo>
                    <a:pt x="197" y="1600"/>
                    <a:pt x="184" y="1573"/>
                    <a:pt x="192" y="1559"/>
                  </a:cubicBezTo>
                  <a:cubicBezTo>
                    <a:pt x="199" y="1545"/>
                    <a:pt x="246" y="1371"/>
                    <a:pt x="252" y="1371"/>
                  </a:cubicBezTo>
                  <a:cubicBezTo>
                    <a:pt x="258" y="1371"/>
                    <a:pt x="262" y="1303"/>
                    <a:pt x="260" y="1296"/>
                  </a:cubicBezTo>
                  <a:cubicBezTo>
                    <a:pt x="257" y="1290"/>
                    <a:pt x="264" y="1248"/>
                    <a:pt x="271" y="1228"/>
                  </a:cubicBezTo>
                  <a:cubicBezTo>
                    <a:pt x="279" y="1209"/>
                    <a:pt x="325" y="1082"/>
                    <a:pt x="334" y="1070"/>
                  </a:cubicBezTo>
                  <a:cubicBezTo>
                    <a:pt x="343" y="1057"/>
                    <a:pt x="357" y="1043"/>
                    <a:pt x="356" y="1076"/>
                  </a:cubicBezTo>
                  <a:cubicBezTo>
                    <a:pt x="354" y="1109"/>
                    <a:pt x="360" y="1201"/>
                    <a:pt x="361" y="1221"/>
                  </a:cubicBezTo>
                  <a:cubicBezTo>
                    <a:pt x="362" y="1240"/>
                    <a:pt x="376" y="1258"/>
                    <a:pt x="376" y="1258"/>
                  </a:cubicBezTo>
                  <a:cubicBezTo>
                    <a:pt x="376" y="1258"/>
                    <a:pt x="375" y="1341"/>
                    <a:pt x="385" y="1342"/>
                  </a:cubicBezTo>
                  <a:cubicBezTo>
                    <a:pt x="395" y="1344"/>
                    <a:pt x="366" y="1382"/>
                    <a:pt x="372" y="1392"/>
                  </a:cubicBezTo>
                  <a:cubicBezTo>
                    <a:pt x="370" y="1469"/>
                    <a:pt x="370" y="1469"/>
                    <a:pt x="370" y="1469"/>
                  </a:cubicBezTo>
                  <a:cubicBezTo>
                    <a:pt x="370" y="1469"/>
                    <a:pt x="358" y="1582"/>
                    <a:pt x="365" y="1582"/>
                  </a:cubicBezTo>
                  <a:cubicBezTo>
                    <a:pt x="371" y="1582"/>
                    <a:pt x="349" y="1616"/>
                    <a:pt x="349" y="1616"/>
                  </a:cubicBezTo>
                  <a:cubicBezTo>
                    <a:pt x="349" y="1616"/>
                    <a:pt x="333" y="1643"/>
                    <a:pt x="333" y="1663"/>
                  </a:cubicBezTo>
                  <a:cubicBezTo>
                    <a:pt x="333" y="1682"/>
                    <a:pt x="333" y="1723"/>
                    <a:pt x="340" y="1723"/>
                  </a:cubicBezTo>
                  <a:cubicBezTo>
                    <a:pt x="348" y="1723"/>
                    <a:pt x="344" y="1768"/>
                    <a:pt x="344" y="1768"/>
                  </a:cubicBezTo>
                  <a:cubicBezTo>
                    <a:pt x="344" y="1768"/>
                    <a:pt x="362" y="1779"/>
                    <a:pt x="378" y="1778"/>
                  </a:cubicBezTo>
                  <a:cubicBezTo>
                    <a:pt x="378" y="1778"/>
                    <a:pt x="384" y="1811"/>
                    <a:pt x="402" y="1811"/>
                  </a:cubicBezTo>
                  <a:cubicBezTo>
                    <a:pt x="402" y="1811"/>
                    <a:pt x="429" y="1825"/>
                    <a:pt x="443" y="1819"/>
                  </a:cubicBezTo>
                  <a:cubicBezTo>
                    <a:pt x="443" y="1819"/>
                    <a:pt x="483" y="1829"/>
                    <a:pt x="486" y="1800"/>
                  </a:cubicBezTo>
                  <a:cubicBezTo>
                    <a:pt x="486" y="1800"/>
                    <a:pt x="488" y="1777"/>
                    <a:pt x="474" y="1768"/>
                  </a:cubicBezTo>
                  <a:cubicBezTo>
                    <a:pt x="474" y="1768"/>
                    <a:pt x="435" y="1737"/>
                    <a:pt x="443" y="1718"/>
                  </a:cubicBezTo>
                  <a:cubicBezTo>
                    <a:pt x="451" y="1698"/>
                    <a:pt x="456" y="1652"/>
                    <a:pt x="451" y="1646"/>
                  </a:cubicBezTo>
                  <a:cubicBezTo>
                    <a:pt x="445" y="1640"/>
                    <a:pt x="458" y="1584"/>
                    <a:pt x="477" y="1549"/>
                  </a:cubicBezTo>
                  <a:cubicBezTo>
                    <a:pt x="497" y="1513"/>
                    <a:pt x="498" y="1446"/>
                    <a:pt x="498" y="1446"/>
                  </a:cubicBezTo>
                  <a:cubicBezTo>
                    <a:pt x="517" y="1351"/>
                    <a:pt x="517" y="1351"/>
                    <a:pt x="517" y="1351"/>
                  </a:cubicBezTo>
                  <a:cubicBezTo>
                    <a:pt x="517" y="1351"/>
                    <a:pt x="509" y="1278"/>
                    <a:pt x="518" y="1264"/>
                  </a:cubicBezTo>
                  <a:cubicBezTo>
                    <a:pt x="527" y="1250"/>
                    <a:pt x="539" y="1039"/>
                    <a:pt x="544" y="1040"/>
                  </a:cubicBezTo>
                  <a:cubicBezTo>
                    <a:pt x="549" y="1041"/>
                    <a:pt x="540" y="952"/>
                    <a:pt x="563" y="938"/>
                  </a:cubicBezTo>
                  <a:cubicBezTo>
                    <a:pt x="586" y="923"/>
                    <a:pt x="603" y="890"/>
                    <a:pt x="603" y="890"/>
                  </a:cubicBezTo>
                  <a:cubicBezTo>
                    <a:pt x="617" y="833"/>
                    <a:pt x="617" y="833"/>
                    <a:pt x="617" y="833"/>
                  </a:cubicBezTo>
                  <a:cubicBezTo>
                    <a:pt x="617" y="833"/>
                    <a:pt x="645" y="803"/>
                    <a:pt x="641" y="780"/>
                  </a:cubicBezTo>
                  <a:close/>
                  <a:moveTo>
                    <a:pt x="187" y="840"/>
                  </a:moveTo>
                  <a:cubicBezTo>
                    <a:pt x="170" y="825"/>
                    <a:pt x="170" y="825"/>
                    <a:pt x="170" y="825"/>
                  </a:cubicBezTo>
                  <a:cubicBezTo>
                    <a:pt x="166" y="799"/>
                    <a:pt x="166" y="799"/>
                    <a:pt x="166" y="799"/>
                  </a:cubicBezTo>
                  <a:cubicBezTo>
                    <a:pt x="156" y="786"/>
                    <a:pt x="148" y="748"/>
                    <a:pt x="148" y="748"/>
                  </a:cubicBezTo>
                  <a:cubicBezTo>
                    <a:pt x="146" y="710"/>
                    <a:pt x="146" y="710"/>
                    <a:pt x="146" y="710"/>
                  </a:cubicBezTo>
                  <a:cubicBezTo>
                    <a:pt x="142" y="703"/>
                    <a:pt x="143" y="678"/>
                    <a:pt x="143" y="678"/>
                  </a:cubicBezTo>
                  <a:cubicBezTo>
                    <a:pt x="153" y="672"/>
                    <a:pt x="153" y="649"/>
                    <a:pt x="153" y="649"/>
                  </a:cubicBezTo>
                  <a:cubicBezTo>
                    <a:pt x="176" y="616"/>
                    <a:pt x="176" y="616"/>
                    <a:pt x="176" y="616"/>
                  </a:cubicBezTo>
                  <a:cubicBezTo>
                    <a:pt x="178" y="621"/>
                    <a:pt x="166" y="729"/>
                    <a:pt x="166" y="729"/>
                  </a:cubicBezTo>
                  <a:cubicBezTo>
                    <a:pt x="162" y="781"/>
                    <a:pt x="187" y="795"/>
                    <a:pt x="187" y="795"/>
                  </a:cubicBezTo>
                  <a:cubicBezTo>
                    <a:pt x="183" y="795"/>
                    <a:pt x="187" y="840"/>
                    <a:pt x="187" y="840"/>
                  </a:cubicBezTo>
                  <a:close/>
                  <a:moveTo>
                    <a:pt x="541" y="861"/>
                  </a:moveTo>
                  <a:cubicBezTo>
                    <a:pt x="507" y="808"/>
                    <a:pt x="507" y="808"/>
                    <a:pt x="507" y="808"/>
                  </a:cubicBezTo>
                  <a:cubicBezTo>
                    <a:pt x="509" y="801"/>
                    <a:pt x="509" y="801"/>
                    <a:pt x="509" y="801"/>
                  </a:cubicBezTo>
                  <a:cubicBezTo>
                    <a:pt x="509" y="801"/>
                    <a:pt x="504" y="765"/>
                    <a:pt x="498" y="765"/>
                  </a:cubicBezTo>
                  <a:cubicBezTo>
                    <a:pt x="498" y="765"/>
                    <a:pt x="512" y="749"/>
                    <a:pt x="512" y="717"/>
                  </a:cubicBezTo>
                  <a:cubicBezTo>
                    <a:pt x="512" y="717"/>
                    <a:pt x="506" y="697"/>
                    <a:pt x="497" y="683"/>
                  </a:cubicBezTo>
                  <a:cubicBezTo>
                    <a:pt x="489" y="671"/>
                    <a:pt x="501" y="652"/>
                    <a:pt x="502" y="642"/>
                  </a:cubicBezTo>
                  <a:cubicBezTo>
                    <a:pt x="512" y="624"/>
                    <a:pt x="512" y="624"/>
                    <a:pt x="512" y="624"/>
                  </a:cubicBezTo>
                  <a:cubicBezTo>
                    <a:pt x="512" y="624"/>
                    <a:pt x="524" y="699"/>
                    <a:pt x="539" y="719"/>
                  </a:cubicBezTo>
                  <a:cubicBezTo>
                    <a:pt x="539" y="719"/>
                    <a:pt x="540" y="765"/>
                    <a:pt x="547" y="789"/>
                  </a:cubicBezTo>
                  <a:cubicBezTo>
                    <a:pt x="547" y="789"/>
                    <a:pt x="540" y="825"/>
                    <a:pt x="545" y="833"/>
                  </a:cubicBezTo>
                  <a:cubicBezTo>
                    <a:pt x="545" y="833"/>
                    <a:pt x="552" y="835"/>
                    <a:pt x="549" y="840"/>
                  </a:cubicBezTo>
                  <a:cubicBezTo>
                    <a:pt x="549" y="840"/>
                    <a:pt x="552" y="857"/>
                    <a:pt x="541" y="8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1076760" y="5640120"/>
              <a:ext cx="68400" cy="297720"/>
            </a:xfrm>
            <a:custGeom>
              <a:avLst/>
              <a:gdLst/>
              <a:ahLst/>
              <a:rect l="l" t="t" r="r" b="b"/>
              <a:pathLst>
                <a:path w="105" h="455">
                  <a:moveTo>
                    <a:pt x="37" y="1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49" y="57"/>
                    <a:pt x="49" y="57"/>
                    <a:pt x="49" y="57"/>
                  </a:cubicBezTo>
                  <a:cubicBezTo>
                    <a:pt x="49" y="57"/>
                    <a:pt x="83" y="149"/>
                    <a:pt x="84" y="168"/>
                  </a:cubicBezTo>
                  <a:cubicBezTo>
                    <a:pt x="84" y="168"/>
                    <a:pt x="105" y="389"/>
                    <a:pt x="100" y="406"/>
                  </a:cubicBezTo>
                  <a:cubicBezTo>
                    <a:pt x="100" y="406"/>
                    <a:pt x="76" y="437"/>
                    <a:pt x="62" y="451"/>
                  </a:cubicBezTo>
                  <a:cubicBezTo>
                    <a:pt x="57" y="455"/>
                    <a:pt x="13" y="409"/>
                    <a:pt x="14" y="405"/>
                  </a:cubicBezTo>
                  <a:cubicBezTo>
                    <a:pt x="14" y="401"/>
                    <a:pt x="6" y="204"/>
                    <a:pt x="11" y="145"/>
                  </a:cubicBezTo>
                  <a:cubicBezTo>
                    <a:pt x="11" y="145"/>
                    <a:pt x="17" y="89"/>
                    <a:pt x="19" y="63"/>
                  </a:cubicBezTo>
                  <a:cubicBezTo>
                    <a:pt x="21" y="40"/>
                    <a:pt x="2" y="25"/>
                    <a:pt x="0" y="25"/>
                  </a:cubicBezTo>
                  <a:cubicBezTo>
                    <a:pt x="0" y="25"/>
                    <a:pt x="23" y="0"/>
                    <a:pt x="31" y="0"/>
                  </a:cubicBezTo>
                  <a:cubicBezTo>
                    <a:pt x="33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1304280" y="5417640"/>
              <a:ext cx="315720" cy="1229400"/>
            </a:xfrm>
            <a:custGeom>
              <a:avLst/>
              <a:gdLst/>
              <a:ahLst/>
              <a:rect l="l" t="t" r="r" b="b"/>
              <a:pathLst>
                <a:path w="484" h="1879">
                  <a:moveTo>
                    <a:pt x="368" y="1025"/>
                  </a:moveTo>
                  <a:cubicBezTo>
                    <a:pt x="368" y="1025"/>
                    <a:pt x="386" y="821"/>
                    <a:pt x="368" y="784"/>
                  </a:cubicBezTo>
                  <a:cubicBezTo>
                    <a:pt x="359" y="767"/>
                    <a:pt x="318" y="654"/>
                    <a:pt x="327" y="644"/>
                  </a:cubicBezTo>
                  <a:cubicBezTo>
                    <a:pt x="335" y="634"/>
                    <a:pt x="359" y="596"/>
                    <a:pt x="362" y="588"/>
                  </a:cubicBezTo>
                  <a:cubicBezTo>
                    <a:pt x="365" y="581"/>
                    <a:pt x="484" y="435"/>
                    <a:pt x="473" y="412"/>
                  </a:cubicBezTo>
                  <a:cubicBezTo>
                    <a:pt x="461" y="388"/>
                    <a:pt x="445" y="368"/>
                    <a:pt x="420" y="349"/>
                  </a:cubicBezTo>
                  <a:cubicBezTo>
                    <a:pt x="395" y="330"/>
                    <a:pt x="378" y="339"/>
                    <a:pt x="365" y="301"/>
                  </a:cubicBezTo>
                  <a:cubicBezTo>
                    <a:pt x="341" y="289"/>
                    <a:pt x="341" y="289"/>
                    <a:pt x="341" y="289"/>
                  </a:cubicBezTo>
                  <a:cubicBezTo>
                    <a:pt x="341" y="289"/>
                    <a:pt x="319" y="247"/>
                    <a:pt x="328" y="204"/>
                  </a:cubicBezTo>
                  <a:cubicBezTo>
                    <a:pt x="337" y="162"/>
                    <a:pt x="338" y="166"/>
                    <a:pt x="338" y="166"/>
                  </a:cubicBezTo>
                  <a:cubicBezTo>
                    <a:pt x="347" y="159"/>
                    <a:pt x="347" y="159"/>
                    <a:pt x="347" y="159"/>
                  </a:cubicBezTo>
                  <a:cubicBezTo>
                    <a:pt x="351" y="168"/>
                    <a:pt x="351" y="168"/>
                    <a:pt x="351" y="168"/>
                  </a:cubicBezTo>
                  <a:cubicBezTo>
                    <a:pt x="357" y="156"/>
                    <a:pt x="357" y="156"/>
                    <a:pt x="357" y="156"/>
                  </a:cubicBezTo>
                  <a:cubicBezTo>
                    <a:pt x="363" y="171"/>
                    <a:pt x="363" y="171"/>
                    <a:pt x="363" y="171"/>
                  </a:cubicBezTo>
                  <a:cubicBezTo>
                    <a:pt x="363" y="171"/>
                    <a:pt x="388" y="126"/>
                    <a:pt x="370" y="110"/>
                  </a:cubicBezTo>
                  <a:cubicBezTo>
                    <a:pt x="370" y="110"/>
                    <a:pt x="347" y="89"/>
                    <a:pt x="341" y="79"/>
                  </a:cubicBezTo>
                  <a:cubicBezTo>
                    <a:pt x="324" y="47"/>
                    <a:pt x="305" y="23"/>
                    <a:pt x="305" y="23"/>
                  </a:cubicBezTo>
                  <a:cubicBezTo>
                    <a:pt x="305" y="23"/>
                    <a:pt x="268" y="0"/>
                    <a:pt x="235" y="13"/>
                  </a:cubicBezTo>
                  <a:cubicBezTo>
                    <a:pt x="201" y="26"/>
                    <a:pt x="182" y="47"/>
                    <a:pt x="170" y="67"/>
                  </a:cubicBezTo>
                  <a:cubicBezTo>
                    <a:pt x="165" y="76"/>
                    <a:pt x="160" y="102"/>
                    <a:pt x="168" y="121"/>
                  </a:cubicBezTo>
                  <a:cubicBezTo>
                    <a:pt x="172" y="133"/>
                    <a:pt x="182" y="164"/>
                    <a:pt x="182" y="164"/>
                  </a:cubicBezTo>
                  <a:cubicBezTo>
                    <a:pt x="182" y="164"/>
                    <a:pt x="200" y="221"/>
                    <a:pt x="220" y="238"/>
                  </a:cubicBezTo>
                  <a:cubicBezTo>
                    <a:pt x="242" y="263"/>
                    <a:pt x="242" y="263"/>
                    <a:pt x="242" y="263"/>
                  </a:cubicBezTo>
                  <a:cubicBezTo>
                    <a:pt x="236" y="275"/>
                    <a:pt x="236" y="275"/>
                    <a:pt x="236" y="275"/>
                  </a:cubicBezTo>
                  <a:cubicBezTo>
                    <a:pt x="236" y="275"/>
                    <a:pt x="214" y="283"/>
                    <a:pt x="189" y="299"/>
                  </a:cubicBezTo>
                  <a:cubicBezTo>
                    <a:pt x="122" y="307"/>
                    <a:pt x="122" y="307"/>
                    <a:pt x="122" y="307"/>
                  </a:cubicBezTo>
                  <a:cubicBezTo>
                    <a:pt x="122" y="307"/>
                    <a:pt x="99" y="323"/>
                    <a:pt x="76" y="372"/>
                  </a:cubicBezTo>
                  <a:cubicBezTo>
                    <a:pt x="30" y="464"/>
                    <a:pt x="30" y="464"/>
                    <a:pt x="30" y="464"/>
                  </a:cubicBezTo>
                  <a:cubicBezTo>
                    <a:pt x="30" y="464"/>
                    <a:pt x="19" y="487"/>
                    <a:pt x="10" y="510"/>
                  </a:cubicBezTo>
                  <a:cubicBezTo>
                    <a:pt x="10" y="510"/>
                    <a:pt x="3" y="534"/>
                    <a:pt x="5" y="542"/>
                  </a:cubicBezTo>
                  <a:cubicBezTo>
                    <a:pt x="5" y="542"/>
                    <a:pt x="0" y="622"/>
                    <a:pt x="8" y="626"/>
                  </a:cubicBezTo>
                  <a:cubicBezTo>
                    <a:pt x="23" y="634"/>
                    <a:pt x="27" y="642"/>
                    <a:pt x="64" y="644"/>
                  </a:cubicBezTo>
                  <a:cubicBezTo>
                    <a:pt x="64" y="644"/>
                    <a:pt x="65" y="663"/>
                    <a:pt x="54" y="679"/>
                  </a:cubicBezTo>
                  <a:cubicBezTo>
                    <a:pt x="17" y="774"/>
                    <a:pt x="17" y="774"/>
                    <a:pt x="17" y="774"/>
                  </a:cubicBezTo>
                  <a:cubicBezTo>
                    <a:pt x="81" y="823"/>
                    <a:pt x="81" y="823"/>
                    <a:pt x="81" y="823"/>
                  </a:cubicBezTo>
                  <a:cubicBezTo>
                    <a:pt x="90" y="857"/>
                    <a:pt x="90" y="857"/>
                    <a:pt x="90" y="857"/>
                  </a:cubicBezTo>
                  <a:cubicBezTo>
                    <a:pt x="90" y="857"/>
                    <a:pt x="91" y="878"/>
                    <a:pt x="89" y="907"/>
                  </a:cubicBezTo>
                  <a:cubicBezTo>
                    <a:pt x="82" y="945"/>
                    <a:pt x="82" y="945"/>
                    <a:pt x="82" y="945"/>
                  </a:cubicBezTo>
                  <a:cubicBezTo>
                    <a:pt x="83" y="991"/>
                    <a:pt x="83" y="991"/>
                    <a:pt x="83" y="991"/>
                  </a:cubicBezTo>
                  <a:cubicBezTo>
                    <a:pt x="83" y="991"/>
                    <a:pt x="81" y="1110"/>
                    <a:pt x="83" y="1131"/>
                  </a:cubicBezTo>
                  <a:cubicBezTo>
                    <a:pt x="83" y="1131"/>
                    <a:pt x="81" y="1291"/>
                    <a:pt x="81" y="1337"/>
                  </a:cubicBezTo>
                  <a:cubicBezTo>
                    <a:pt x="81" y="1366"/>
                    <a:pt x="81" y="1366"/>
                    <a:pt x="81" y="1366"/>
                  </a:cubicBezTo>
                  <a:cubicBezTo>
                    <a:pt x="81" y="1366"/>
                    <a:pt x="113" y="1368"/>
                    <a:pt x="125" y="1364"/>
                  </a:cubicBezTo>
                  <a:cubicBezTo>
                    <a:pt x="125" y="1364"/>
                    <a:pt x="178" y="1469"/>
                    <a:pt x="178" y="1491"/>
                  </a:cubicBezTo>
                  <a:cubicBezTo>
                    <a:pt x="178" y="1491"/>
                    <a:pt x="181" y="1642"/>
                    <a:pt x="156" y="1686"/>
                  </a:cubicBezTo>
                  <a:cubicBezTo>
                    <a:pt x="108" y="1812"/>
                    <a:pt x="108" y="1812"/>
                    <a:pt x="108" y="1812"/>
                  </a:cubicBezTo>
                  <a:cubicBezTo>
                    <a:pt x="108" y="1812"/>
                    <a:pt x="84" y="1823"/>
                    <a:pt x="67" y="1831"/>
                  </a:cubicBezTo>
                  <a:cubicBezTo>
                    <a:pt x="67" y="1831"/>
                    <a:pt x="54" y="1840"/>
                    <a:pt x="59" y="1851"/>
                  </a:cubicBezTo>
                  <a:cubicBezTo>
                    <a:pt x="59" y="1851"/>
                    <a:pt x="130" y="1879"/>
                    <a:pt x="169" y="1848"/>
                  </a:cubicBezTo>
                  <a:cubicBezTo>
                    <a:pt x="169" y="1848"/>
                    <a:pt x="184" y="1818"/>
                    <a:pt x="191" y="1819"/>
                  </a:cubicBezTo>
                  <a:cubicBezTo>
                    <a:pt x="191" y="1841"/>
                    <a:pt x="191" y="1841"/>
                    <a:pt x="191" y="1841"/>
                  </a:cubicBezTo>
                  <a:cubicBezTo>
                    <a:pt x="213" y="1845"/>
                    <a:pt x="213" y="1845"/>
                    <a:pt x="213" y="1845"/>
                  </a:cubicBezTo>
                  <a:cubicBezTo>
                    <a:pt x="226" y="1845"/>
                    <a:pt x="226" y="1845"/>
                    <a:pt x="226" y="1845"/>
                  </a:cubicBezTo>
                  <a:cubicBezTo>
                    <a:pt x="232" y="1826"/>
                    <a:pt x="232" y="1826"/>
                    <a:pt x="232" y="1826"/>
                  </a:cubicBezTo>
                  <a:cubicBezTo>
                    <a:pt x="232" y="1826"/>
                    <a:pt x="259" y="1820"/>
                    <a:pt x="274" y="1800"/>
                  </a:cubicBezTo>
                  <a:cubicBezTo>
                    <a:pt x="274" y="1800"/>
                    <a:pt x="308" y="1764"/>
                    <a:pt x="312" y="1764"/>
                  </a:cubicBezTo>
                  <a:cubicBezTo>
                    <a:pt x="340" y="1756"/>
                    <a:pt x="340" y="1756"/>
                    <a:pt x="340" y="1756"/>
                  </a:cubicBezTo>
                  <a:cubicBezTo>
                    <a:pt x="334" y="1806"/>
                    <a:pt x="334" y="1806"/>
                    <a:pt x="334" y="1806"/>
                  </a:cubicBezTo>
                  <a:cubicBezTo>
                    <a:pt x="334" y="1806"/>
                    <a:pt x="353" y="1810"/>
                    <a:pt x="362" y="1801"/>
                  </a:cubicBezTo>
                  <a:cubicBezTo>
                    <a:pt x="372" y="1736"/>
                    <a:pt x="372" y="1736"/>
                    <a:pt x="372" y="1736"/>
                  </a:cubicBezTo>
                  <a:cubicBezTo>
                    <a:pt x="372" y="1736"/>
                    <a:pt x="378" y="1698"/>
                    <a:pt x="353" y="1682"/>
                  </a:cubicBezTo>
                  <a:cubicBezTo>
                    <a:pt x="353" y="1682"/>
                    <a:pt x="319" y="1664"/>
                    <a:pt x="296" y="1556"/>
                  </a:cubicBezTo>
                  <a:cubicBezTo>
                    <a:pt x="285" y="1505"/>
                    <a:pt x="280" y="1487"/>
                    <a:pt x="278" y="1483"/>
                  </a:cubicBezTo>
                  <a:cubicBezTo>
                    <a:pt x="282" y="1458"/>
                    <a:pt x="291" y="1367"/>
                    <a:pt x="281" y="1352"/>
                  </a:cubicBezTo>
                  <a:cubicBezTo>
                    <a:pt x="353" y="1340"/>
                    <a:pt x="353" y="1340"/>
                    <a:pt x="353" y="1340"/>
                  </a:cubicBezTo>
                  <a:cubicBezTo>
                    <a:pt x="353" y="1340"/>
                    <a:pt x="356" y="1065"/>
                    <a:pt x="368" y="1025"/>
                  </a:cubicBezTo>
                  <a:close/>
                  <a:moveTo>
                    <a:pt x="259" y="1691"/>
                  </a:moveTo>
                  <a:cubicBezTo>
                    <a:pt x="258" y="1723"/>
                    <a:pt x="242" y="1731"/>
                    <a:pt x="242" y="1731"/>
                  </a:cubicBezTo>
                  <a:cubicBezTo>
                    <a:pt x="239" y="1714"/>
                    <a:pt x="230" y="1722"/>
                    <a:pt x="227" y="1686"/>
                  </a:cubicBezTo>
                  <a:cubicBezTo>
                    <a:pt x="224" y="1650"/>
                    <a:pt x="243" y="1618"/>
                    <a:pt x="243" y="1618"/>
                  </a:cubicBezTo>
                  <a:cubicBezTo>
                    <a:pt x="243" y="1618"/>
                    <a:pt x="261" y="1658"/>
                    <a:pt x="259" y="1691"/>
                  </a:cubicBezTo>
                  <a:close/>
                </a:path>
              </a:pathLst>
            </a:custGeom>
            <a:solidFill>
              <a:srgbClr val="384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433160" y="5659200"/>
              <a:ext cx="37080" cy="50040"/>
            </a:xfrm>
            <a:custGeom>
              <a:avLst/>
              <a:gdLst/>
              <a:ahLst/>
              <a:rect l="l" t="t" r="r" b="b"/>
              <a:pathLst>
                <a:path w="114" h="154">
                  <a:moveTo>
                    <a:pt x="6" y="0"/>
                  </a:moveTo>
                  <a:lnTo>
                    <a:pt x="114" y="4"/>
                  </a:lnTo>
                  <a:lnTo>
                    <a:pt x="0" y="1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1599480" y="5428800"/>
              <a:ext cx="511920" cy="1167840"/>
            </a:xfrm>
            <a:custGeom>
              <a:avLst/>
              <a:gdLst/>
              <a:ahLst/>
              <a:rect l="l" t="t" r="r" b="b"/>
              <a:pathLst>
                <a:path w="783" h="1785">
                  <a:moveTo>
                    <a:pt x="752" y="565"/>
                  </a:moveTo>
                  <a:cubicBezTo>
                    <a:pt x="752" y="565"/>
                    <a:pt x="719" y="512"/>
                    <a:pt x="708" y="497"/>
                  </a:cubicBezTo>
                  <a:cubicBezTo>
                    <a:pt x="600" y="373"/>
                    <a:pt x="600" y="373"/>
                    <a:pt x="600" y="373"/>
                  </a:cubicBezTo>
                  <a:cubicBezTo>
                    <a:pt x="600" y="373"/>
                    <a:pt x="562" y="335"/>
                    <a:pt x="541" y="332"/>
                  </a:cubicBezTo>
                  <a:cubicBezTo>
                    <a:pt x="541" y="332"/>
                    <a:pt x="512" y="270"/>
                    <a:pt x="515" y="259"/>
                  </a:cubicBezTo>
                  <a:cubicBezTo>
                    <a:pt x="515" y="259"/>
                    <a:pt x="506" y="101"/>
                    <a:pt x="466" y="72"/>
                  </a:cubicBezTo>
                  <a:cubicBezTo>
                    <a:pt x="466" y="72"/>
                    <a:pt x="443" y="0"/>
                    <a:pt x="352" y="29"/>
                  </a:cubicBezTo>
                  <a:cubicBezTo>
                    <a:pt x="352" y="29"/>
                    <a:pt x="300" y="57"/>
                    <a:pt x="299" y="110"/>
                  </a:cubicBezTo>
                  <a:cubicBezTo>
                    <a:pt x="299" y="110"/>
                    <a:pt x="294" y="179"/>
                    <a:pt x="303" y="194"/>
                  </a:cubicBezTo>
                  <a:cubicBezTo>
                    <a:pt x="343" y="268"/>
                    <a:pt x="343" y="268"/>
                    <a:pt x="343" y="268"/>
                  </a:cubicBezTo>
                  <a:cubicBezTo>
                    <a:pt x="343" y="268"/>
                    <a:pt x="357" y="293"/>
                    <a:pt x="325" y="296"/>
                  </a:cubicBezTo>
                  <a:cubicBezTo>
                    <a:pt x="247" y="297"/>
                    <a:pt x="247" y="297"/>
                    <a:pt x="247" y="297"/>
                  </a:cubicBezTo>
                  <a:cubicBezTo>
                    <a:pt x="247" y="297"/>
                    <a:pt x="191" y="303"/>
                    <a:pt x="188" y="353"/>
                  </a:cubicBezTo>
                  <a:cubicBezTo>
                    <a:pt x="165" y="480"/>
                    <a:pt x="165" y="480"/>
                    <a:pt x="165" y="480"/>
                  </a:cubicBezTo>
                  <a:cubicBezTo>
                    <a:pt x="162" y="568"/>
                    <a:pt x="162" y="568"/>
                    <a:pt x="162" y="568"/>
                  </a:cubicBezTo>
                  <a:cubicBezTo>
                    <a:pt x="162" y="568"/>
                    <a:pt x="151" y="699"/>
                    <a:pt x="172" y="742"/>
                  </a:cubicBezTo>
                  <a:cubicBezTo>
                    <a:pt x="172" y="742"/>
                    <a:pt x="213" y="889"/>
                    <a:pt x="215" y="897"/>
                  </a:cubicBezTo>
                  <a:cubicBezTo>
                    <a:pt x="215" y="897"/>
                    <a:pt x="209" y="938"/>
                    <a:pt x="198" y="964"/>
                  </a:cubicBezTo>
                  <a:cubicBezTo>
                    <a:pt x="188" y="990"/>
                    <a:pt x="128" y="1150"/>
                    <a:pt x="128" y="1150"/>
                  </a:cubicBezTo>
                  <a:cubicBezTo>
                    <a:pt x="128" y="1150"/>
                    <a:pt x="101" y="1217"/>
                    <a:pt x="111" y="1275"/>
                  </a:cubicBezTo>
                  <a:cubicBezTo>
                    <a:pt x="111" y="1275"/>
                    <a:pt x="118" y="1559"/>
                    <a:pt x="115" y="1585"/>
                  </a:cubicBezTo>
                  <a:cubicBezTo>
                    <a:pt x="115" y="1585"/>
                    <a:pt x="98" y="1664"/>
                    <a:pt x="78" y="1719"/>
                  </a:cubicBezTo>
                  <a:cubicBezTo>
                    <a:pt x="72" y="1722"/>
                    <a:pt x="72" y="1722"/>
                    <a:pt x="72" y="1722"/>
                  </a:cubicBezTo>
                  <a:cubicBezTo>
                    <a:pt x="72" y="1722"/>
                    <a:pt x="34" y="1737"/>
                    <a:pt x="26" y="1737"/>
                  </a:cubicBezTo>
                  <a:cubicBezTo>
                    <a:pt x="26" y="1737"/>
                    <a:pt x="0" y="1760"/>
                    <a:pt x="22" y="1765"/>
                  </a:cubicBezTo>
                  <a:cubicBezTo>
                    <a:pt x="43" y="1769"/>
                    <a:pt x="107" y="1768"/>
                    <a:pt x="115" y="1760"/>
                  </a:cubicBezTo>
                  <a:cubicBezTo>
                    <a:pt x="122" y="1753"/>
                    <a:pt x="131" y="1743"/>
                    <a:pt x="131" y="1743"/>
                  </a:cubicBezTo>
                  <a:cubicBezTo>
                    <a:pt x="131" y="1743"/>
                    <a:pt x="150" y="1739"/>
                    <a:pt x="150" y="1751"/>
                  </a:cubicBezTo>
                  <a:cubicBezTo>
                    <a:pt x="150" y="1763"/>
                    <a:pt x="185" y="1753"/>
                    <a:pt x="185" y="1753"/>
                  </a:cubicBezTo>
                  <a:cubicBezTo>
                    <a:pt x="218" y="1645"/>
                    <a:pt x="218" y="1645"/>
                    <a:pt x="218" y="1645"/>
                  </a:cubicBezTo>
                  <a:cubicBezTo>
                    <a:pt x="218" y="1645"/>
                    <a:pt x="221" y="1628"/>
                    <a:pt x="209" y="1617"/>
                  </a:cubicBezTo>
                  <a:cubicBezTo>
                    <a:pt x="204" y="1613"/>
                    <a:pt x="180" y="1576"/>
                    <a:pt x="186" y="1565"/>
                  </a:cubicBezTo>
                  <a:cubicBezTo>
                    <a:pt x="186" y="1565"/>
                    <a:pt x="206" y="1415"/>
                    <a:pt x="218" y="1366"/>
                  </a:cubicBezTo>
                  <a:cubicBezTo>
                    <a:pt x="224" y="1342"/>
                    <a:pt x="210" y="1262"/>
                    <a:pt x="210" y="1262"/>
                  </a:cubicBezTo>
                  <a:cubicBezTo>
                    <a:pt x="210" y="1262"/>
                    <a:pt x="255" y="1162"/>
                    <a:pt x="262" y="1162"/>
                  </a:cubicBezTo>
                  <a:cubicBezTo>
                    <a:pt x="270" y="1162"/>
                    <a:pt x="413" y="1166"/>
                    <a:pt x="417" y="1173"/>
                  </a:cubicBezTo>
                  <a:cubicBezTo>
                    <a:pt x="422" y="1179"/>
                    <a:pt x="413" y="1244"/>
                    <a:pt x="433" y="1275"/>
                  </a:cubicBezTo>
                  <a:cubicBezTo>
                    <a:pt x="439" y="1527"/>
                    <a:pt x="439" y="1527"/>
                    <a:pt x="439" y="1527"/>
                  </a:cubicBezTo>
                  <a:cubicBezTo>
                    <a:pt x="439" y="1527"/>
                    <a:pt x="428" y="1581"/>
                    <a:pt x="422" y="1591"/>
                  </a:cubicBezTo>
                  <a:cubicBezTo>
                    <a:pt x="422" y="1591"/>
                    <a:pt x="407" y="1669"/>
                    <a:pt x="405" y="1684"/>
                  </a:cubicBezTo>
                  <a:cubicBezTo>
                    <a:pt x="405" y="1684"/>
                    <a:pt x="392" y="1716"/>
                    <a:pt x="379" y="1730"/>
                  </a:cubicBezTo>
                  <a:cubicBezTo>
                    <a:pt x="379" y="1730"/>
                    <a:pt x="366" y="1769"/>
                    <a:pt x="379" y="1771"/>
                  </a:cubicBezTo>
                  <a:cubicBezTo>
                    <a:pt x="379" y="1771"/>
                    <a:pt x="475" y="1785"/>
                    <a:pt x="472" y="1733"/>
                  </a:cubicBezTo>
                  <a:cubicBezTo>
                    <a:pt x="484" y="1672"/>
                    <a:pt x="484" y="1672"/>
                    <a:pt x="484" y="1672"/>
                  </a:cubicBezTo>
                  <a:cubicBezTo>
                    <a:pt x="484" y="1672"/>
                    <a:pt x="501" y="1629"/>
                    <a:pt x="489" y="1617"/>
                  </a:cubicBezTo>
                  <a:cubicBezTo>
                    <a:pt x="489" y="1617"/>
                    <a:pt x="475" y="1574"/>
                    <a:pt x="481" y="1574"/>
                  </a:cubicBezTo>
                  <a:cubicBezTo>
                    <a:pt x="481" y="1574"/>
                    <a:pt x="544" y="1409"/>
                    <a:pt x="532" y="1288"/>
                  </a:cubicBezTo>
                  <a:cubicBezTo>
                    <a:pt x="532" y="1288"/>
                    <a:pt x="504" y="1197"/>
                    <a:pt x="521" y="1185"/>
                  </a:cubicBezTo>
                  <a:cubicBezTo>
                    <a:pt x="529" y="1182"/>
                    <a:pt x="529" y="1182"/>
                    <a:pt x="529" y="1182"/>
                  </a:cubicBezTo>
                  <a:cubicBezTo>
                    <a:pt x="533" y="1113"/>
                    <a:pt x="533" y="1113"/>
                    <a:pt x="533" y="1113"/>
                  </a:cubicBezTo>
                  <a:cubicBezTo>
                    <a:pt x="533" y="1113"/>
                    <a:pt x="553" y="1022"/>
                    <a:pt x="553" y="1013"/>
                  </a:cubicBezTo>
                  <a:cubicBezTo>
                    <a:pt x="553" y="1013"/>
                    <a:pt x="568" y="882"/>
                    <a:pt x="564" y="860"/>
                  </a:cubicBezTo>
                  <a:cubicBezTo>
                    <a:pt x="558" y="839"/>
                    <a:pt x="558" y="839"/>
                    <a:pt x="558" y="839"/>
                  </a:cubicBezTo>
                  <a:cubicBezTo>
                    <a:pt x="564" y="832"/>
                    <a:pt x="564" y="832"/>
                    <a:pt x="564" y="832"/>
                  </a:cubicBezTo>
                  <a:cubicBezTo>
                    <a:pt x="545" y="778"/>
                    <a:pt x="545" y="778"/>
                    <a:pt x="545" y="778"/>
                  </a:cubicBezTo>
                  <a:cubicBezTo>
                    <a:pt x="545" y="778"/>
                    <a:pt x="573" y="786"/>
                    <a:pt x="588" y="774"/>
                  </a:cubicBezTo>
                  <a:cubicBezTo>
                    <a:pt x="588" y="774"/>
                    <a:pt x="702" y="688"/>
                    <a:pt x="734" y="638"/>
                  </a:cubicBezTo>
                  <a:cubicBezTo>
                    <a:pt x="765" y="612"/>
                    <a:pt x="765" y="612"/>
                    <a:pt x="765" y="612"/>
                  </a:cubicBezTo>
                  <a:cubicBezTo>
                    <a:pt x="765" y="612"/>
                    <a:pt x="783" y="597"/>
                    <a:pt x="752" y="565"/>
                  </a:cubicBezTo>
                  <a:close/>
                  <a:moveTo>
                    <a:pt x="229" y="771"/>
                  </a:moveTo>
                  <a:cubicBezTo>
                    <a:pt x="229" y="771"/>
                    <a:pt x="214" y="635"/>
                    <a:pt x="215" y="629"/>
                  </a:cubicBezTo>
                  <a:cubicBezTo>
                    <a:pt x="218" y="593"/>
                    <a:pt x="218" y="527"/>
                    <a:pt x="229" y="527"/>
                  </a:cubicBezTo>
                  <a:cubicBezTo>
                    <a:pt x="229" y="527"/>
                    <a:pt x="239" y="643"/>
                    <a:pt x="238" y="655"/>
                  </a:cubicBezTo>
                  <a:cubicBezTo>
                    <a:pt x="238" y="655"/>
                    <a:pt x="244" y="746"/>
                    <a:pt x="229" y="771"/>
                  </a:cubicBezTo>
                  <a:close/>
                  <a:moveTo>
                    <a:pt x="599" y="707"/>
                  </a:moveTo>
                  <a:cubicBezTo>
                    <a:pt x="565" y="752"/>
                    <a:pt x="550" y="728"/>
                    <a:pt x="550" y="728"/>
                  </a:cubicBezTo>
                  <a:cubicBezTo>
                    <a:pt x="542" y="717"/>
                    <a:pt x="510" y="685"/>
                    <a:pt x="510" y="685"/>
                  </a:cubicBezTo>
                  <a:cubicBezTo>
                    <a:pt x="516" y="655"/>
                    <a:pt x="504" y="647"/>
                    <a:pt x="504" y="647"/>
                  </a:cubicBezTo>
                  <a:cubicBezTo>
                    <a:pt x="498" y="647"/>
                    <a:pt x="466" y="620"/>
                    <a:pt x="480" y="617"/>
                  </a:cubicBezTo>
                  <a:cubicBezTo>
                    <a:pt x="494" y="614"/>
                    <a:pt x="503" y="585"/>
                    <a:pt x="503" y="585"/>
                  </a:cubicBezTo>
                  <a:cubicBezTo>
                    <a:pt x="541" y="518"/>
                    <a:pt x="541" y="518"/>
                    <a:pt x="541" y="518"/>
                  </a:cubicBezTo>
                  <a:cubicBezTo>
                    <a:pt x="548" y="516"/>
                    <a:pt x="548" y="516"/>
                    <a:pt x="548" y="516"/>
                  </a:cubicBezTo>
                  <a:cubicBezTo>
                    <a:pt x="551" y="562"/>
                    <a:pt x="551" y="562"/>
                    <a:pt x="551" y="562"/>
                  </a:cubicBezTo>
                  <a:cubicBezTo>
                    <a:pt x="620" y="574"/>
                    <a:pt x="646" y="542"/>
                    <a:pt x="646" y="542"/>
                  </a:cubicBezTo>
                  <a:cubicBezTo>
                    <a:pt x="664" y="556"/>
                    <a:pt x="688" y="594"/>
                    <a:pt x="688" y="594"/>
                  </a:cubicBezTo>
                  <a:cubicBezTo>
                    <a:pt x="690" y="615"/>
                    <a:pt x="599" y="707"/>
                    <a:pt x="599" y="707"/>
                  </a:cubicBezTo>
                  <a:close/>
                </a:path>
              </a:pathLst>
            </a:custGeom>
            <a:solidFill>
              <a:srgbClr val="8ea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1812600" y="5699520"/>
              <a:ext cx="54720" cy="3384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0" y="0"/>
                  </a:moveTo>
                  <a:cubicBezTo>
                    <a:pt x="0" y="0"/>
                    <a:pt x="53" y="16"/>
                    <a:pt x="84" y="2"/>
                  </a:cubicBezTo>
                  <a:cubicBezTo>
                    <a:pt x="31" y="52"/>
                    <a:pt x="31" y="52"/>
                    <a:pt x="31" y="5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2">
            <a:lum bright="12000"/>
          </a:blip>
          <a:srcRect l="0" t="0" r="85311" b="78166"/>
          <a:stretch/>
        </p:blipFill>
        <p:spPr>
          <a:xfrm>
            <a:off x="166680" y="6575400"/>
            <a:ext cx="285840" cy="2793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>
            <a:lum bright="6000"/>
          </a:blip>
          <a:srcRect l="14696" t="0" r="73473" b="77702"/>
          <a:stretch/>
        </p:blipFill>
        <p:spPr>
          <a:xfrm>
            <a:off x="452520" y="6572160"/>
            <a:ext cx="230040" cy="2858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>
            <a:lum bright="6000"/>
          </a:blip>
          <a:srcRect l="25962" t="0" r="65228" b="76955"/>
          <a:stretch/>
        </p:blipFill>
        <p:spPr>
          <a:xfrm>
            <a:off x="671400" y="6566040"/>
            <a:ext cx="171720" cy="29520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5">
            <a:lum bright="-6000"/>
          </a:blip>
          <a:srcRect l="33797" t="0" r="54044" b="77951"/>
          <a:stretch/>
        </p:blipFill>
        <p:spPr>
          <a:xfrm>
            <a:off x="824040" y="6575400"/>
            <a:ext cx="236520" cy="28260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6">
            <a:lum bright="-6000"/>
          </a:blip>
          <a:srcRect l="44088" t="0" r="45881" b="73990"/>
          <a:stretch/>
        </p:blipFill>
        <p:spPr>
          <a:xfrm>
            <a:off x="1023840" y="6524640"/>
            <a:ext cx="195480" cy="33336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7">
            <a:lum bright="6000"/>
          </a:blip>
          <a:srcRect l="59268" t="1981" r="33797" b="77702"/>
          <a:stretch/>
        </p:blipFill>
        <p:spPr>
          <a:xfrm>
            <a:off x="1319040" y="6597720"/>
            <a:ext cx="135000" cy="26028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8">
            <a:lum bright="12000"/>
          </a:blip>
          <a:srcRect l="72007" t="0" r="14942" b="77702"/>
          <a:stretch/>
        </p:blipFill>
        <p:spPr>
          <a:xfrm>
            <a:off x="1569960" y="6572160"/>
            <a:ext cx="254160" cy="28584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9">
            <a:lum bright="12000"/>
          </a:blip>
          <a:srcRect l="81316" t="0" r="3840" b="78200"/>
          <a:stretch/>
        </p:blipFill>
        <p:spPr>
          <a:xfrm>
            <a:off x="1751040" y="6578640"/>
            <a:ext cx="288720" cy="27936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0">
            <a:lum bright="6000"/>
          </a:blip>
          <a:srcRect l="64328" t="0" r="25880" b="75846"/>
          <a:stretch/>
        </p:blipFill>
        <p:spPr>
          <a:xfrm>
            <a:off x="1420920" y="6548400"/>
            <a:ext cx="190440" cy="30960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2124000" y="6165720"/>
            <a:ext cx="4392720" cy="69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6485040" y="6165720"/>
            <a:ext cx="26589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240" y="6562800"/>
            <a:ext cx="9140760" cy="295200"/>
          </a:xfrm>
          <a:prstGeom prst="rect">
            <a:avLst/>
          </a:prstGeom>
          <a:gradFill rotWithShape="0">
            <a:gsLst>
              <a:gs pos="0">
                <a:srgbClr val="525b61">
                  <a:alpha val="0"/>
                </a:srgbClr>
              </a:gs>
              <a:gs pos="100000">
                <a:srgbClr val="b4c6d4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gradFill rotWithShape="0">
            <a:gsLst>
              <a:gs pos="0">
                <a:srgbClr val="b4c6d4"/>
              </a:gs>
              <a:gs pos="100000">
                <a:srgbClr val="525b6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dt" idx="1"/>
          </p:nvPr>
        </p:nvSpPr>
        <p:spPr>
          <a:xfrm>
            <a:off x="2089080" y="6496200"/>
            <a:ext cx="11145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ftr" idx="2"/>
          </p:nvPr>
        </p:nvSpPr>
        <p:spPr>
          <a:xfrm>
            <a:off x="3392640" y="6496200"/>
            <a:ext cx="4278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sldNum" idx="3"/>
          </p:nvPr>
        </p:nvSpPr>
        <p:spPr>
          <a:xfrm>
            <a:off x="7860960" y="6496200"/>
            <a:ext cx="10904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" name=""/>
          <p:cNvGrpSpPr/>
          <p:nvPr/>
        </p:nvGrpSpPr>
        <p:grpSpPr>
          <a:xfrm>
            <a:off x="7948080" y="-88200"/>
            <a:ext cx="1095840" cy="1188360"/>
            <a:chOff x="7948080" y="-88200"/>
            <a:chExt cx="1095840" cy="1188360"/>
          </a:xfrm>
        </p:grpSpPr>
        <p:sp>
          <p:nvSpPr>
            <p:cNvPr id="32" name=""/>
            <p:cNvSpPr/>
            <p:nvPr/>
          </p:nvSpPr>
          <p:spPr>
            <a:xfrm>
              <a:off x="8050320" y="106560"/>
              <a:ext cx="968040" cy="968400"/>
            </a:xfrm>
            <a:prstGeom prst="ellipse">
              <a:avLst/>
            </a:prstGeom>
            <a:gradFill rotWithShape="0">
              <a:gsLst>
                <a:gs pos="0">
                  <a:srgbClr val="a7adb2"/>
                </a:gs>
                <a:gs pos="100000">
                  <a:srgbClr val="dde5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19222b"/>
                </a:gs>
                <a:gs pos="50000">
                  <a:srgbClr val="384a5e"/>
                </a:gs>
                <a:gs pos="100000">
                  <a:srgbClr val="19222b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7948080" y="-88200"/>
              <a:ext cx="983520" cy="1061640"/>
              <a:chOff x="7948080" y="-88200"/>
              <a:chExt cx="983520" cy="1061640"/>
            </a:xfrm>
          </p:grpSpPr>
          <p:pic>
            <p:nvPicPr>
              <p:cNvPr id="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9760" y="214560"/>
                <a:ext cx="75852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 rot="19899000">
                <a:off x="8037360" y="68040"/>
                <a:ext cx="804960" cy="579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7058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757575">
                    <a:alpha val="0"/>
                  </a:srgbClr>
                </a:gs>
                <a:gs pos="100000">
                  <a:srgbClr val="ffffff">
                    <a:alpha val="16078"/>
                  </a:srgbClr>
                </a:gs>
              </a:gsLst>
              <a:lin ang="13500000"/>
            </a:gradFill>
            <a:ln w="9360">
              <a:solidFill>
                <a:srgbClr val="c5d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485040" y="6165720"/>
            <a:ext cx="26589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21600"/>
            <a:ext cx="9144000" cy="144360"/>
          </a:xfrm>
          <a:prstGeom prst="rect">
            <a:avLst/>
          </a:prstGeom>
          <a:gradFill rotWithShape="0">
            <a:gsLst>
              <a:gs pos="0">
                <a:srgbClr val="19222b">
                  <a:alpha val="0"/>
                </a:srgbClr>
              </a:gs>
              <a:gs pos="100000">
                <a:srgbClr val="384a5e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6165720"/>
            <a:ext cx="4392720" cy="69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25350" b="21466"/>
          <a:stretch/>
        </p:blipFill>
        <p:spPr>
          <a:xfrm>
            <a:off x="4235400" y="1693800"/>
            <a:ext cx="4908600" cy="516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>
            <a:lum bright="12000"/>
          </a:blip>
          <a:srcRect l="0" t="0" r="85311" b="78166"/>
          <a:stretch/>
        </p:blipFill>
        <p:spPr>
          <a:xfrm>
            <a:off x="166680" y="6575400"/>
            <a:ext cx="285840" cy="27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>
            <a:lum bright="6000"/>
          </a:blip>
          <a:srcRect l="14696" t="0" r="73473" b="77702"/>
          <a:stretch/>
        </p:blipFill>
        <p:spPr>
          <a:xfrm>
            <a:off x="452520" y="6572160"/>
            <a:ext cx="23004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>
            <a:lum bright="6000"/>
          </a:blip>
          <a:srcRect l="25962" t="0" r="65228" b="76955"/>
          <a:stretch/>
        </p:blipFill>
        <p:spPr>
          <a:xfrm>
            <a:off x="671400" y="6566040"/>
            <a:ext cx="171720" cy="29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>
            <a:lum bright="-6000"/>
          </a:blip>
          <a:srcRect l="33797" t="0" r="54044" b="77951"/>
          <a:stretch/>
        </p:blipFill>
        <p:spPr>
          <a:xfrm>
            <a:off x="824040" y="6575400"/>
            <a:ext cx="236520" cy="282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>
            <a:lum bright="-6000"/>
          </a:blip>
          <a:srcRect l="44088" t="0" r="45881" b="73990"/>
          <a:stretch/>
        </p:blipFill>
        <p:spPr>
          <a:xfrm>
            <a:off x="1023840" y="6524640"/>
            <a:ext cx="19548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>
            <a:lum bright="6000"/>
          </a:blip>
          <a:srcRect l="59268" t="1981" r="33797" b="77702"/>
          <a:stretch/>
        </p:blipFill>
        <p:spPr>
          <a:xfrm>
            <a:off x="1319040" y="6597720"/>
            <a:ext cx="135000" cy="26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>
            <a:lum bright="12000"/>
          </a:blip>
          <a:srcRect l="72007" t="0" r="14942" b="77702"/>
          <a:stretch/>
        </p:blipFill>
        <p:spPr>
          <a:xfrm>
            <a:off x="1569960" y="6572160"/>
            <a:ext cx="254160" cy="285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>
            <a:lum bright="12000"/>
          </a:blip>
          <a:srcRect l="81316" t="0" r="3840" b="78200"/>
          <a:stretch/>
        </p:blipFill>
        <p:spPr>
          <a:xfrm>
            <a:off x="1751040" y="6578640"/>
            <a:ext cx="288720" cy="279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>
            <a:lum bright="6000"/>
          </a:blip>
          <a:srcRect l="64328" t="0" r="25880" b="75846"/>
          <a:stretch/>
        </p:blipFill>
        <p:spPr>
          <a:xfrm>
            <a:off x="1420920" y="6548400"/>
            <a:ext cx="190440" cy="309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" y="6562800"/>
            <a:ext cx="9140760" cy="295200"/>
          </a:xfrm>
          <a:prstGeom prst="rect">
            <a:avLst/>
          </a:prstGeom>
          <a:gradFill rotWithShape="0">
            <a:gsLst>
              <a:gs pos="0">
                <a:srgbClr val="525b61">
                  <a:alpha val="0"/>
                </a:srgbClr>
              </a:gs>
              <a:gs pos="100000">
                <a:srgbClr val="b4c6d4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84a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gradFill rotWithShape="0">
            <a:gsLst>
              <a:gs pos="0">
                <a:srgbClr val="384a5e"/>
              </a:gs>
              <a:gs pos="100000">
                <a:srgbClr val="1922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6680" y="5411880"/>
            <a:ext cx="1944720" cy="1235160"/>
            <a:chOff x="166680" y="5411880"/>
            <a:chExt cx="1944720" cy="1235160"/>
          </a:xfrm>
        </p:grpSpPr>
        <p:sp>
          <p:nvSpPr>
            <p:cNvPr id="91" name="未知"/>
            <p:cNvSpPr/>
            <p:nvPr/>
          </p:nvSpPr>
          <p:spPr>
            <a:xfrm>
              <a:off x="166680" y="5470560"/>
              <a:ext cx="307800" cy="1135800"/>
            </a:xfrm>
            <a:custGeom>
              <a:avLst/>
              <a:gdLst/>
              <a:ahLst/>
              <a:rect l="l" t="t" r="r" b="b"/>
              <a:pathLst>
                <a:path w="471" h="1736">
                  <a:moveTo>
                    <a:pt x="453" y="322"/>
                  </a:moveTo>
                  <a:cubicBezTo>
                    <a:pt x="417" y="282"/>
                    <a:pt x="417" y="282"/>
                    <a:pt x="417" y="282"/>
                  </a:cubicBezTo>
                  <a:cubicBezTo>
                    <a:pt x="429" y="275"/>
                    <a:pt x="429" y="275"/>
                    <a:pt x="429" y="275"/>
                  </a:cubicBezTo>
                  <a:cubicBezTo>
                    <a:pt x="429" y="275"/>
                    <a:pt x="412" y="222"/>
                    <a:pt x="401" y="222"/>
                  </a:cubicBezTo>
                  <a:cubicBezTo>
                    <a:pt x="401" y="222"/>
                    <a:pt x="390" y="207"/>
                    <a:pt x="400" y="195"/>
                  </a:cubicBezTo>
                  <a:cubicBezTo>
                    <a:pt x="400" y="195"/>
                    <a:pt x="429" y="164"/>
                    <a:pt x="427" y="143"/>
                  </a:cubicBezTo>
                  <a:cubicBezTo>
                    <a:pt x="427" y="143"/>
                    <a:pt x="416" y="86"/>
                    <a:pt x="409" y="70"/>
                  </a:cubicBezTo>
                  <a:cubicBezTo>
                    <a:pt x="403" y="54"/>
                    <a:pt x="360" y="0"/>
                    <a:pt x="293" y="35"/>
                  </a:cubicBezTo>
                  <a:cubicBezTo>
                    <a:pt x="227" y="70"/>
                    <a:pt x="260" y="147"/>
                    <a:pt x="260" y="147"/>
                  </a:cubicBezTo>
                  <a:cubicBezTo>
                    <a:pt x="260" y="147"/>
                    <a:pt x="265" y="158"/>
                    <a:pt x="264" y="166"/>
                  </a:cubicBezTo>
                  <a:cubicBezTo>
                    <a:pt x="264" y="166"/>
                    <a:pt x="275" y="239"/>
                    <a:pt x="303" y="247"/>
                  </a:cubicBezTo>
                  <a:cubicBezTo>
                    <a:pt x="303" y="247"/>
                    <a:pt x="301" y="260"/>
                    <a:pt x="297" y="260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73" y="278"/>
                    <a:pt x="262" y="293"/>
                    <a:pt x="231" y="296"/>
                  </a:cubicBezTo>
                  <a:cubicBezTo>
                    <a:pt x="231" y="296"/>
                    <a:pt x="196" y="310"/>
                    <a:pt x="189" y="326"/>
                  </a:cubicBezTo>
                  <a:cubicBezTo>
                    <a:pt x="189" y="326"/>
                    <a:pt x="169" y="368"/>
                    <a:pt x="161" y="380"/>
                  </a:cubicBezTo>
                  <a:cubicBezTo>
                    <a:pt x="161" y="380"/>
                    <a:pt x="153" y="388"/>
                    <a:pt x="148" y="400"/>
                  </a:cubicBezTo>
                  <a:cubicBezTo>
                    <a:pt x="148" y="400"/>
                    <a:pt x="145" y="412"/>
                    <a:pt x="140" y="415"/>
                  </a:cubicBezTo>
                  <a:cubicBezTo>
                    <a:pt x="140" y="415"/>
                    <a:pt x="129" y="423"/>
                    <a:pt x="127" y="430"/>
                  </a:cubicBezTo>
                  <a:cubicBezTo>
                    <a:pt x="127" y="430"/>
                    <a:pt x="116" y="446"/>
                    <a:pt x="117" y="454"/>
                  </a:cubicBezTo>
                  <a:cubicBezTo>
                    <a:pt x="117" y="454"/>
                    <a:pt x="93" y="476"/>
                    <a:pt x="93" y="488"/>
                  </a:cubicBezTo>
                  <a:cubicBezTo>
                    <a:pt x="93" y="488"/>
                    <a:pt x="60" y="499"/>
                    <a:pt x="63" y="540"/>
                  </a:cubicBezTo>
                  <a:cubicBezTo>
                    <a:pt x="63" y="540"/>
                    <a:pt x="56" y="588"/>
                    <a:pt x="76" y="590"/>
                  </a:cubicBezTo>
                  <a:cubicBezTo>
                    <a:pt x="147" y="610"/>
                    <a:pt x="147" y="610"/>
                    <a:pt x="147" y="610"/>
                  </a:cubicBezTo>
                  <a:cubicBezTo>
                    <a:pt x="140" y="640"/>
                    <a:pt x="140" y="640"/>
                    <a:pt x="140" y="640"/>
                  </a:cubicBezTo>
                  <a:cubicBezTo>
                    <a:pt x="145" y="640"/>
                    <a:pt x="145" y="640"/>
                    <a:pt x="145" y="640"/>
                  </a:cubicBezTo>
                  <a:cubicBezTo>
                    <a:pt x="145" y="640"/>
                    <a:pt x="135" y="696"/>
                    <a:pt x="125" y="726"/>
                  </a:cubicBezTo>
                  <a:cubicBezTo>
                    <a:pt x="125" y="726"/>
                    <a:pt x="129" y="734"/>
                    <a:pt x="141" y="734"/>
                  </a:cubicBezTo>
                  <a:cubicBezTo>
                    <a:pt x="141" y="734"/>
                    <a:pt x="143" y="780"/>
                    <a:pt x="139" y="786"/>
                  </a:cubicBezTo>
                  <a:cubicBezTo>
                    <a:pt x="139" y="786"/>
                    <a:pt x="128" y="799"/>
                    <a:pt x="128" y="811"/>
                  </a:cubicBezTo>
                  <a:cubicBezTo>
                    <a:pt x="128" y="811"/>
                    <a:pt x="127" y="828"/>
                    <a:pt x="127" y="835"/>
                  </a:cubicBezTo>
                  <a:cubicBezTo>
                    <a:pt x="127" y="835"/>
                    <a:pt x="112" y="857"/>
                    <a:pt x="112" y="867"/>
                  </a:cubicBezTo>
                  <a:cubicBezTo>
                    <a:pt x="112" y="867"/>
                    <a:pt x="106" y="902"/>
                    <a:pt x="103" y="916"/>
                  </a:cubicBezTo>
                  <a:cubicBezTo>
                    <a:pt x="103" y="916"/>
                    <a:pt x="87" y="1043"/>
                    <a:pt x="91" y="1056"/>
                  </a:cubicBezTo>
                  <a:cubicBezTo>
                    <a:pt x="91" y="1056"/>
                    <a:pt x="67" y="1170"/>
                    <a:pt x="73" y="1222"/>
                  </a:cubicBezTo>
                  <a:cubicBezTo>
                    <a:pt x="73" y="1222"/>
                    <a:pt x="83" y="1295"/>
                    <a:pt x="73" y="1330"/>
                  </a:cubicBezTo>
                  <a:cubicBezTo>
                    <a:pt x="73" y="1330"/>
                    <a:pt x="64" y="1392"/>
                    <a:pt x="64" y="1399"/>
                  </a:cubicBezTo>
                  <a:cubicBezTo>
                    <a:pt x="64" y="1399"/>
                    <a:pt x="52" y="1671"/>
                    <a:pt x="53" y="1686"/>
                  </a:cubicBezTo>
                  <a:cubicBezTo>
                    <a:pt x="53" y="1686"/>
                    <a:pt x="0" y="1702"/>
                    <a:pt x="1" y="1706"/>
                  </a:cubicBezTo>
                  <a:cubicBezTo>
                    <a:pt x="1" y="1706"/>
                    <a:pt x="84" y="1734"/>
                    <a:pt x="127" y="1726"/>
                  </a:cubicBezTo>
                  <a:cubicBezTo>
                    <a:pt x="127" y="1726"/>
                    <a:pt x="151" y="1703"/>
                    <a:pt x="152" y="1695"/>
                  </a:cubicBezTo>
                  <a:cubicBezTo>
                    <a:pt x="152" y="1695"/>
                    <a:pt x="199" y="1694"/>
                    <a:pt x="203" y="1688"/>
                  </a:cubicBezTo>
                  <a:cubicBezTo>
                    <a:pt x="203" y="1710"/>
                    <a:pt x="203" y="1710"/>
                    <a:pt x="203" y="1710"/>
                  </a:cubicBezTo>
                  <a:cubicBezTo>
                    <a:pt x="212" y="1708"/>
                    <a:pt x="212" y="1708"/>
                    <a:pt x="212" y="1708"/>
                  </a:cubicBezTo>
                  <a:cubicBezTo>
                    <a:pt x="216" y="1687"/>
                    <a:pt x="216" y="1687"/>
                    <a:pt x="216" y="1687"/>
                  </a:cubicBezTo>
                  <a:cubicBezTo>
                    <a:pt x="216" y="1687"/>
                    <a:pt x="229" y="1690"/>
                    <a:pt x="233" y="1687"/>
                  </a:cubicBezTo>
                  <a:cubicBezTo>
                    <a:pt x="235" y="1700"/>
                    <a:pt x="235" y="1700"/>
                    <a:pt x="235" y="1700"/>
                  </a:cubicBezTo>
                  <a:cubicBezTo>
                    <a:pt x="209" y="1722"/>
                    <a:pt x="209" y="1722"/>
                    <a:pt x="209" y="1722"/>
                  </a:cubicBezTo>
                  <a:cubicBezTo>
                    <a:pt x="209" y="1722"/>
                    <a:pt x="205" y="1727"/>
                    <a:pt x="219" y="1727"/>
                  </a:cubicBezTo>
                  <a:cubicBezTo>
                    <a:pt x="219" y="1727"/>
                    <a:pt x="317" y="1736"/>
                    <a:pt x="328" y="1706"/>
                  </a:cubicBezTo>
                  <a:cubicBezTo>
                    <a:pt x="328" y="1706"/>
                    <a:pt x="339" y="1703"/>
                    <a:pt x="348" y="1699"/>
                  </a:cubicBezTo>
                  <a:cubicBezTo>
                    <a:pt x="348" y="1704"/>
                    <a:pt x="348" y="1704"/>
                    <a:pt x="348" y="1704"/>
                  </a:cubicBezTo>
                  <a:cubicBezTo>
                    <a:pt x="356" y="1706"/>
                    <a:pt x="356" y="1706"/>
                    <a:pt x="356" y="1706"/>
                  </a:cubicBezTo>
                  <a:cubicBezTo>
                    <a:pt x="356" y="1690"/>
                    <a:pt x="356" y="1690"/>
                    <a:pt x="356" y="1690"/>
                  </a:cubicBezTo>
                  <a:cubicBezTo>
                    <a:pt x="356" y="1690"/>
                    <a:pt x="376" y="1676"/>
                    <a:pt x="379" y="1668"/>
                  </a:cubicBezTo>
                  <a:cubicBezTo>
                    <a:pt x="379" y="1668"/>
                    <a:pt x="375" y="1491"/>
                    <a:pt x="380" y="1486"/>
                  </a:cubicBezTo>
                  <a:cubicBezTo>
                    <a:pt x="380" y="1486"/>
                    <a:pt x="407" y="1190"/>
                    <a:pt x="375" y="1138"/>
                  </a:cubicBezTo>
                  <a:cubicBezTo>
                    <a:pt x="375" y="1138"/>
                    <a:pt x="381" y="1106"/>
                    <a:pt x="383" y="1095"/>
                  </a:cubicBezTo>
                  <a:cubicBezTo>
                    <a:pt x="396" y="950"/>
                    <a:pt x="396" y="950"/>
                    <a:pt x="396" y="950"/>
                  </a:cubicBezTo>
                  <a:cubicBezTo>
                    <a:pt x="396" y="950"/>
                    <a:pt x="440" y="872"/>
                    <a:pt x="389" y="740"/>
                  </a:cubicBezTo>
                  <a:cubicBezTo>
                    <a:pt x="389" y="740"/>
                    <a:pt x="359" y="638"/>
                    <a:pt x="348" y="628"/>
                  </a:cubicBezTo>
                  <a:cubicBezTo>
                    <a:pt x="348" y="628"/>
                    <a:pt x="361" y="606"/>
                    <a:pt x="345" y="579"/>
                  </a:cubicBezTo>
                  <a:cubicBezTo>
                    <a:pt x="345" y="579"/>
                    <a:pt x="375" y="564"/>
                    <a:pt x="375" y="547"/>
                  </a:cubicBezTo>
                  <a:cubicBezTo>
                    <a:pt x="375" y="547"/>
                    <a:pt x="389" y="546"/>
                    <a:pt x="399" y="526"/>
                  </a:cubicBezTo>
                  <a:cubicBezTo>
                    <a:pt x="399" y="526"/>
                    <a:pt x="421" y="474"/>
                    <a:pt x="427" y="474"/>
                  </a:cubicBezTo>
                  <a:cubicBezTo>
                    <a:pt x="427" y="474"/>
                    <a:pt x="451" y="468"/>
                    <a:pt x="453" y="420"/>
                  </a:cubicBezTo>
                  <a:cubicBezTo>
                    <a:pt x="453" y="420"/>
                    <a:pt x="471" y="359"/>
                    <a:pt x="453" y="322"/>
                  </a:cubicBezTo>
                  <a:close/>
                  <a:moveTo>
                    <a:pt x="262" y="1584"/>
                  </a:moveTo>
                  <a:cubicBezTo>
                    <a:pt x="259" y="1607"/>
                    <a:pt x="249" y="1609"/>
                    <a:pt x="249" y="1609"/>
                  </a:cubicBezTo>
                  <a:cubicBezTo>
                    <a:pt x="240" y="1535"/>
                    <a:pt x="210" y="1280"/>
                    <a:pt x="210" y="1280"/>
                  </a:cubicBezTo>
                  <a:cubicBezTo>
                    <a:pt x="205" y="1257"/>
                    <a:pt x="205" y="1225"/>
                    <a:pt x="205" y="1225"/>
                  </a:cubicBezTo>
                  <a:cubicBezTo>
                    <a:pt x="212" y="1200"/>
                    <a:pt x="223" y="1163"/>
                    <a:pt x="223" y="1163"/>
                  </a:cubicBezTo>
                  <a:cubicBezTo>
                    <a:pt x="227" y="1140"/>
                    <a:pt x="244" y="1093"/>
                    <a:pt x="244" y="1093"/>
                  </a:cubicBezTo>
                  <a:cubicBezTo>
                    <a:pt x="254" y="1102"/>
                    <a:pt x="255" y="1152"/>
                    <a:pt x="255" y="1152"/>
                  </a:cubicBezTo>
                  <a:cubicBezTo>
                    <a:pt x="261" y="1215"/>
                    <a:pt x="271" y="1224"/>
                    <a:pt x="271" y="1224"/>
                  </a:cubicBezTo>
                  <a:cubicBezTo>
                    <a:pt x="274" y="1234"/>
                    <a:pt x="275" y="1510"/>
                    <a:pt x="275" y="1510"/>
                  </a:cubicBezTo>
                  <a:cubicBezTo>
                    <a:pt x="267" y="1535"/>
                    <a:pt x="262" y="1584"/>
                    <a:pt x="262" y="1584"/>
                  </a:cubicBezTo>
                  <a:close/>
                </a:path>
              </a:pathLst>
            </a:custGeom>
            <a:solidFill>
              <a:srgbClr val="8ea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278280" y="5616720"/>
              <a:ext cx="160920" cy="166680"/>
            </a:xfrm>
            <a:custGeom>
              <a:avLst/>
              <a:gdLst/>
              <a:ahLst/>
              <a:rect l="l" t="t" r="r" b="b"/>
              <a:pathLst>
                <a:path w="246" h="255">
                  <a:moveTo>
                    <a:pt x="18" y="255"/>
                  </a:moveTo>
                  <a:cubicBezTo>
                    <a:pt x="18" y="255"/>
                    <a:pt x="0" y="215"/>
                    <a:pt x="18" y="193"/>
                  </a:cubicBezTo>
                  <a:cubicBezTo>
                    <a:pt x="18" y="193"/>
                    <a:pt x="72" y="126"/>
                    <a:pt x="78" y="108"/>
                  </a:cubicBezTo>
                  <a:cubicBezTo>
                    <a:pt x="78" y="108"/>
                    <a:pt x="99" y="80"/>
                    <a:pt x="100" y="77"/>
                  </a:cubicBezTo>
                  <a:cubicBezTo>
                    <a:pt x="101" y="74"/>
                    <a:pt x="103" y="59"/>
                    <a:pt x="103" y="59"/>
                  </a:cubicBezTo>
                  <a:cubicBezTo>
                    <a:pt x="129" y="39"/>
                    <a:pt x="129" y="39"/>
                    <a:pt x="129" y="39"/>
                  </a:cubicBezTo>
                  <a:cubicBezTo>
                    <a:pt x="128" y="59"/>
                    <a:pt x="128" y="59"/>
                    <a:pt x="128" y="59"/>
                  </a:cubicBezTo>
                  <a:cubicBezTo>
                    <a:pt x="57" y="152"/>
                    <a:pt x="57" y="152"/>
                    <a:pt x="57" y="152"/>
                  </a:cubicBezTo>
                  <a:cubicBezTo>
                    <a:pt x="141" y="70"/>
                    <a:pt x="141" y="70"/>
                    <a:pt x="141" y="70"/>
                  </a:cubicBezTo>
                  <a:cubicBezTo>
                    <a:pt x="139" y="59"/>
                    <a:pt x="139" y="59"/>
                    <a:pt x="139" y="59"/>
                  </a:cubicBezTo>
                  <a:cubicBezTo>
                    <a:pt x="139" y="59"/>
                    <a:pt x="134" y="50"/>
                    <a:pt x="152" y="43"/>
                  </a:cubicBezTo>
                  <a:cubicBezTo>
                    <a:pt x="152" y="43"/>
                    <a:pt x="224" y="14"/>
                    <a:pt x="229" y="0"/>
                  </a:cubicBezTo>
                  <a:cubicBezTo>
                    <a:pt x="229" y="0"/>
                    <a:pt x="239" y="6"/>
                    <a:pt x="243" y="18"/>
                  </a:cubicBezTo>
                  <a:cubicBezTo>
                    <a:pt x="246" y="25"/>
                    <a:pt x="246" y="25"/>
                    <a:pt x="246" y="25"/>
                  </a:cubicBezTo>
                  <a:cubicBezTo>
                    <a:pt x="246" y="25"/>
                    <a:pt x="215" y="32"/>
                    <a:pt x="180" y="50"/>
                  </a:cubicBezTo>
                  <a:cubicBezTo>
                    <a:pt x="180" y="50"/>
                    <a:pt x="38" y="159"/>
                    <a:pt x="28" y="254"/>
                  </a:cubicBezTo>
                  <a:lnTo>
                    <a:pt x="18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477720" y="5445000"/>
              <a:ext cx="390600" cy="1166040"/>
            </a:xfrm>
            <a:custGeom>
              <a:avLst/>
              <a:gdLst/>
              <a:ahLst/>
              <a:rect l="l" t="t" r="r" b="b"/>
              <a:pathLst>
                <a:path w="598" h="1782">
                  <a:moveTo>
                    <a:pt x="76" y="1693"/>
                  </a:moveTo>
                  <a:cubicBezTo>
                    <a:pt x="76" y="1693"/>
                    <a:pt x="51" y="1729"/>
                    <a:pt x="11" y="1743"/>
                  </a:cubicBezTo>
                  <a:cubicBezTo>
                    <a:pt x="11" y="1743"/>
                    <a:pt x="0" y="1753"/>
                    <a:pt x="5" y="1769"/>
                  </a:cubicBezTo>
                  <a:cubicBezTo>
                    <a:pt x="5" y="1769"/>
                    <a:pt x="65" y="1782"/>
                    <a:pt x="111" y="1759"/>
                  </a:cubicBezTo>
                  <a:cubicBezTo>
                    <a:pt x="111" y="1759"/>
                    <a:pt x="135" y="1737"/>
                    <a:pt x="136" y="1731"/>
                  </a:cubicBezTo>
                  <a:cubicBezTo>
                    <a:pt x="136" y="1731"/>
                    <a:pt x="141" y="1729"/>
                    <a:pt x="148" y="1737"/>
                  </a:cubicBezTo>
                  <a:cubicBezTo>
                    <a:pt x="148" y="1737"/>
                    <a:pt x="159" y="1740"/>
                    <a:pt x="172" y="1737"/>
                  </a:cubicBezTo>
                  <a:cubicBezTo>
                    <a:pt x="172" y="1737"/>
                    <a:pt x="195" y="1731"/>
                    <a:pt x="198" y="1726"/>
                  </a:cubicBezTo>
                  <a:cubicBezTo>
                    <a:pt x="198" y="1726"/>
                    <a:pt x="201" y="1706"/>
                    <a:pt x="198" y="1698"/>
                  </a:cubicBezTo>
                  <a:cubicBezTo>
                    <a:pt x="205" y="1661"/>
                    <a:pt x="205" y="1661"/>
                    <a:pt x="205" y="1661"/>
                  </a:cubicBezTo>
                  <a:cubicBezTo>
                    <a:pt x="205" y="1661"/>
                    <a:pt x="221" y="1609"/>
                    <a:pt x="209" y="1568"/>
                  </a:cubicBezTo>
                  <a:cubicBezTo>
                    <a:pt x="209" y="1568"/>
                    <a:pt x="205" y="1530"/>
                    <a:pt x="215" y="1502"/>
                  </a:cubicBezTo>
                  <a:cubicBezTo>
                    <a:pt x="215" y="1502"/>
                    <a:pt x="241" y="1337"/>
                    <a:pt x="245" y="1304"/>
                  </a:cubicBezTo>
                  <a:cubicBezTo>
                    <a:pt x="250" y="1272"/>
                    <a:pt x="260" y="1270"/>
                    <a:pt x="290" y="1132"/>
                  </a:cubicBezTo>
                  <a:cubicBezTo>
                    <a:pt x="290" y="1132"/>
                    <a:pt x="311" y="1050"/>
                    <a:pt x="317" y="1046"/>
                  </a:cubicBezTo>
                  <a:cubicBezTo>
                    <a:pt x="317" y="1046"/>
                    <a:pt x="330" y="1168"/>
                    <a:pt x="363" y="1199"/>
                  </a:cubicBezTo>
                  <a:cubicBezTo>
                    <a:pt x="363" y="1199"/>
                    <a:pt x="367" y="1299"/>
                    <a:pt x="380" y="1320"/>
                  </a:cubicBezTo>
                  <a:cubicBezTo>
                    <a:pt x="380" y="1320"/>
                    <a:pt x="376" y="1452"/>
                    <a:pt x="385" y="1471"/>
                  </a:cubicBezTo>
                  <a:cubicBezTo>
                    <a:pt x="393" y="1491"/>
                    <a:pt x="366" y="1515"/>
                    <a:pt x="363" y="1598"/>
                  </a:cubicBezTo>
                  <a:cubicBezTo>
                    <a:pt x="360" y="1680"/>
                    <a:pt x="378" y="1684"/>
                    <a:pt x="391" y="1694"/>
                  </a:cubicBezTo>
                  <a:cubicBezTo>
                    <a:pt x="397" y="1698"/>
                    <a:pt x="397" y="1698"/>
                    <a:pt x="397" y="1698"/>
                  </a:cubicBezTo>
                  <a:cubicBezTo>
                    <a:pt x="397" y="1698"/>
                    <a:pt x="403" y="1718"/>
                    <a:pt x="402" y="1721"/>
                  </a:cubicBezTo>
                  <a:cubicBezTo>
                    <a:pt x="400" y="1724"/>
                    <a:pt x="407" y="1732"/>
                    <a:pt x="405" y="1743"/>
                  </a:cubicBezTo>
                  <a:cubicBezTo>
                    <a:pt x="405" y="1743"/>
                    <a:pt x="396" y="1759"/>
                    <a:pt x="419" y="1765"/>
                  </a:cubicBezTo>
                  <a:cubicBezTo>
                    <a:pt x="419" y="1765"/>
                    <a:pt x="492" y="1779"/>
                    <a:pt x="496" y="1746"/>
                  </a:cubicBezTo>
                  <a:cubicBezTo>
                    <a:pt x="496" y="1746"/>
                    <a:pt x="500" y="1741"/>
                    <a:pt x="494" y="1723"/>
                  </a:cubicBezTo>
                  <a:cubicBezTo>
                    <a:pt x="494" y="1723"/>
                    <a:pt x="477" y="1701"/>
                    <a:pt x="477" y="1699"/>
                  </a:cubicBezTo>
                  <a:cubicBezTo>
                    <a:pt x="483" y="1699"/>
                    <a:pt x="483" y="1699"/>
                    <a:pt x="483" y="1699"/>
                  </a:cubicBezTo>
                  <a:cubicBezTo>
                    <a:pt x="483" y="1699"/>
                    <a:pt x="486" y="1661"/>
                    <a:pt x="488" y="1659"/>
                  </a:cubicBezTo>
                  <a:cubicBezTo>
                    <a:pt x="488" y="1659"/>
                    <a:pt x="498" y="1514"/>
                    <a:pt x="491" y="1507"/>
                  </a:cubicBezTo>
                  <a:cubicBezTo>
                    <a:pt x="491" y="1507"/>
                    <a:pt x="500" y="1463"/>
                    <a:pt x="500" y="1438"/>
                  </a:cubicBezTo>
                  <a:cubicBezTo>
                    <a:pt x="500" y="1438"/>
                    <a:pt x="499" y="1279"/>
                    <a:pt x="494" y="1268"/>
                  </a:cubicBezTo>
                  <a:cubicBezTo>
                    <a:pt x="490" y="1257"/>
                    <a:pt x="504" y="1144"/>
                    <a:pt x="504" y="1144"/>
                  </a:cubicBezTo>
                  <a:cubicBezTo>
                    <a:pt x="504" y="1144"/>
                    <a:pt x="514" y="1037"/>
                    <a:pt x="512" y="1025"/>
                  </a:cubicBezTo>
                  <a:cubicBezTo>
                    <a:pt x="511" y="1012"/>
                    <a:pt x="530" y="916"/>
                    <a:pt x="493" y="769"/>
                  </a:cubicBezTo>
                  <a:cubicBezTo>
                    <a:pt x="485" y="741"/>
                    <a:pt x="485" y="741"/>
                    <a:pt x="485" y="741"/>
                  </a:cubicBezTo>
                  <a:cubicBezTo>
                    <a:pt x="485" y="741"/>
                    <a:pt x="488" y="720"/>
                    <a:pt x="479" y="706"/>
                  </a:cubicBezTo>
                  <a:cubicBezTo>
                    <a:pt x="479" y="706"/>
                    <a:pt x="505" y="706"/>
                    <a:pt x="512" y="693"/>
                  </a:cubicBezTo>
                  <a:cubicBezTo>
                    <a:pt x="512" y="693"/>
                    <a:pt x="518" y="661"/>
                    <a:pt x="515" y="656"/>
                  </a:cubicBezTo>
                  <a:cubicBezTo>
                    <a:pt x="515" y="656"/>
                    <a:pt x="520" y="634"/>
                    <a:pt x="520" y="622"/>
                  </a:cubicBezTo>
                  <a:cubicBezTo>
                    <a:pt x="520" y="622"/>
                    <a:pt x="572" y="532"/>
                    <a:pt x="574" y="458"/>
                  </a:cubicBezTo>
                  <a:cubicBezTo>
                    <a:pt x="575" y="413"/>
                    <a:pt x="575" y="413"/>
                    <a:pt x="575" y="413"/>
                  </a:cubicBezTo>
                  <a:cubicBezTo>
                    <a:pt x="575" y="413"/>
                    <a:pt x="598" y="331"/>
                    <a:pt x="542" y="310"/>
                  </a:cubicBezTo>
                  <a:cubicBezTo>
                    <a:pt x="542" y="310"/>
                    <a:pt x="519" y="292"/>
                    <a:pt x="494" y="288"/>
                  </a:cubicBezTo>
                  <a:cubicBezTo>
                    <a:pt x="494" y="288"/>
                    <a:pt x="479" y="271"/>
                    <a:pt x="460" y="266"/>
                  </a:cubicBezTo>
                  <a:cubicBezTo>
                    <a:pt x="441" y="260"/>
                    <a:pt x="432" y="250"/>
                    <a:pt x="432" y="250"/>
                  </a:cubicBezTo>
                  <a:cubicBezTo>
                    <a:pt x="432" y="250"/>
                    <a:pt x="424" y="215"/>
                    <a:pt x="413" y="215"/>
                  </a:cubicBezTo>
                  <a:cubicBezTo>
                    <a:pt x="413" y="215"/>
                    <a:pt x="409" y="206"/>
                    <a:pt x="409" y="196"/>
                  </a:cubicBezTo>
                  <a:cubicBezTo>
                    <a:pt x="409" y="186"/>
                    <a:pt x="406" y="159"/>
                    <a:pt x="414" y="154"/>
                  </a:cubicBezTo>
                  <a:cubicBezTo>
                    <a:pt x="423" y="150"/>
                    <a:pt x="423" y="144"/>
                    <a:pt x="423" y="126"/>
                  </a:cubicBezTo>
                  <a:cubicBezTo>
                    <a:pt x="423" y="108"/>
                    <a:pt x="420" y="107"/>
                    <a:pt x="416" y="105"/>
                  </a:cubicBezTo>
                  <a:cubicBezTo>
                    <a:pt x="411" y="102"/>
                    <a:pt x="420" y="52"/>
                    <a:pt x="393" y="34"/>
                  </a:cubicBezTo>
                  <a:cubicBezTo>
                    <a:pt x="367" y="16"/>
                    <a:pt x="352" y="0"/>
                    <a:pt x="307" y="5"/>
                  </a:cubicBezTo>
                  <a:cubicBezTo>
                    <a:pt x="262" y="10"/>
                    <a:pt x="245" y="68"/>
                    <a:pt x="243" y="96"/>
                  </a:cubicBezTo>
                  <a:cubicBezTo>
                    <a:pt x="242" y="125"/>
                    <a:pt x="263" y="156"/>
                    <a:pt x="263" y="156"/>
                  </a:cubicBezTo>
                  <a:cubicBezTo>
                    <a:pt x="263" y="156"/>
                    <a:pt x="287" y="226"/>
                    <a:pt x="307" y="245"/>
                  </a:cubicBezTo>
                  <a:cubicBezTo>
                    <a:pt x="307" y="245"/>
                    <a:pt x="302" y="253"/>
                    <a:pt x="293" y="264"/>
                  </a:cubicBezTo>
                  <a:cubicBezTo>
                    <a:pt x="290" y="267"/>
                    <a:pt x="273" y="270"/>
                    <a:pt x="233" y="289"/>
                  </a:cubicBezTo>
                  <a:cubicBezTo>
                    <a:pt x="233" y="289"/>
                    <a:pt x="199" y="293"/>
                    <a:pt x="183" y="305"/>
                  </a:cubicBezTo>
                  <a:cubicBezTo>
                    <a:pt x="172" y="313"/>
                    <a:pt x="144" y="333"/>
                    <a:pt x="123" y="399"/>
                  </a:cubicBezTo>
                  <a:cubicBezTo>
                    <a:pt x="101" y="466"/>
                    <a:pt x="84" y="514"/>
                    <a:pt x="88" y="524"/>
                  </a:cubicBezTo>
                  <a:cubicBezTo>
                    <a:pt x="91" y="535"/>
                    <a:pt x="96" y="605"/>
                    <a:pt x="148" y="600"/>
                  </a:cubicBezTo>
                  <a:cubicBezTo>
                    <a:pt x="180" y="604"/>
                    <a:pt x="180" y="604"/>
                    <a:pt x="180" y="604"/>
                  </a:cubicBezTo>
                  <a:cubicBezTo>
                    <a:pt x="180" y="604"/>
                    <a:pt x="169" y="705"/>
                    <a:pt x="189" y="715"/>
                  </a:cubicBezTo>
                  <a:cubicBezTo>
                    <a:pt x="189" y="715"/>
                    <a:pt x="195" y="720"/>
                    <a:pt x="195" y="726"/>
                  </a:cubicBezTo>
                  <a:cubicBezTo>
                    <a:pt x="195" y="733"/>
                    <a:pt x="191" y="749"/>
                    <a:pt x="191" y="749"/>
                  </a:cubicBezTo>
                  <a:cubicBezTo>
                    <a:pt x="191" y="749"/>
                    <a:pt x="135" y="794"/>
                    <a:pt x="147" y="845"/>
                  </a:cubicBezTo>
                  <a:cubicBezTo>
                    <a:pt x="147" y="845"/>
                    <a:pt x="151" y="883"/>
                    <a:pt x="142" y="913"/>
                  </a:cubicBezTo>
                  <a:cubicBezTo>
                    <a:pt x="133" y="942"/>
                    <a:pt x="119" y="1118"/>
                    <a:pt x="114" y="1227"/>
                  </a:cubicBezTo>
                  <a:cubicBezTo>
                    <a:pt x="110" y="1337"/>
                    <a:pt x="102" y="1404"/>
                    <a:pt x="103" y="1480"/>
                  </a:cubicBezTo>
                  <a:cubicBezTo>
                    <a:pt x="105" y="1557"/>
                    <a:pt x="88" y="1635"/>
                    <a:pt x="88" y="1635"/>
                  </a:cubicBezTo>
                  <a:lnTo>
                    <a:pt x="76" y="1693"/>
                  </a:lnTo>
                  <a:close/>
                </a:path>
              </a:pathLst>
            </a:custGeom>
            <a:solidFill>
              <a:srgbClr val="384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644040" y="5636160"/>
              <a:ext cx="73080" cy="129960"/>
            </a:xfrm>
            <a:custGeom>
              <a:avLst/>
              <a:gdLst/>
              <a:ahLst/>
              <a:rect l="l" t="t" r="r" b="b"/>
              <a:pathLst>
                <a:path w="112" h="199">
                  <a:moveTo>
                    <a:pt x="80" y="0"/>
                  </a:moveTo>
                  <a:cubicBezTo>
                    <a:pt x="99" y="3"/>
                    <a:pt x="99" y="3"/>
                    <a:pt x="99" y="3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94" y="44"/>
                    <a:pt x="94" y="44"/>
                    <a:pt x="94" y="44"/>
                  </a:cubicBezTo>
                  <a:cubicBezTo>
                    <a:pt x="94" y="44"/>
                    <a:pt x="99" y="75"/>
                    <a:pt x="95" y="87"/>
                  </a:cubicBezTo>
                  <a:cubicBezTo>
                    <a:pt x="95" y="87"/>
                    <a:pt x="72" y="191"/>
                    <a:pt x="71" y="199"/>
                  </a:cubicBezTo>
                  <a:cubicBezTo>
                    <a:pt x="11" y="198"/>
                    <a:pt x="11" y="198"/>
                    <a:pt x="11" y="19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5" y="135"/>
                    <a:pt x="57" y="5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1" y="25"/>
                    <a:pt x="71" y="3"/>
                    <a:pt x="8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612000" y="5841000"/>
              <a:ext cx="65160" cy="11628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31" y="0"/>
                  </a:moveTo>
                  <a:cubicBezTo>
                    <a:pt x="57" y="9"/>
                    <a:pt x="57" y="9"/>
                    <a:pt x="57" y="9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100" y="27"/>
                    <a:pt x="100" y="27"/>
                    <a:pt x="100" y="27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31" y="178"/>
                    <a:pt x="31" y="178"/>
                    <a:pt x="31" y="178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36" y="2"/>
                    <a:pt x="3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56800" y="5411880"/>
              <a:ext cx="421200" cy="1226880"/>
            </a:xfrm>
            <a:custGeom>
              <a:avLst/>
              <a:gdLst/>
              <a:ahLst/>
              <a:rect l="l" t="t" r="r" b="b"/>
              <a:pathLst>
                <a:path w="645" h="1875">
                  <a:moveTo>
                    <a:pt x="641" y="780"/>
                  </a:moveTo>
                  <a:cubicBezTo>
                    <a:pt x="638" y="757"/>
                    <a:pt x="636" y="745"/>
                    <a:pt x="635" y="728"/>
                  </a:cubicBezTo>
                  <a:cubicBezTo>
                    <a:pt x="635" y="728"/>
                    <a:pt x="635" y="722"/>
                    <a:pt x="638" y="708"/>
                  </a:cubicBezTo>
                  <a:cubicBezTo>
                    <a:pt x="638" y="708"/>
                    <a:pt x="634" y="683"/>
                    <a:pt x="627" y="680"/>
                  </a:cubicBezTo>
                  <a:cubicBezTo>
                    <a:pt x="623" y="662"/>
                    <a:pt x="623" y="662"/>
                    <a:pt x="623" y="662"/>
                  </a:cubicBezTo>
                  <a:cubicBezTo>
                    <a:pt x="623" y="662"/>
                    <a:pt x="631" y="639"/>
                    <a:pt x="623" y="630"/>
                  </a:cubicBezTo>
                  <a:cubicBezTo>
                    <a:pt x="619" y="624"/>
                    <a:pt x="616" y="570"/>
                    <a:pt x="608" y="562"/>
                  </a:cubicBezTo>
                  <a:cubicBezTo>
                    <a:pt x="600" y="555"/>
                    <a:pt x="617" y="478"/>
                    <a:pt x="586" y="450"/>
                  </a:cubicBezTo>
                  <a:cubicBezTo>
                    <a:pt x="556" y="421"/>
                    <a:pt x="613" y="428"/>
                    <a:pt x="509" y="357"/>
                  </a:cubicBezTo>
                  <a:cubicBezTo>
                    <a:pt x="509" y="357"/>
                    <a:pt x="465" y="343"/>
                    <a:pt x="463" y="336"/>
                  </a:cubicBezTo>
                  <a:cubicBezTo>
                    <a:pt x="462" y="328"/>
                    <a:pt x="420" y="310"/>
                    <a:pt x="420" y="310"/>
                  </a:cubicBezTo>
                  <a:cubicBezTo>
                    <a:pt x="420" y="310"/>
                    <a:pt x="408" y="263"/>
                    <a:pt x="415" y="254"/>
                  </a:cubicBezTo>
                  <a:cubicBezTo>
                    <a:pt x="421" y="245"/>
                    <a:pt x="431" y="216"/>
                    <a:pt x="430" y="213"/>
                  </a:cubicBezTo>
                  <a:cubicBezTo>
                    <a:pt x="429" y="209"/>
                    <a:pt x="453" y="196"/>
                    <a:pt x="447" y="147"/>
                  </a:cubicBezTo>
                  <a:cubicBezTo>
                    <a:pt x="447" y="147"/>
                    <a:pt x="453" y="104"/>
                    <a:pt x="440" y="69"/>
                  </a:cubicBezTo>
                  <a:cubicBezTo>
                    <a:pt x="427" y="35"/>
                    <a:pt x="340" y="0"/>
                    <a:pt x="280" y="67"/>
                  </a:cubicBezTo>
                  <a:cubicBezTo>
                    <a:pt x="280" y="67"/>
                    <a:pt x="262" y="111"/>
                    <a:pt x="271" y="141"/>
                  </a:cubicBezTo>
                  <a:cubicBezTo>
                    <a:pt x="271" y="141"/>
                    <a:pt x="260" y="206"/>
                    <a:pt x="280" y="214"/>
                  </a:cubicBezTo>
                  <a:cubicBezTo>
                    <a:pt x="288" y="237"/>
                    <a:pt x="288" y="237"/>
                    <a:pt x="288" y="237"/>
                  </a:cubicBezTo>
                  <a:cubicBezTo>
                    <a:pt x="288" y="237"/>
                    <a:pt x="296" y="260"/>
                    <a:pt x="287" y="265"/>
                  </a:cubicBezTo>
                  <a:cubicBezTo>
                    <a:pt x="287" y="265"/>
                    <a:pt x="271" y="301"/>
                    <a:pt x="264" y="302"/>
                  </a:cubicBezTo>
                  <a:cubicBezTo>
                    <a:pt x="264" y="302"/>
                    <a:pt x="148" y="356"/>
                    <a:pt x="132" y="374"/>
                  </a:cubicBezTo>
                  <a:cubicBezTo>
                    <a:pt x="132" y="374"/>
                    <a:pt x="110" y="389"/>
                    <a:pt x="79" y="475"/>
                  </a:cubicBezTo>
                  <a:cubicBezTo>
                    <a:pt x="79" y="475"/>
                    <a:pt x="43" y="622"/>
                    <a:pt x="43" y="633"/>
                  </a:cubicBezTo>
                  <a:cubicBezTo>
                    <a:pt x="43" y="633"/>
                    <a:pt x="37" y="674"/>
                    <a:pt x="48" y="678"/>
                  </a:cubicBezTo>
                  <a:cubicBezTo>
                    <a:pt x="48" y="678"/>
                    <a:pt x="42" y="707"/>
                    <a:pt x="46" y="710"/>
                  </a:cubicBezTo>
                  <a:cubicBezTo>
                    <a:pt x="46" y="710"/>
                    <a:pt x="51" y="739"/>
                    <a:pt x="59" y="738"/>
                  </a:cubicBezTo>
                  <a:cubicBezTo>
                    <a:pt x="69" y="775"/>
                    <a:pt x="69" y="775"/>
                    <a:pt x="69" y="775"/>
                  </a:cubicBezTo>
                  <a:cubicBezTo>
                    <a:pt x="69" y="775"/>
                    <a:pt x="61" y="818"/>
                    <a:pt x="75" y="831"/>
                  </a:cubicBezTo>
                  <a:cubicBezTo>
                    <a:pt x="75" y="831"/>
                    <a:pt x="125" y="908"/>
                    <a:pt x="132" y="922"/>
                  </a:cubicBezTo>
                  <a:cubicBezTo>
                    <a:pt x="146" y="930"/>
                    <a:pt x="146" y="930"/>
                    <a:pt x="146" y="930"/>
                  </a:cubicBezTo>
                  <a:cubicBezTo>
                    <a:pt x="151" y="945"/>
                    <a:pt x="151" y="945"/>
                    <a:pt x="151" y="945"/>
                  </a:cubicBezTo>
                  <a:cubicBezTo>
                    <a:pt x="151" y="945"/>
                    <a:pt x="153" y="971"/>
                    <a:pt x="160" y="979"/>
                  </a:cubicBezTo>
                  <a:cubicBezTo>
                    <a:pt x="160" y="979"/>
                    <a:pt x="142" y="1089"/>
                    <a:pt x="138" y="1103"/>
                  </a:cubicBezTo>
                  <a:cubicBezTo>
                    <a:pt x="138" y="1103"/>
                    <a:pt x="119" y="1203"/>
                    <a:pt x="120" y="1248"/>
                  </a:cubicBezTo>
                  <a:cubicBezTo>
                    <a:pt x="120" y="1248"/>
                    <a:pt x="124" y="1282"/>
                    <a:pt x="112" y="1290"/>
                  </a:cubicBezTo>
                  <a:cubicBezTo>
                    <a:pt x="101" y="1298"/>
                    <a:pt x="100" y="1359"/>
                    <a:pt x="100" y="1359"/>
                  </a:cubicBezTo>
                  <a:cubicBezTo>
                    <a:pt x="100" y="1359"/>
                    <a:pt x="78" y="1419"/>
                    <a:pt x="85" y="1499"/>
                  </a:cubicBezTo>
                  <a:cubicBezTo>
                    <a:pt x="85" y="1499"/>
                    <a:pt x="73" y="1554"/>
                    <a:pt x="73" y="1587"/>
                  </a:cubicBezTo>
                  <a:cubicBezTo>
                    <a:pt x="73" y="1620"/>
                    <a:pt x="68" y="1672"/>
                    <a:pt x="68" y="1672"/>
                  </a:cubicBezTo>
                  <a:cubicBezTo>
                    <a:pt x="68" y="1672"/>
                    <a:pt x="50" y="1679"/>
                    <a:pt x="53" y="1705"/>
                  </a:cubicBezTo>
                  <a:cubicBezTo>
                    <a:pt x="57" y="1746"/>
                    <a:pt x="57" y="1746"/>
                    <a:pt x="57" y="1746"/>
                  </a:cubicBezTo>
                  <a:cubicBezTo>
                    <a:pt x="65" y="1754"/>
                    <a:pt x="65" y="1754"/>
                    <a:pt x="65" y="1754"/>
                  </a:cubicBezTo>
                  <a:cubicBezTo>
                    <a:pt x="65" y="1754"/>
                    <a:pt x="48" y="1797"/>
                    <a:pt x="12" y="1825"/>
                  </a:cubicBezTo>
                  <a:cubicBezTo>
                    <a:pt x="12" y="1825"/>
                    <a:pt x="0" y="1841"/>
                    <a:pt x="9" y="1860"/>
                  </a:cubicBezTo>
                  <a:cubicBezTo>
                    <a:pt x="9" y="1860"/>
                    <a:pt x="78" y="1875"/>
                    <a:pt x="118" y="1839"/>
                  </a:cubicBezTo>
                  <a:cubicBezTo>
                    <a:pt x="118" y="1839"/>
                    <a:pt x="123" y="1819"/>
                    <a:pt x="125" y="1815"/>
                  </a:cubicBezTo>
                  <a:cubicBezTo>
                    <a:pt x="125" y="1815"/>
                    <a:pt x="147" y="1821"/>
                    <a:pt x="161" y="1810"/>
                  </a:cubicBezTo>
                  <a:cubicBezTo>
                    <a:pt x="161" y="1810"/>
                    <a:pt x="182" y="1818"/>
                    <a:pt x="178" y="1780"/>
                  </a:cubicBezTo>
                  <a:cubicBezTo>
                    <a:pt x="175" y="1760"/>
                    <a:pt x="175" y="1760"/>
                    <a:pt x="175" y="1760"/>
                  </a:cubicBezTo>
                  <a:cubicBezTo>
                    <a:pt x="175" y="1760"/>
                    <a:pt x="182" y="1754"/>
                    <a:pt x="179" y="1739"/>
                  </a:cubicBezTo>
                  <a:cubicBezTo>
                    <a:pt x="176" y="1725"/>
                    <a:pt x="192" y="1720"/>
                    <a:pt x="194" y="1660"/>
                  </a:cubicBezTo>
                  <a:cubicBezTo>
                    <a:pt x="197" y="1600"/>
                    <a:pt x="184" y="1573"/>
                    <a:pt x="192" y="1559"/>
                  </a:cubicBezTo>
                  <a:cubicBezTo>
                    <a:pt x="199" y="1545"/>
                    <a:pt x="246" y="1371"/>
                    <a:pt x="252" y="1371"/>
                  </a:cubicBezTo>
                  <a:cubicBezTo>
                    <a:pt x="258" y="1371"/>
                    <a:pt x="262" y="1303"/>
                    <a:pt x="260" y="1296"/>
                  </a:cubicBezTo>
                  <a:cubicBezTo>
                    <a:pt x="257" y="1290"/>
                    <a:pt x="264" y="1248"/>
                    <a:pt x="271" y="1228"/>
                  </a:cubicBezTo>
                  <a:cubicBezTo>
                    <a:pt x="279" y="1209"/>
                    <a:pt x="325" y="1082"/>
                    <a:pt x="334" y="1070"/>
                  </a:cubicBezTo>
                  <a:cubicBezTo>
                    <a:pt x="343" y="1057"/>
                    <a:pt x="357" y="1043"/>
                    <a:pt x="356" y="1076"/>
                  </a:cubicBezTo>
                  <a:cubicBezTo>
                    <a:pt x="354" y="1109"/>
                    <a:pt x="360" y="1201"/>
                    <a:pt x="361" y="1221"/>
                  </a:cubicBezTo>
                  <a:cubicBezTo>
                    <a:pt x="362" y="1240"/>
                    <a:pt x="376" y="1258"/>
                    <a:pt x="376" y="1258"/>
                  </a:cubicBezTo>
                  <a:cubicBezTo>
                    <a:pt x="376" y="1258"/>
                    <a:pt x="375" y="1341"/>
                    <a:pt x="385" y="1342"/>
                  </a:cubicBezTo>
                  <a:cubicBezTo>
                    <a:pt x="395" y="1344"/>
                    <a:pt x="366" y="1382"/>
                    <a:pt x="372" y="1392"/>
                  </a:cubicBezTo>
                  <a:cubicBezTo>
                    <a:pt x="370" y="1469"/>
                    <a:pt x="370" y="1469"/>
                    <a:pt x="370" y="1469"/>
                  </a:cubicBezTo>
                  <a:cubicBezTo>
                    <a:pt x="370" y="1469"/>
                    <a:pt x="358" y="1582"/>
                    <a:pt x="365" y="1582"/>
                  </a:cubicBezTo>
                  <a:cubicBezTo>
                    <a:pt x="371" y="1582"/>
                    <a:pt x="349" y="1616"/>
                    <a:pt x="349" y="1616"/>
                  </a:cubicBezTo>
                  <a:cubicBezTo>
                    <a:pt x="349" y="1616"/>
                    <a:pt x="333" y="1643"/>
                    <a:pt x="333" y="1663"/>
                  </a:cubicBezTo>
                  <a:cubicBezTo>
                    <a:pt x="333" y="1682"/>
                    <a:pt x="333" y="1723"/>
                    <a:pt x="340" y="1723"/>
                  </a:cubicBezTo>
                  <a:cubicBezTo>
                    <a:pt x="348" y="1723"/>
                    <a:pt x="344" y="1768"/>
                    <a:pt x="344" y="1768"/>
                  </a:cubicBezTo>
                  <a:cubicBezTo>
                    <a:pt x="344" y="1768"/>
                    <a:pt x="362" y="1779"/>
                    <a:pt x="378" y="1778"/>
                  </a:cubicBezTo>
                  <a:cubicBezTo>
                    <a:pt x="378" y="1778"/>
                    <a:pt x="384" y="1811"/>
                    <a:pt x="402" y="1811"/>
                  </a:cubicBezTo>
                  <a:cubicBezTo>
                    <a:pt x="402" y="1811"/>
                    <a:pt x="429" y="1825"/>
                    <a:pt x="443" y="1819"/>
                  </a:cubicBezTo>
                  <a:cubicBezTo>
                    <a:pt x="443" y="1819"/>
                    <a:pt x="483" y="1829"/>
                    <a:pt x="486" y="1800"/>
                  </a:cubicBezTo>
                  <a:cubicBezTo>
                    <a:pt x="486" y="1800"/>
                    <a:pt x="488" y="1777"/>
                    <a:pt x="474" y="1768"/>
                  </a:cubicBezTo>
                  <a:cubicBezTo>
                    <a:pt x="474" y="1768"/>
                    <a:pt x="435" y="1737"/>
                    <a:pt x="443" y="1718"/>
                  </a:cubicBezTo>
                  <a:cubicBezTo>
                    <a:pt x="451" y="1698"/>
                    <a:pt x="456" y="1652"/>
                    <a:pt x="451" y="1646"/>
                  </a:cubicBezTo>
                  <a:cubicBezTo>
                    <a:pt x="445" y="1640"/>
                    <a:pt x="458" y="1584"/>
                    <a:pt x="477" y="1549"/>
                  </a:cubicBezTo>
                  <a:cubicBezTo>
                    <a:pt x="497" y="1513"/>
                    <a:pt x="498" y="1446"/>
                    <a:pt x="498" y="1446"/>
                  </a:cubicBezTo>
                  <a:cubicBezTo>
                    <a:pt x="517" y="1351"/>
                    <a:pt x="517" y="1351"/>
                    <a:pt x="517" y="1351"/>
                  </a:cubicBezTo>
                  <a:cubicBezTo>
                    <a:pt x="517" y="1351"/>
                    <a:pt x="509" y="1278"/>
                    <a:pt x="518" y="1264"/>
                  </a:cubicBezTo>
                  <a:cubicBezTo>
                    <a:pt x="527" y="1250"/>
                    <a:pt x="539" y="1039"/>
                    <a:pt x="544" y="1040"/>
                  </a:cubicBezTo>
                  <a:cubicBezTo>
                    <a:pt x="549" y="1041"/>
                    <a:pt x="540" y="952"/>
                    <a:pt x="563" y="938"/>
                  </a:cubicBezTo>
                  <a:cubicBezTo>
                    <a:pt x="586" y="923"/>
                    <a:pt x="603" y="890"/>
                    <a:pt x="603" y="890"/>
                  </a:cubicBezTo>
                  <a:cubicBezTo>
                    <a:pt x="617" y="833"/>
                    <a:pt x="617" y="833"/>
                    <a:pt x="617" y="833"/>
                  </a:cubicBezTo>
                  <a:cubicBezTo>
                    <a:pt x="617" y="833"/>
                    <a:pt x="645" y="803"/>
                    <a:pt x="641" y="780"/>
                  </a:cubicBezTo>
                  <a:close/>
                  <a:moveTo>
                    <a:pt x="187" y="840"/>
                  </a:moveTo>
                  <a:cubicBezTo>
                    <a:pt x="170" y="825"/>
                    <a:pt x="170" y="825"/>
                    <a:pt x="170" y="825"/>
                  </a:cubicBezTo>
                  <a:cubicBezTo>
                    <a:pt x="166" y="799"/>
                    <a:pt x="166" y="799"/>
                    <a:pt x="166" y="799"/>
                  </a:cubicBezTo>
                  <a:cubicBezTo>
                    <a:pt x="156" y="786"/>
                    <a:pt x="148" y="748"/>
                    <a:pt x="148" y="748"/>
                  </a:cubicBezTo>
                  <a:cubicBezTo>
                    <a:pt x="146" y="710"/>
                    <a:pt x="146" y="710"/>
                    <a:pt x="146" y="710"/>
                  </a:cubicBezTo>
                  <a:cubicBezTo>
                    <a:pt x="142" y="703"/>
                    <a:pt x="143" y="678"/>
                    <a:pt x="143" y="678"/>
                  </a:cubicBezTo>
                  <a:cubicBezTo>
                    <a:pt x="153" y="672"/>
                    <a:pt x="153" y="649"/>
                    <a:pt x="153" y="649"/>
                  </a:cubicBezTo>
                  <a:cubicBezTo>
                    <a:pt x="176" y="616"/>
                    <a:pt x="176" y="616"/>
                    <a:pt x="176" y="616"/>
                  </a:cubicBezTo>
                  <a:cubicBezTo>
                    <a:pt x="178" y="621"/>
                    <a:pt x="166" y="729"/>
                    <a:pt x="166" y="729"/>
                  </a:cubicBezTo>
                  <a:cubicBezTo>
                    <a:pt x="162" y="781"/>
                    <a:pt x="187" y="795"/>
                    <a:pt x="187" y="795"/>
                  </a:cubicBezTo>
                  <a:cubicBezTo>
                    <a:pt x="183" y="795"/>
                    <a:pt x="187" y="840"/>
                    <a:pt x="187" y="840"/>
                  </a:cubicBezTo>
                  <a:close/>
                  <a:moveTo>
                    <a:pt x="541" y="861"/>
                  </a:moveTo>
                  <a:cubicBezTo>
                    <a:pt x="507" y="808"/>
                    <a:pt x="507" y="808"/>
                    <a:pt x="507" y="808"/>
                  </a:cubicBezTo>
                  <a:cubicBezTo>
                    <a:pt x="509" y="801"/>
                    <a:pt x="509" y="801"/>
                    <a:pt x="509" y="801"/>
                  </a:cubicBezTo>
                  <a:cubicBezTo>
                    <a:pt x="509" y="801"/>
                    <a:pt x="504" y="765"/>
                    <a:pt x="498" y="765"/>
                  </a:cubicBezTo>
                  <a:cubicBezTo>
                    <a:pt x="498" y="765"/>
                    <a:pt x="512" y="749"/>
                    <a:pt x="512" y="717"/>
                  </a:cubicBezTo>
                  <a:cubicBezTo>
                    <a:pt x="512" y="717"/>
                    <a:pt x="506" y="697"/>
                    <a:pt x="497" y="683"/>
                  </a:cubicBezTo>
                  <a:cubicBezTo>
                    <a:pt x="489" y="671"/>
                    <a:pt x="501" y="652"/>
                    <a:pt x="502" y="642"/>
                  </a:cubicBezTo>
                  <a:cubicBezTo>
                    <a:pt x="512" y="624"/>
                    <a:pt x="512" y="624"/>
                    <a:pt x="512" y="624"/>
                  </a:cubicBezTo>
                  <a:cubicBezTo>
                    <a:pt x="512" y="624"/>
                    <a:pt x="524" y="699"/>
                    <a:pt x="539" y="719"/>
                  </a:cubicBezTo>
                  <a:cubicBezTo>
                    <a:pt x="539" y="719"/>
                    <a:pt x="540" y="765"/>
                    <a:pt x="547" y="789"/>
                  </a:cubicBezTo>
                  <a:cubicBezTo>
                    <a:pt x="547" y="789"/>
                    <a:pt x="540" y="825"/>
                    <a:pt x="545" y="833"/>
                  </a:cubicBezTo>
                  <a:cubicBezTo>
                    <a:pt x="545" y="833"/>
                    <a:pt x="552" y="835"/>
                    <a:pt x="549" y="840"/>
                  </a:cubicBezTo>
                  <a:cubicBezTo>
                    <a:pt x="549" y="840"/>
                    <a:pt x="552" y="857"/>
                    <a:pt x="541" y="8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1076760" y="5640120"/>
              <a:ext cx="68400" cy="297720"/>
            </a:xfrm>
            <a:custGeom>
              <a:avLst/>
              <a:gdLst/>
              <a:ahLst/>
              <a:rect l="l" t="t" r="r" b="b"/>
              <a:pathLst>
                <a:path w="105" h="455">
                  <a:moveTo>
                    <a:pt x="37" y="1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49" y="57"/>
                    <a:pt x="49" y="57"/>
                    <a:pt x="49" y="57"/>
                  </a:cubicBezTo>
                  <a:cubicBezTo>
                    <a:pt x="49" y="57"/>
                    <a:pt x="83" y="149"/>
                    <a:pt x="84" y="168"/>
                  </a:cubicBezTo>
                  <a:cubicBezTo>
                    <a:pt x="84" y="168"/>
                    <a:pt x="105" y="389"/>
                    <a:pt x="100" y="406"/>
                  </a:cubicBezTo>
                  <a:cubicBezTo>
                    <a:pt x="100" y="406"/>
                    <a:pt x="76" y="437"/>
                    <a:pt x="62" y="451"/>
                  </a:cubicBezTo>
                  <a:cubicBezTo>
                    <a:pt x="57" y="455"/>
                    <a:pt x="13" y="409"/>
                    <a:pt x="14" y="405"/>
                  </a:cubicBezTo>
                  <a:cubicBezTo>
                    <a:pt x="14" y="401"/>
                    <a:pt x="6" y="204"/>
                    <a:pt x="11" y="145"/>
                  </a:cubicBezTo>
                  <a:cubicBezTo>
                    <a:pt x="11" y="145"/>
                    <a:pt x="17" y="89"/>
                    <a:pt x="19" y="63"/>
                  </a:cubicBezTo>
                  <a:cubicBezTo>
                    <a:pt x="21" y="40"/>
                    <a:pt x="2" y="25"/>
                    <a:pt x="0" y="25"/>
                  </a:cubicBezTo>
                  <a:cubicBezTo>
                    <a:pt x="0" y="25"/>
                    <a:pt x="23" y="0"/>
                    <a:pt x="31" y="0"/>
                  </a:cubicBezTo>
                  <a:cubicBezTo>
                    <a:pt x="33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304280" y="5417640"/>
              <a:ext cx="315720" cy="1229400"/>
            </a:xfrm>
            <a:custGeom>
              <a:avLst/>
              <a:gdLst/>
              <a:ahLst/>
              <a:rect l="l" t="t" r="r" b="b"/>
              <a:pathLst>
                <a:path w="484" h="1879">
                  <a:moveTo>
                    <a:pt x="368" y="1025"/>
                  </a:moveTo>
                  <a:cubicBezTo>
                    <a:pt x="368" y="1025"/>
                    <a:pt x="386" y="821"/>
                    <a:pt x="368" y="784"/>
                  </a:cubicBezTo>
                  <a:cubicBezTo>
                    <a:pt x="359" y="767"/>
                    <a:pt x="318" y="654"/>
                    <a:pt x="327" y="644"/>
                  </a:cubicBezTo>
                  <a:cubicBezTo>
                    <a:pt x="335" y="634"/>
                    <a:pt x="359" y="596"/>
                    <a:pt x="362" y="588"/>
                  </a:cubicBezTo>
                  <a:cubicBezTo>
                    <a:pt x="365" y="581"/>
                    <a:pt x="484" y="435"/>
                    <a:pt x="473" y="412"/>
                  </a:cubicBezTo>
                  <a:cubicBezTo>
                    <a:pt x="461" y="388"/>
                    <a:pt x="445" y="368"/>
                    <a:pt x="420" y="349"/>
                  </a:cubicBezTo>
                  <a:cubicBezTo>
                    <a:pt x="395" y="330"/>
                    <a:pt x="378" y="339"/>
                    <a:pt x="365" y="301"/>
                  </a:cubicBezTo>
                  <a:cubicBezTo>
                    <a:pt x="341" y="289"/>
                    <a:pt x="341" y="289"/>
                    <a:pt x="341" y="289"/>
                  </a:cubicBezTo>
                  <a:cubicBezTo>
                    <a:pt x="341" y="289"/>
                    <a:pt x="319" y="247"/>
                    <a:pt x="328" y="204"/>
                  </a:cubicBezTo>
                  <a:cubicBezTo>
                    <a:pt x="337" y="162"/>
                    <a:pt x="338" y="166"/>
                    <a:pt x="338" y="166"/>
                  </a:cubicBezTo>
                  <a:cubicBezTo>
                    <a:pt x="347" y="159"/>
                    <a:pt x="347" y="159"/>
                    <a:pt x="347" y="159"/>
                  </a:cubicBezTo>
                  <a:cubicBezTo>
                    <a:pt x="351" y="168"/>
                    <a:pt x="351" y="168"/>
                    <a:pt x="351" y="168"/>
                  </a:cubicBezTo>
                  <a:cubicBezTo>
                    <a:pt x="357" y="156"/>
                    <a:pt x="357" y="156"/>
                    <a:pt x="357" y="156"/>
                  </a:cubicBezTo>
                  <a:cubicBezTo>
                    <a:pt x="363" y="171"/>
                    <a:pt x="363" y="171"/>
                    <a:pt x="363" y="171"/>
                  </a:cubicBezTo>
                  <a:cubicBezTo>
                    <a:pt x="363" y="171"/>
                    <a:pt x="388" y="126"/>
                    <a:pt x="370" y="110"/>
                  </a:cubicBezTo>
                  <a:cubicBezTo>
                    <a:pt x="370" y="110"/>
                    <a:pt x="347" y="89"/>
                    <a:pt x="341" y="79"/>
                  </a:cubicBezTo>
                  <a:cubicBezTo>
                    <a:pt x="324" y="47"/>
                    <a:pt x="305" y="23"/>
                    <a:pt x="305" y="23"/>
                  </a:cubicBezTo>
                  <a:cubicBezTo>
                    <a:pt x="305" y="23"/>
                    <a:pt x="268" y="0"/>
                    <a:pt x="235" y="13"/>
                  </a:cubicBezTo>
                  <a:cubicBezTo>
                    <a:pt x="201" y="26"/>
                    <a:pt x="182" y="47"/>
                    <a:pt x="170" y="67"/>
                  </a:cubicBezTo>
                  <a:cubicBezTo>
                    <a:pt x="165" y="76"/>
                    <a:pt x="160" y="102"/>
                    <a:pt x="168" y="121"/>
                  </a:cubicBezTo>
                  <a:cubicBezTo>
                    <a:pt x="172" y="133"/>
                    <a:pt x="182" y="164"/>
                    <a:pt x="182" y="164"/>
                  </a:cubicBezTo>
                  <a:cubicBezTo>
                    <a:pt x="182" y="164"/>
                    <a:pt x="200" y="221"/>
                    <a:pt x="220" y="238"/>
                  </a:cubicBezTo>
                  <a:cubicBezTo>
                    <a:pt x="242" y="263"/>
                    <a:pt x="242" y="263"/>
                    <a:pt x="242" y="263"/>
                  </a:cubicBezTo>
                  <a:cubicBezTo>
                    <a:pt x="236" y="275"/>
                    <a:pt x="236" y="275"/>
                    <a:pt x="236" y="275"/>
                  </a:cubicBezTo>
                  <a:cubicBezTo>
                    <a:pt x="236" y="275"/>
                    <a:pt x="214" y="283"/>
                    <a:pt x="189" y="299"/>
                  </a:cubicBezTo>
                  <a:cubicBezTo>
                    <a:pt x="122" y="307"/>
                    <a:pt x="122" y="307"/>
                    <a:pt x="122" y="307"/>
                  </a:cubicBezTo>
                  <a:cubicBezTo>
                    <a:pt x="122" y="307"/>
                    <a:pt x="99" y="323"/>
                    <a:pt x="76" y="372"/>
                  </a:cubicBezTo>
                  <a:cubicBezTo>
                    <a:pt x="30" y="464"/>
                    <a:pt x="30" y="464"/>
                    <a:pt x="30" y="464"/>
                  </a:cubicBezTo>
                  <a:cubicBezTo>
                    <a:pt x="30" y="464"/>
                    <a:pt x="19" y="487"/>
                    <a:pt x="10" y="510"/>
                  </a:cubicBezTo>
                  <a:cubicBezTo>
                    <a:pt x="10" y="510"/>
                    <a:pt x="3" y="534"/>
                    <a:pt x="5" y="542"/>
                  </a:cubicBezTo>
                  <a:cubicBezTo>
                    <a:pt x="5" y="542"/>
                    <a:pt x="0" y="622"/>
                    <a:pt x="8" y="626"/>
                  </a:cubicBezTo>
                  <a:cubicBezTo>
                    <a:pt x="23" y="634"/>
                    <a:pt x="27" y="642"/>
                    <a:pt x="64" y="644"/>
                  </a:cubicBezTo>
                  <a:cubicBezTo>
                    <a:pt x="64" y="644"/>
                    <a:pt x="65" y="663"/>
                    <a:pt x="54" y="679"/>
                  </a:cubicBezTo>
                  <a:cubicBezTo>
                    <a:pt x="17" y="774"/>
                    <a:pt x="17" y="774"/>
                    <a:pt x="17" y="774"/>
                  </a:cubicBezTo>
                  <a:cubicBezTo>
                    <a:pt x="81" y="823"/>
                    <a:pt x="81" y="823"/>
                    <a:pt x="81" y="823"/>
                  </a:cubicBezTo>
                  <a:cubicBezTo>
                    <a:pt x="90" y="857"/>
                    <a:pt x="90" y="857"/>
                    <a:pt x="90" y="857"/>
                  </a:cubicBezTo>
                  <a:cubicBezTo>
                    <a:pt x="90" y="857"/>
                    <a:pt x="91" y="878"/>
                    <a:pt x="89" y="907"/>
                  </a:cubicBezTo>
                  <a:cubicBezTo>
                    <a:pt x="82" y="945"/>
                    <a:pt x="82" y="945"/>
                    <a:pt x="82" y="945"/>
                  </a:cubicBezTo>
                  <a:cubicBezTo>
                    <a:pt x="83" y="991"/>
                    <a:pt x="83" y="991"/>
                    <a:pt x="83" y="991"/>
                  </a:cubicBezTo>
                  <a:cubicBezTo>
                    <a:pt x="83" y="991"/>
                    <a:pt x="81" y="1110"/>
                    <a:pt x="83" y="1131"/>
                  </a:cubicBezTo>
                  <a:cubicBezTo>
                    <a:pt x="83" y="1131"/>
                    <a:pt x="81" y="1291"/>
                    <a:pt x="81" y="1337"/>
                  </a:cubicBezTo>
                  <a:cubicBezTo>
                    <a:pt x="81" y="1366"/>
                    <a:pt x="81" y="1366"/>
                    <a:pt x="81" y="1366"/>
                  </a:cubicBezTo>
                  <a:cubicBezTo>
                    <a:pt x="81" y="1366"/>
                    <a:pt x="113" y="1368"/>
                    <a:pt x="125" y="1364"/>
                  </a:cubicBezTo>
                  <a:cubicBezTo>
                    <a:pt x="125" y="1364"/>
                    <a:pt x="178" y="1469"/>
                    <a:pt x="178" y="1491"/>
                  </a:cubicBezTo>
                  <a:cubicBezTo>
                    <a:pt x="178" y="1491"/>
                    <a:pt x="181" y="1642"/>
                    <a:pt x="156" y="1686"/>
                  </a:cubicBezTo>
                  <a:cubicBezTo>
                    <a:pt x="108" y="1812"/>
                    <a:pt x="108" y="1812"/>
                    <a:pt x="108" y="1812"/>
                  </a:cubicBezTo>
                  <a:cubicBezTo>
                    <a:pt x="108" y="1812"/>
                    <a:pt x="84" y="1823"/>
                    <a:pt x="67" y="1831"/>
                  </a:cubicBezTo>
                  <a:cubicBezTo>
                    <a:pt x="67" y="1831"/>
                    <a:pt x="54" y="1840"/>
                    <a:pt x="59" y="1851"/>
                  </a:cubicBezTo>
                  <a:cubicBezTo>
                    <a:pt x="59" y="1851"/>
                    <a:pt x="130" y="1879"/>
                    <a:pt x="169" y="1848"/>
                  </a:cubicBezTo>
                  <a:cubicBezTo>
                    <a:pt x="169" y="1848"/>
                    <a:pt x="184" y="1818"/>
                    <a:pt x="191" y="1819"/>
                  </a:cubicBezTo>
                  <a:cubicBezTo>
                    <a:pt x="191" y="1841"/>
                    <a:pt x="191" y="1841"/>
                    <a:pt x="191" y="1841"/>
                  </a:cubicBezTo>
                  <a:cubicBezTo>
                    <a:pt x="213" y="1845"/>
                    <a:pt x="213" y="1845"/>
                    <a:pt x="213" y="1845"/>
                  </a:cubicBezTo>
                  <a:cubicBezTo>
                    <a:pt x="226" y="1845"/>
                    <a:pt x="226" y="1845"/>
                    <a:pt x="226" y="1845"/>
                  </a:cubicBezTo>
                  <a:cubicBezTo>
                    <a:pt x="232" y="1826"/>
                    <a:pt x="232" y="1826"/>
                    <a:pt x="232" y="1826"/>
                  </a:cubicBezTo>
                  <a:cubicBezTo>
                    <a:pt x="232" y="1826"/>
                    <a:pt x="259" y="1820"/>
                    <a:pt x="274" y="1800"/>
                  </a:cubicBezTo>
                  <a:cubicBezTo>
                    <a:pt x="274" y="1800"/>
                    <a:pt x="308" y="1764"/>
                    <a:pt x="312" y="1764"/>
                  </a:cubicBezTo>
                  <a:cubicBezTo>
                    <a:pt x="340" y="1756"/>
                    <a:pt x="340" y="1756"/>
                    <a:pt x="340" y="1756"/>
                  </a:cubicBezTo>
                  <a:cubicBezTo>
                    <a:pt x="334" y="1806"/>
                    <a:pt x="334" y="1806"/>
                    <a:pt x="334" y="1806"/>
                  </a:cubicBezTo>
                  <a:cubicBezTo>
                    <a:pt x="334" y="1806"/>
                    <a:pt x="353" y="1810"/>
                    <a:pt x="362" y="1801"/>
                  </a:cubicBezTo>
                  <a:cubicBezTo>
                    <a:pt x="372" y="1736"/>
                    <a:pt x="372" y="1736"/>
                    <a:pt x="372" y="1736"/>
                  </a:cubicBezTo>
                  <a:cubicBezTo>
                    <a:pt x="372" y="1736"/>
                    <a:pt x="378" y="1698"/>
                    <a:pt x="353" y="1682"/>
                  </a:cubicBezTo>
                  <a:cubicBezTo>
                    <a:pt x="353" y="1682"/>
                    <a:pt x="319" y="1664"/>
                    <a:pt x="296" y="1556"/>
                  </a:cubicBezTo>
                  <a:cubicBezTo>
                    <a:pt x="285" y="1505"/>
                    <a:pt x="280" y="1487"/>
                    <a:pt x="278" y="1483"/>
                  </a:cubicBezTo>
                  <a:cubicBezTo>
                    <a:pt x="282" y="1458"/>
                    <a:pt x="291" y="1367"/>
                    <a:pt x="281" y="1352"/>
                  </a:cubicBezTo>
                  <a:cubicBezTo>
                    <a:pt x="353" y="1340"/>
                    <a:pt x="353" y="1340"/>
                    <a:pt x="353" y="1340"/>
                  </a:cubicBezTo>
                  <a:cubicBezTo>
                    <a:pt x="353" y="1340"/>
                    <a:pt x="356" y="1065"/>
                    <a:pt x="368" y="1025"/>
                  </a:cubicBezTo>
                  <a:close/>
                  <a:moveTo>
                    <a:pt x="259" y="1691"/>
                  </a:moveTo>
                  <a:cubicBezTo>
                    <a:pt x="258" y="1723"/>
                    <a:pt x="242" y="1731"/>
                    <a:pt x="242" y="1731"/>
                  </a:cubicBezTo>
                  <a:cubicBezTo>
                    <a:pt x="239" y="1714"/>
                    <a:pt x="230" y="1722"/>
                    <a:pt x="227" y="1686"/>
                  </a:cubicBezTo>
                  <a:cubicBezTo>
                    <a:pt x="224" y="1650"/>
                    <a:pt x="243" y="1618"/>
                    <a:pt x="243" y="1618"/>
                  </a:cubicBezTo>
                  <a:cubicBezTo>
                    <a:pt x="243" y="1618"/>
                    <a:pt x="261" y="1658"/>
                    <a:pt x="259" y="1691"/>
                  </a:cubicBezTo>
                  <a:close/>
                </a:path>
              </a:pathLst>
            </a:custGeom>
            <a:solidFill>
              <a:srgbClr val="384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1433160" y="5659200"/>
              <a:ext cx="37080" cy="50040"/>
            </a:xfrm>
            <a:custGeom>
              <a:avLst/>
              <a:gdLst/>
              <a:ahLst/>
              <a:rect l="l" t="t" r="r" b="b"/>
              <a:pathLst>
                <a:path w="114" h="154">
                  <a:moveTo>
                    <a:pt x="6" y="0"/>
                  </a:moveTo>
                  <a:lnTo>
                    <a:pt x="114" y="4"/>
                  </a:lnTo>
                  <a:lnTo>
                    <a:pt x="0" y="1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1599480" y="5428800"/>
              <a:ext cx="511920" cy="1167840"/>
            </a:xfrm>
            <a:custGeom>
              <a:avLst/>
              <a:gdLst/>
              <a:ahLst/>
              <a:rect l="l" t="t" r="r" b="b"/>
              <a:pathLst>
                <a:path w="783" h="1785">
                  <a:moveTo>
                    <a:pt x="752" y="565"/>
                  </a:moveTo>
                  <a:cubicBezTo>
                    <a:pt x="752" y="565"/>
                    <a:pt x="719" y="512"/>
                    <a:pt x="708" y="497"/>
                  </a:cubicBezTo>
                  <a:cubicBezTo>
                    <a:pt x="600" y="373"/>
                    <a:pt x="600" y="373"/>
                    <a:pt x="600" y="373"/>
                  </a:cubicBezTo>
                  <a:cubicBezTo>
                    <a:pt x="600" y="373"/>
                    <a:pt x="562" y="335"/>
                    <a:pt x="541" y="332"/>
                  </a:cubicBezTo>
                  <a:cubicBezTo>
                    <a:pt x="541" y="332"/>
                    <a:pt x="512" y="270"/>
                    <a:pt x="515" y="259"/>
                  </a:cubicBezTo>
                  <a:cubicBezTo>
                    <a:pt x="515" y="259"/>
                    <a:pt x="506" y="101"/>
                    <a:pt x="466" y="72"/>
                  </a:cubicBezTo>
                  <a:cubicBezTo>
                    <a:pt x="466" y="72"/>
                    <a:pt x="443" y="0"/>
                    <a:pt x="352" y="29"/>
                  </a:cubicBezTo>
                  <a:cubicBezTo>
                    <a:pt x="352" y="29"/>
                    <a:pt x="300" y="57"/>
                    <a:pt x="299" y="110"/>
                  </a:cubicBezTo>
                  <a:cubicBezTo>
                    <a:pt x="299" y="110"/>
                    <a:pt x="294" y="179"/>
                    <a:pt x="303" y="194"/>
                  </a:cubicBezTo>
                  <a:cubicBezTo>
                    <a:pt x="343" y="268"/>
                    <a:pt x="343" y="268"/>
                    <a:pt x="343" y="268"/>
                  </a:cubicBezTo>
                  <a:cubicBezTo>
                    <a:pt x="343" y="268"/>
                    <a:pt x="357" y="293"/>
                    <a:pt x="325" y="296"/>
                  </a:cubicBezTo>
                  <a:cubicBezTo>
                    <a:pt x="247" y="297"/>
                    <a:pt x="247" y="297"/>
                    <a:pt x="247" y="297"/>
                  </a:cubicBezTo>
                  <a:cubicBezTo>
                    <a:pt x="247" y="297"/>
                    <a:pt x="191" y="303"/>
                    <a:pt x="188" y="353"/>
                  </a:cubicBezTo>
                  <a:cubicBezTo>
                    <a:pt x="165" y="480"/>
                    <a:pt x="165" y="480"/>
                    <a:pt x="165" y="480"/>
                  </a:cubicBezTo>
                  <a:cubicBezTo>
                    <a:pt x="162" y="568"/>
                    <a:pt x="162" y="568"/>
                    <a:pt x="162" y="568"/>
                  </a:cubicBezTo>
                  <a:cubicBezTo>
                    <a:pt x="162" y="568"/>
                    <a:pt x="151" y="699"/>
                    <a:pt x="172" y="742"/>
                  </a:cubicBezTo>
                  <a:cubicBezTo>
                    <a:pt x="172" y="742"/>
                    <a:pt x="213" y="889"/>
                    <a:pt x="215" y="897"/>
                  </a:cubicBezTo>
                  <a:cubicBezTo>
                    <a:pt x="215" y="897"/>
                    <a:pt x="209" y="938"/>
                    <a:pt x="198" y="964"/>
                  </a:cubicBezTo>
                  <a:cubicBezTo>
                    <a:pt x="188" y="990"/>
                    <a:pt x="128" y="1150"/>
                    <a:pt x="128" y="1150"/>
                  </a:cubicBezTo>
                  <a:cubicBezTo>
                    <a:pt x="128" y="1150"/>
                    <a:pt x="101" y="1217"/>
                    <a:pt x="111" y="1275"/>
                  </a:cubicBezTo>
                  <a:cubicBezTo>
                    <a:pt x="111" y="1275"/>
                    <a:pt x="118" y="1559"/>
                    <a:pt x="115" y="1585"/>
                  </a:cubicBezTo>
                  <a:cubicBezTo>
                    <a:pt x="115" y="1585"/>
                    <a:pt x="98" y="1664"/>
                    <a:pt x="78" y="1719"/>
                  </a:cubicBezTo>
                  <a:cubicBezTo>
                    <a:pt x="72" y="1722"/>
                    <a:pt x="72" y="1722"/>
                    <a:pt x="72" y="1722"/>
                  </a:cubicBezTo>
                  <a:cubicBezTo>
                    <a:pt x="72" y="1722"/>
                    <a:pt x="34" y="1737"/>
                    <a:pt x="26" y="1737"/>
                  </a:cubicBezTo>
                  <a:cubicBezTo>
                    <a:pt x="26" y="1737"/>
                    <a:pt x="0" y="1760"/>
                    <a:pt x="22" y="1765"/>
                  </a:cubicBezTo>
                  <a:cubicBezTo>
                    <a:pt x="43" y="1769"/>
                    <a:pt x="107" y="1768"/>
                    <a:pt x="115" y="1760"/>
                  </a:cubicBezTo>
                  <a:cubicBezTo>
                    <a:pt x="122" y="1753"/>
                    <a:pt x="131" y="1743"/>
                    <a:pt x="131" y="1743"/>
                  </a:cubicBezTo>
                  <a:cubicBezTo>
                    <a:pt x="131" y="1743"/>
                    <a:pt x="150" y="1739"/>
                    <a:pt x="150" y="1751"/>
                  </a:cubicBezTo>
                  <a:cubicBezTo>
                    <a:pt x="150" y="1763"/>
                    <a:pt x="185" y="1753"/>
                    <a:pt x="185" y="1753"/>
                  </a:cubicBezTo>
                  <a:cubicBezTo>
                    <a:pt x="218" y="1645"/>
                    <a:pt x="218" y="1645"/>
                    <a:pt x="218" y="1645"/>
                  </a:cubicBezTo>
                  <a:cubicBezTo>
                    <a:pt x="218" y="1645"/>
                    <a:pt x="221" y="1628"/>
                    <a:pt x="209" y="1617"/>
                  </a:cubicBezTo>
                  <a:cubicBezTo>
                    <a:pt x="204" y="1613"/>
                    <a:pt x="180" y="1576"/>
                    <a:pt x="186" y="1565"/>
                  </a:cubicBezTo>
                  <a:cubicBezTo>
                    <a:pt x="186" y="1565"/>
                    <a:pt x="206" y="1415"/>
                    <a:pt x="218" y="1366"/>
                  </a:cubicBezTo>
                  <a:cubicBezTo>
                    <a:pt x="224" y="1342"/>
                    <a:pt x="210" y="1262"/>
                    <a:pt x="210" y="1262"/>
                  </a:cubicBezTo>
                  <a:cubicBezTo>
                    <a:pt x="210" y="1262"/>
                    <a:pt x="255" y="1162"/>
                    <a:pt x="262" y="1162"/>
                  </a:cubicBezTo>
                  <a:cubicBezTo>
                    <a:pt x="270" y="1162"/>
                    <a:pt x="413" y="1166"/>
                    <a:pt x="417" y="1173"/>
                  </a:cubicBezTo>
                  <a:cubicBezTo>
                    <a:pt x="422" y="1179"/>
                    <a:pt x="413" y="1244"/>
                    <a:pt x="433" y="1275"/>
                  </a:cubicBezTo>
                  <a:cubicBezTo>
                    <a:pt x="439" y="1527"/>
                    <a:pt x="439" y="1527"/>
                    <a:pt x="439" y="1527"/>
                  </a:cubicBezTo>
                  <a:cubicBezTo>
                    <a:pt x="439" y="1527"/>
                    <a:pt x="428" y="1581"/>
                    <a:pt x="422" y="1591"/>
                  </a:cubicBezTo>
                  <a:cubicBezTo>
                    <a:pt x="422" y="1591"/>
                    <a:pt x="407" y="1669"/>
                    <a:pt x="405" y="1684"/>
                  </a:cubicBezTo>
                  <a:cubicBezTo>
                    <a:pt x="405" y="1684"/>
                    <a:pt x="392" y="1716"/>
                    <a:pt x="379" y="1730"/>
                  </a:cubicBezTo>
                  <a:cubicBezTo>
                    <a:pt x="379" y="1730"/>
                    <a:pt x="366" y="1769"/>
                    <a:pt x="379" y="1771"/>
                  </a:cubicBezTo>
                  <a:cubicBezTo>
                    <a:pt x="379" y="1771"/>
                    <a:pt x="475" y="1785"/>
                    <a:pt x="472" y="1733"/>
                  </a:cubicBezTo>
                  <a:cubicBezTo>
                    <a:pt x="484" y="1672"/>
                    <a:pt x="484" y="1672"/>
                    <a:pt x="484" y="1672"/>
                  </a:cubicBezTo>
                  <a:cubicBezTo>
                    <a:pt x="484" y="1672"/>
                    <a:pt x="501" y="1629"/>
                    <a:pt x="489" y="1617"/>
                  </a:cubicBezTo>
                  <a:cubicBezTo>
                    <a:pt x="489" y="1617"/>
                    <a:pt x="475" y="1574"/>
                    <a:pt x="481" y="1574"/>
                  </a:cubicBezTo>
                  <a:cubicBezTo>
                    <a:pt x="481" y="1574"/>
                    <a:pt x="544" y="1409"/>
                    <a:pt x="532" y="1288"/>
                  </a:cubicBezTo>
                  <a:cubicBezTo>
                    <a:pt x="532" y="1288"/>
                    <a:pt x="504" y="1197"/>
                    <a:pt x="521" y="1185"/>
                  </a:cubicBezTo>
                  <a:cubicBezTo>
                    <a:pt x="529" y="1182"/>
                    <a:pt x="529" y="1182"/>
                    <a:pt x="529" y="1182"/>
                  </a:cubicBezTo>
                  <a:cubicBezTo>
                    <a:pt x="533" y="1113"/>
                    <a:pt x="533" y="1113"/>
                    <a:pt x="533" y="1113"/>
                  </a:cubicBezTo>
                  <a:cubicBezTo>
                    <a:pt x="533" y="1113"/>
                    <a:pt x="553" y="1022"/>
                    <a:pt x="553" y="1013"/>
                  </a:cubicBezTo>
                  <a:cubicBezTo>
                    <a:pt x="553" y="1013"/>
                    <a:pt x="568" y="882"/>
                    <a:pt x="564" y="860"/>
                  </a:cubicBezTo>
                  <a:cubicBezTo>
                    <a:pt x="558" y="839"/>
                    <a:pt x="558" y="839"/>
                    <a:pt x="558" y="839"/>
                  </a:cubicBezTo>
                  <a:cubicBezTo>
                    <a:pt x="564" y="832"/>
                    <a:pt x="564" y="832"/>
                    <a:pt x="564" y="832"/>
                  </a:cubicBezTo>
                  <a:cubicBezTo>
                    <a:pt x="545" y="778"/>
                    <a:pt x="545" y="778"/>
                    <a:pt x="545" y="778"/>
                  </a:cubicBezTo>
                  <a:cubicBezTo>
                    <a:pt x="545" y="778"/>
                    <a:pt x="573" y="786"/>
                    <a:pt x="588" y="774"/>
                  </a:cubicBezTo>
                  <a:cubicBezTo>
                    <a:pt x="588" y="774"/>
                    <a:pt x="702" y="688"/>
                    <a:pt x="734" y="638"/>
                  </a:cubicBezTo>
                  <a:cubicBezTo>
                    <a:pt x="765" y="612"/>
                    <a:pt x="765" y="612"/>
                    <a:pt x="765" y="612"/>
                  </a:cubicBezTo>
                  <a:cubicBezTo>
                    <a:pt x="765" y="612"/>
                    <a:pt x="783" y="597"/>
                    <a:pt x="752" y="565"/>
                  </a:cubicBezTo>
                  <a:close/>
                  <a:moveTo>
                    <a:pt x="229" y="771"/>
                  </a:moveTo>
                  <a:cubicBezTo>
                    <a:pt x="229" y="771"/>
                    <a:pt x="214" y="635"/>
                    <a:pt x="215" y="629"/>
                  </a:cubicBezTo>
                  <a:cubicBezTo>
                    <a:pt x="218" y="593"/>
                    <a:pt x="218" y="527"/>
                    <a:pt x="229" y="527"/>
                  </a:cubicBezTo>
                  <a:cubicBezTo>
                    <a:pt x="229" y="527"/>
                    <a:pt x="239" y="643"/>
                    <a:pt x="238" y="655"/>
                  </a:cubicBezTo>
                  <a:cubicBezTo>
                    <a:pt x="238" y="655"/>
                    <a:pt x="244" y="746"/>
                    <a:pt x="229" y="771"/>
                  </a:cubicBezTo>
                  <a:close/>
                  <a:moveTo>
                    <a:pt x="599" y="707"/>
                  </a:moveTo>
                  <a:cubicBezTo>
                    <a:pt x="565" y="752"/>
                    <a:pt x="550" y="728"/>
                    <a:pt x="550" y="728"/>
                  </a:cubicBezTo>
                  <a:cubicBezTo>
                    <a:pt x="542" y="717"/>
                    <a:pt x="510" y="685"/>
                    <a:pt x="510" y="685"/>
                  </a:cubicBezTo>
                  <a:cubicBezTo>
                    <a:pt x="516" y="655"/>
                    <a:pt x="504" y="647"/>
                    <a:pt x="504" y="647"/>
                  </a:cubicBezTo>
                  <a:cubicBezTo>
                    <a:pt x="498" y="647"/>
                    <a:pt x="466" y="620"/>
                    <a:pt x="480" y="617"/>
                  </a:cubicBezTo>
                  <a:cubicBezTo>
                    <a:pt x="494" y="614"/>
                    <a:pt x="503" y="585"/>
                    <a:pt x="503" y="585"/>
                  </a:cubicBezTo>
                  <a:cubicBezTo>
                    <a:pt x="541" y="518"/>
                    <a:pt x="541" y="518"/>
                    <a:pt x="541" y="518"/>
                  </a:cubicBezTo>
                  <a:cubicBezTo>
                    <a:pt x="548" y="516"/>
                    <a:pt x="548" y="516"/>
                    <a:pt x="548" y="516"/>
                  </a:cubicBezTo>
                  <a:cubicBezTo>
                    <a:pt x="551" y="562"/>
                    <a:pt x="551" y="562"/>
                    <a:pt x="551" y="562"/>
                  </a:cubicBezTo>
                  <a:cubicBezTo>
                    <a:pt x="620" y="574"/>
                    <a:pt x="646" y="542"/>
                    <a:pt x="646" y="542"/>
                  </a:cubicBezTo>
                  <a:cubicBezTo>
                    <a:pt x="664" y="556"/>
                    <a:pt x="688" y="594"/>
                    <a:pt x="688" y="594"/>
                  </a:cubicBezTo>
                  <a:cubicBezTo>
                    <a:pt x="690" y="615"/>
                    <a:pt x="599" y="707"/>
                    <a:pt x="599" y="707"/>
                  </a:cubicBezTo>
                  <a:close/>
                </a:path>
              </a:pathLst>
            </a:custGeom>
            <a:solidFill>
              <a:srgbClr val="8ea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1812600" y="5699520"/>
              <a:ext cx="54720" cy="3384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0" y="0"/>
                  </a:moveTo>
                  <a:cubicBezTo>
                    <a:pt x="0" y="0"/>
                    <a:pt x="53" y="16"/>
                    <a:pt x="84" y="2"/>
                  </a:cubicBezTo>
                  <a:cubicBezTo>
                    <a:pt x="31" y="52"/>
                    <a:pt x="31" y="52"/>
                    <a:pt x="31" y="5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gradFill rotWithShape="0">
            <a:gsLst>
              <a:gs pos="0">
                <a:srgbClr val="25313f"/>
              </a:gs>
              <a:gs pos="100000">
                <a:srgbClr val="11161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2089080" y="6496200"/>
            <a:ext cx="11145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5"/>
          </p:nvPr>
        </p:nvSpPr>
        <p:spPr>
          <a:xfrm>
            <a:off x="3392640" y="6496200"/>
            <a:ext cx="4278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6"/>
          </p:nvPr>
        </p:nvSpPr>
        <p:spPr>
          <a:xfrm>
            <a:off x="7860960" y="6496200"/>
            <a:ext cx="10904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48080" y="-88200"/>
            <a:ext cx="1095840" cy="1188360"/>
            <a:chOff x="7948080" y="-88200"/>
            <a:chExt cx="1095840" cy="1188360"/>
          </a:xfrm>
        </p:grpSpPr>
        <p:sp>
          <p:nvSpPr>
            <p:cNvPr id="108" name=""/>
            <p:cNvSpPr/>
            <p:nvPr/>
          </p:nvSpPr>
          <p:spPr>
            <a:xfrm>
              <a:off x="8050320" y="106560"/>
              <a:ext cx="968040" cy="968400"/>
            </a:xfrm>
            <a:prstGeom prst="ellipse">
              <a:avLst/>
            </a:prstGeom>
            <a:gradFill rotWithShape="0">
              <a:gsLst>
                <a:gs pos="0">
                  <a:srgbClr val="a7adb2"/>
                </a:gs>
                <a:gs pos="100000">
                  <a:srgbClr val="dde5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19222b"/>
                </a:gs>
                <a:gs pos="50000">
                  <a:srgbClr val="384a5e"/>
                </a:gs>
                <a:gs pos="100000">
                  <a:srgbClr val="19222b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948080" y="-88200"/>
              <a:ext cx="983520" cy="1061640"/>
              <a:chOff x="7948080" y="-88200"/>
              <a:chExt cx="983520" cy="106164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159760" y="214560"/>
                <a:ext cx="75852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19899000">
                <a:off x="8037360" y="68040"/>
                <a:ext cx="804960" cy="579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7058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757575">
                    <a:alpha val="0"/>
                  </a:srgbClr>
                </a:gs>
                <a:gs pos="100000">
                  <a:srgbClr val="ffffff">
                    <a:alpha val="16078"/>
                  </a:srgbClr>
                </a:gs>
              </a:gsLst>
              <a:lin ang="13500000"/>
            </a:gradFill>
            <a:ln w="9360">
              <a:solidFill>
                <a:srgbClr val="c5d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66760" y="306360"/>
            <a:ext cx="8653320" cy="574560"/>
            <a:chOff x="266760" y="306360"/>
            <a:chExt cx="8653320" cy="574560"/>
          </a:xfrm>
        </p:grpSpPr>
        <p:sp>
          <p:nvSpPr>
            <p:cNvPr id="153" name="未知"/>
            <p:cNvSpPr/>
            <p:nvPr/>
          </p:nvSpPr>
          <p:spPr>
            <a:xfrm>
              <a:off x="266760" y="306360"/>
              <a:ext cx="8653320" cy="574560"/>
            </a:xfrm>
            <a:custGeom>
              <a:avLst/>
              <a:gdLst/>
              <a:ahLst/>
              <a:rect l="l" t="t" r="r" b="b"/>
              <a:pathLst>
                <a:path w="2743" h="181">
                  <a:moveTo>
                    <a:pt x="935" y="0"/>
                  </a:moveTo>
                  <a:cubicBezTo>
                    <a:pt x="798" y="0"/>
                    <a:pt x="798" y="0"/>
                    <a:pt x="79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39" y="1"/>
                    <a:pt x="0" y="41"/>
                    <a:pt x="0" y="91"/>
                  </a:cubicBezTo>
                  <a:cubicBezTo>
                    <a:pt x="0" y="140"/>
                    <a:pt x="39" y="180"/>
                    <a:pt x="87" y="181"/>
                  </a:cubicBezTo>
                  <a:cubicBezTo>
                    <a:pt x="798" y="181"/>
                    <a:pt x="798" y="181"/>
                    <a:pt x="798" y="181"/>
                  </a:cubicBezTo>
                  <a:cubicBezTo>
                    <a:pt x="935" y="181"/>
                    <a:pt x="935" y="181"/>
                    <a:pt x="935" y="181"/>
                  </a:cubicBezTo>
                  <a:cubicBezTo>
                    <a:pt x="2743" y="181"/>
                    <a:pt x="2743" y="181"/>
                    <a:pt x="2743" y="181"/>
                  </a:cubicBezTo>
                  <a:cubicBezTo>
                    <a:pt x="2743" y="116"/>
                    <a:pt x="2743" y="116"/>
                    <a:pt x="2743" y="116"/>
                  </a:cubicBezTo>
                  <a:cubicBezTo>
                    <a:pt x="2743" y="77"/>
                    <a:pt x="2743" y="77"/>
                    <a:pt x="2743" y="77"/>
                  </a:cubicBezTo>
                  <a:cubicBezTo>
                    <a:pt x="2743" y="0"/>
                    <a:pt x="2743" y="0"/>
                    <a:pt x="2743" y="0"/>
                  </a:cubicBezTo>
                  <a:lnTo>
                    <a:pt x="93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a5e"/>
                </a:gs>
                <a:gs pos="100000">
                  <a:srgbClr val="2a384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358200" y="318960"/>
              <a:ext cx="8549280" cy="82800"/>
            </a:xfrm>
            <a:custGeom>
              <a:avLst/>
              <a:gdLst/>
              <a:ahLst/>
              <a:rect l="l" t="t" r="r" b="b"/>
              <a:pathLst>
                <a:path w="2710" h="26">
                  <a:moveTo>
                    <a:pt x="0" y="26"/>
                  </a:moveTo>
                  <a:cubicBezTo>
                    <a:pt x="15" y="10"/>
                    <a:pt x="36" y="0"/>
                    <a:pt x="58" y="0"/>
                  </a:cubicBezTo>
                  <a:cubicBezTo>
                    <a:pt x="2710" y="0"/>
                    <a:pt x="2710" y="0"/>
                    <a:pt x="2710" y="0"/>
                  </a:cubicBezTo>
                  <a:cubicBezTo>
                    <a:pt x="2710" y="26"/>
                    <a:pt x="2710" y="26"/>
                    <a:pt x="2710" y="26"/>
                  </a:cubicBez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240" y="306360"/>
            <a:ext cx="744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宋体"/>
              </a:rPr>
              <a:t>Insert Title Tex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948080" y="-88200"/>
            <a:ext cx="1095840" cy="1188360"/>
            <a:chOff x="7948080" y="-88200"/>
            <a:chExt cx="1095840" cy="1188360"/>
          </a:xfrm>
        </p:grpSpPr>
        <p:sp>
          <p:nvSpPr>
            <p:cNvPr id="158" name=""/>
            <p:cNvSpPr/>
            <p:nvPr/>
          </p:nvSpPr>
          <p:spPr>
            <a:xfrm>
              <a:off x="8050320" y="106560"/>
              <a:ext cx="968040" cy="968400"/>
            </a:xfrm>
            <a:prstGeom prst="ellipse">
              <a:avLst/>
            </a:prstGeom>
            <a:gradFill rotWithShape="0">
              <a:gsLst>
                <a:gs pos="0">
                  <a:srgbClr val="a7adb2"/>
                </a:gs>
                <a:gs pos="100000">
                  <a:srgbClr val="dde5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19222b"/>
                </a:gs>
                <a:gs pos="50000">
                  <a:srgbClr val="384a5e"/>
                </a:gs>
                <a:gs pos="100000">
                  <a:srgbClr val="19222b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948080" y="-88200"/>
              <a:ext cx="983520" cy="1061640"/>
              <a:chOff x="7948080" y="-88200"/>
              <a:chExt cx="983520" cy="1061640"/>
            </a:xfrm>
          </p:grpSpPr>
          <p:pic>
            <p:nvPicPr>
              <p:cNvPr id="1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59760" y="214560"/>
                <a:ext cx="75852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 rot="19899000">
                <a:off x="8037360" y="68040"/>
                <a:ext cx="804960" cy="579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7058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8024760" y="81000"/>
              <a:ext cx="1019160" cy="1019160"/>
            </a:xfrm>
            <a:prstGeom prst="donut">
              <a:avLst>
                <a:gd name="adj" fmla="val 4134"/>
              </a:avLst>
            </a:prstGeom>
            <a:gradFill rotWithShape="0">
              <a:gsLst>
                <a:gs pos="0">
                  <a:srgbClr val="757575">
                    <a:alpha val="0"/>
                  </a:srgbClr>
                </a:gs>
                <a:gs pos="100000">
                  <a:srgbClr val="ffffff">
                    <a:alpha val="16078"/>
                  </a:srgbClr>
                </a:gs>
              </a:gsLst>
              <a:lin ang="13500000"/>
            </a:gradFill>
            <a:ln w="9360">
              <a:solidFill>
                <a:srgbClr val="c5d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926800" y="6308640"/>
            <a:ext cx="50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de5eb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de5eb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de5eb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3:51:29Z</dcterms:created>
  <dc:creator>project03</dc:creator>
  <dc:description>Background created by m62 Visualcommunications, visit www.m62.net </dc:description>
  <dc:language>en-US</dc:language>
  <cp:lastModifiedBy>king</cp:lastModifiedBy>
  <cp:lastPrinted>1899-12-30T00:00:00Z</cp:lastPrinted>
  <dcterms:modified xsi:type="dcterms:W3CDTF">2014-05-18T06:52:06Z</dcterms:modified>
  <cp:revision>2</cp:revision>
  <dc:subject/>
  <dc:title>Insert 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