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F304-13D7-43CF-A316-95C2091D3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AC84-5F46-42DC-A7B6-F1DD4DEBE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0A98-2CD0-425A-B4A1-320A7B802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B5FC-3AB7-43A6-9C87-0A4220F02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315720"/>
            <a:ext cx="676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D25D-ABE3-4CFB-8825-0E2CE3049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B7EA-BDC0-4B7E-9115-0C61DFF76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7B8A-CBFE-4D43-AFF1-E00100CB4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D0B6-A04E-4281-8295-BCE293B33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315720"/>
            <a:ext cx="676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5281-81EF-42EB-85F4-20FDF064F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06B6-03D9-4E82-A18C-8726DAC78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AAE4-2297-4513-8BCC-5B8F3EB11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8900-B17D-47FB-BAAC-2B3E65F8C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50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2248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D212D57-2C47-4A54-A355-33476F5377A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315720"/>
            <a:ext cx="676764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414936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360" y="414936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灰色通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5229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360" y="414936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76720" y="5229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0:24:27Z</dcterms:created>
  <dc:creator/>
  <dc:description/>
  <dc:language>en-US</dc:language>
  <cp:lastModifiedBy/>
  <dcterms:modified xsi:type="dcterms:W3CDTF">2015-01-08T04:54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