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9664-DF01-49D6-95F0-A824B575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84A6-51DD-4564-8D8B-385F580D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B1AD-3CCC-45AC-BC11-84370865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D70E-628D-4930-8780-9F1AC37A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7366-4D3B-461A-8B67-024C7576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6720" y="3069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A647-A18F-4B23-9242-DA590968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4508-D889-4814-A098-A9E47EC0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48FA-8D0F-4369-9DB3-BA55388A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E8A7-D3AD-4E9E-98C9-E468D6E0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7D5-4A5C-4872-B4D0-600F6D82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DA74-C77D-4C02-A96A-B99D0B33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4F3E-B3DB-4008-B8EE-3F42D554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DFE4-AB34-4515-91F4-80775685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E6CB-64B0-41BA-BCFD-D11E3859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483E-3CC8-4BD9-9585-9261056E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BC70-AC95-4CC4-94D3-AB7400F1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F56E-1827-4E96-B1E5-9FEA89C6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6720" y="3069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73FF-1975-4E16-B85C-C2CADDFB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B0FD-E7ED-49C9-BFCA-C636F69D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726D-0921-411C-BEFB-9502B7CB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E37A-49C7-4A1C-8855-B8968453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99AB-418E-43B8-832A-510D99CE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394E-D8AD-47D5-89C3-F13443D6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12D7-9CB3-4CD1-AE34-BDE13965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96720" y="3069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1AEA-E1ED-437B-B807-019B2EFEE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C3E0-D38A-40F8-AC02-5E8346EA9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95640" y="1844640"/>
            <a:ext cx="881280" cy="8701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49440" y="2421000"/>
            <a:ext cx="38847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黑天鹅电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812000" y="3284640"/>
            <a:ext cx="1216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：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e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453440" y="260280"/>
            <a:ext cx="1388880" cy="311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5308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谢谢观赏！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48200" y="623736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09:58:26Z</dcterms:created>
  <dc:creator/>
  <dc:description/>
  <dc:language>en-US</dc:language>
  <cp:lastModifiedBy/>
  <dcterms:modified xsi:type="dcterms:W3CDTF">2015-01-09T03:51:2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