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316-3E49-497D-8CE3-40C0A9D5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63A-8C18-4DE5-98FE-457AE7F0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293-6D28-4C95-B438-C2499B67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27E-80F5-487E-8791-FCE94E71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502-A7A5-43A0-8BE7-87443C8C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62BD-9E83-49FB-BE89-6F61BBA0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7553-11DE-43DC-A0F2-2384CE3E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AA61-D3CD-4F15-BDCE-6E1198E5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FDF-E9E7-4ADD-9E75-7984F89D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FCB3-1A33-4DCC-BB2C-E5FAD8AA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AA7-5959-4DA0-92EC-75CDE92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3D4-6C2C-41AF-A802-9F1825E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2D1-E0D4-43B7-99B7-290C337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1029-763A-431B-876C-5829285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7939-D7B9-45CB-B33A-77FED6A4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743E-957D-414C-B114-6CD44F84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22A-F814-4639-8725-C18515CE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D77-73F8-4DD3-867A-45EE6F19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2AC-EB9A-4BA1-9BB5-3F27BEFA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9D0-12B3-494D-A232-A1673DA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9FF-ABDF-4BCB-81E8-0E76773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4A5-EA8F-4317-A738-8814E593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106-61D2-4986-B6B3-1A086A0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249-E905-40D9-A75C-C2311B1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1440"/>
            <a:ext cx="2317680" cy="2057040"/>
            <a:chOff x="6934320" y="-1440"/>
            <a:chExt cx="2317680" cy="2057040"/>
          </a:xfrm>
        </p:grpSpPr>
        <p:sp>
          <p:nvSpPr>
            <p:cNvPr id="231" name="未知"/>
            <p:cNvSpPr/>
            <p:nvPr/>
          </p:nvSpPr>
          <p:spPr>
            <a:xfrm>
              <a:off x="7041600" y="-1440"/>
              <a:ext cx="2102760" cy="190764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5040"/>
              <a:ext cx="2317680" cy="2050560"/>
              <a:chOff x="6934320" y="5040"/>
              <a:chExt cx="2317680" cy="20505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504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5040"/>
                <a:ext cx="2317680" cy="205056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120"/>
                <a:ext cx="186480" cy="21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960"/>
                <a:ext cx="162720" cy="28800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1320"/>
                <a:ext cx="534960" cy="24156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32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932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20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360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24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136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560"/>
                <a:ext cx="455040" cy="3646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3400"/>
                <a:ext cx="257400" cy="64872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FE80-A358-4FEE-A210-12BB2A17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1F18-3015-40EC-B430-C693F2040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-30240" y="46080"/>
            <a:ext cx="9137880" cy="68403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160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</a:rPr>
              <a:t>花纹边框</a:t>
            </a:r>
            <a:r>
              <a:rPr b="1" lang="zh-CN" sz="5400" spc="-1" strike="noStrike">
                <a:solidFill>
                  <a:srgbClr val="0066cc"/>
                </a:solidFill>
                <a:latin typeface="Arial"/>
              </a:rPr>
              <a:t>PPT</a:t>
            </a:r>
            <a:r>
              <a:rPr b="1" lang="zh-CN" sz="5400" spc="-1" strike="noStrike">
                <a:solidFill>
                  <a:srgbClr val="0066cc"/>
                </a:solidFill>
                <a:latin typeface="Arial"/>
              </a:rPr>
              <a:t>模板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92360" y="292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 rot="10800000">
            <a:off x="4500360" y="3357360"/>
            <a:ext cx="4679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4920" y="-165240"/>
            <a:ext cx="9144000" cy="69789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60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763640" y="292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 rot="10800000">
            <a:off x="4500360" y="3357360"/>
            <a:ext cx="4679640" cy="35002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-19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 rot="10800000">
            <a:off x="34920" y="0"/>
            <a:ext cx="9113760" cy="68724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6360" y="44280"/>
            <a:ext cx="5400720" cy="45514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65060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1:00:32Z</dcterms:created>
  <dc:creator>lenovo</dc:creator>
  <dc:description/>
  <dc:language>en-US</dc:language>
  <cp:lastModifiedBy/>
  <dcterms:modified xsi:type="dcterms:W3CDTF">2015-01-08T03:28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