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44D-ABA9-4894-93A4-84EAF5E9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DA2-0FE5-4191-9EDE-B851052E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259-6018-48A4-84CE-B468B9CD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54D-25D1-4C17-A825-38C59C3D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360B-DCE0-4417-B6D5-97D49AA3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7580-3122-4629-AD39-8C92FEB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F16A-D549-419C-BDF4-DC1A9C4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8E37-AB32-491E-8633-A86B08B6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13E-0166-4109-AF5C-57B66DF3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DF4-E4FC-4EE9-A3C1-EB7A78E0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23F-2A56-44BD-BA69-27D32283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A52-C3C8-4D47-9D36-3F145CDE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7BA-C557-42A2-B303-ABDD066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0B70-300D-4103-8B26-C097383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76F-7F18-48F7-A8F0-8B2B0FFE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C9AB-BBE4-4119-852E-2ACE07DA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25FD-5013-4489-8F79-E74992C3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0E4-AB7D-4024-B322-07B21C3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257-4736-4F4D-8C07-FEEFA5D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17A-0510-4BA9-AFBE-4F6E892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78C-F0FD-44B8-8334-68A3B632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D4D-0A50-4AB3-8FB9-5260F63C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27D-BED6-4106-A997-03A2D24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8BA-3D7C-441C-9C76-E30F25B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B31-0A0A-4632-B9A7-226815A4B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9D79-17F0-46DB-AAB3-97B265D71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街边的自行车风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80" y="64533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08:20Z</dcterms:created>
  <dc:creator/>
  <dc:description/>
  <dc:language>en-US</dc:language>
  <cp:lastModifiedBy>imagedemo</cp:lastModifiedBy>
  <dcterms:modified xsi:type="dcterms:W3CDTF">2015-01-08T07:05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