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18E-D91B-43FA-8BFE-1AFD75AA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5ED-317E-4362-810C-DF9F4408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2BA-81E5-4FD8-AC88-20EAB506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7D5-DE74-41AB-A9F7-C8A92E36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E925-F680-4DB9-B9EA-839A6EAC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FA12-7A9F-483E-9CB3-4F38B774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8DEF-98F1-4BFA-B052-246E6E67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21B3-3B9B-44C2-9FE3-ADC003D5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E370-355D-4DEA-9E09-A0A38641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90D3-CC8E-4D88-A915-B5E2A8E0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E228-3772-41FB-8837-62D39FB8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B47-2768-4BAE-A1AC-C5F819BE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0A7E-6C0A-453E-91F8-A78E6948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52EF-D70A-4DBC-9245-65A9E038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0470-2953-4327-A2DF-D061D57F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7A5C-3C12-4777-BE35-E27BD4E3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76D1-8153-45A4-9309-8A73BCE5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57B38-32AF-4A27-AE92-69DCD654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887CB-D996-4A93-9016-92B21D0E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BDCA-FDBE-4237-BB5A-F1AD6D69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6E1D3-B7B4-4B74-90FF-CA5F6B07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74538-E766-46EB-BC8C-8AFFD6FA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CCE-D8EB-48C1-A39F-3C2A3DAE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70E4-C13A-49ED-8D2B-B4A5E198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5E2A4-8032-44B3-88BD-9114942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35221-7AE8-4017-9FF6-5F951AD8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A45F-4F5B-468B-B80A-4A23C18D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8C655-9434-4C24-924F-DBF20EDE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27F57-3CED-4D7A-8D02-AF5D735F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2F801-A3D0-4C7C-B689-D539563B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3D3-6ED2-48E3-BFFA-80A486BF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D76-DD40-47F9-AFBC-D9D1D637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BE4-240F-4214-993C-A7CB42C2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551B-820C-46EB-BDD2-FB88AAF1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883-C2A2-412A-A822-66EA7B23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A08-6785-4034-AC23-A4B24E1A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06FB-069C-4862-AD3B-477C59CB4FE7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E569-4646-4C1C-9BB1-BE49BEC5C979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4440" indent="-33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-279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5640" indent="-222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2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58AD-DE28-4C38-A314-4C1D56A2996D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028D-FD0E-46D4-93D3-F8538B62499F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A65C-4061-47E0-936E-BE868170804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99E2-80D4-493A-9BB3-F8ECD9470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渐变梦幻蓝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5" name=""/>
          <p:cNvSpPr/>
          <p:nvPr/>
        </p:nvSpPr>
        <p:spPr>
          <a:xfrm>
            <a:off x="6679800" y="527364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1878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0" t="0" r="0" b="78198"/>
          <a:stretch/>
        </p:blipFill>
        <p:spPr>
          <a:xfrm>
            <a:off x="0" y="4697280"/>
            <a:ext cx="899964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6360" y="240840"/>
            <a:ext cx="6713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6360" y="1403280"/>
            <a:ext cx="6713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31" name="Rectangle 3" descr=""/>
          <p:cNvPicPr/>
          <p:nvPr/>
        </p:nvPicPr>
        <p:blipFill>
          <a:blip r:embed="rId1"/>
          <a:srcRect l="52770" t="0" r="29226" b="0"/>
          <a:stretch/>
        </p:blipFill>
        <p:spPr>
          <a:xfrm>
            <a:off x="0" y="6480"/>
            <a:ext cx="1620720" cy="5999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679800" y="537048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62160" y="917640"/>
            <a:ext cx="2093760" cy="3529080"/>
          </a:xfrm>
          <a:custGeom>
            <a:avLst/>
            <a:gdLst>
              <a:gd name="textAreaLeft" fmla="*/ 61200 w 2093760"/>
              <a:gd name="textAreaRight" fmla="*/ 2032560 w 209376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405">
                <a:moveTo>
                  <a:pt x="2160" y="0"/>
                </a:moveTo>
                <a:arcTo wR="2160" hR="2160" stAng="16200000" swAng="-5400000"/>
                <a:lnTo>
                  <a:pt x="0" y="34245"/>
                </a:lnTo>
                <a:arcTo wR="2160" hR="2160" stAng="10800000" swAng="-5400000"/>
                <a:lnTo>
                  <a:pt x="19440" y="36405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62160" y="2328840"/>
            <a:ext cx="209376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20800" y="1128600"/>
            <a:ext cx="117468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917640"/>
            <a:ext cx="2095200" cy="3529080"/>
          </a:xfrm>
          <a:custGeom>
            <a:avLst/>
            <a:gdLst>
              <a:gd name="textAreaLeft" fmla="*/ 61200 w 2095200"/>
              <a:gd name="textAreaRight" fmla="*/ 2034000 w 209520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380">
                <a:moveTo>
                  <a:pt x="2160" y="0"/>
                </a:moveTo>
                <a:arcTo wR="2160" hR="2160" stAng="16200000" swAng="-5400000"/>
                <a:lnTo>
                  <a:pt x="0" y="34220"/>
                </a:lnTo>
                <a:arcTo wR="2160" hR="2160" stAng="10800000" swAng="-5400000"/>
                <a:lnTo>
                  <a:pt x="19440" y="36380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2328840"/>
            <a:ext cx="209520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79720" y="1128600"/>
            <a:ext cx="117504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76760" y="917640"/>
            <a:ext cx="2095560" cy="3529080"/>
          </a:xfrm>
          <a:custGeom>
            <a:avLst/>
            <a:gdLst>
              <a:gd name="textAreaLeft" fmla="*/ 61200 w 2095560"/>
              <a:gd name="textAreaRight" fmla="*/ 2034360 w 209556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373">
                <a:moveTo>
                  <a:pt x="2160" y="0"/>
                </a:moveTo>
                <a:arcTo wR="2160" hR="2160" stAng="16200000" swAng="-5400000"/>
                <a:lnTo>
                  <a:pt x="0" y="34213"/>
                </a:lnTo>
                <a:arcTo wR="2160" hR="2160" stAng="10800000" swAng="-5400000"/>
                <a:lnTo>
                  <a:pt x="19440" y="36373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76760" y="2328840"/>
            <a:ext cx="209556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37200" y="1128600"/>
            <a:ext cx="117468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15960" y="3740040"/>
            <a:ext cx="5900760" cy="530280"/>
          </a:xfrm>
          <a:prstGeom prst="leftRightArrow">
            <a:avLst>
              <a:gd name="adj1" fmla="val 50000"/>
              <a:gd name="adj2" fmla="val 49868"/>
            </a:avLst>
          </a:prstGeom>
          <a:solidFill>
            <a:srgbClr val="b0bf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770280" y="628560"/>
            <a:ext cx="300528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70280" y="628560"/>
            <a:ext cx="3005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90680" y="628560"/>
            <a:ext cx="134460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0680" y="2212920"/>
            <a:ext cx="300528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90680" y="2212920"/>
            <a:ext cx="3005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29160" y="2212920"/>
            <a:ext cx="134640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70280" y="3795840"/>
            <a:ext cx="3005280" cy="135864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70280" y="3795840"/>
            <a:ext cx="300528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90680" y="3795840"/>
            <a:ext cx="1344600" cy="135864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73680" y="54547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4280" y="2141640"/>
            <a:ext cx="7650360" cy="12888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32200" y="495000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8332920" cy="6012000"/>
            <a:chOff x="0" y="0"/>
            <a:chExt cx="8332920" cy="6012000"/>
          </a:xfrm>
        </p:grpSpPr>
        <p:sp>
          <p:nvSpPr>
            <p:cNvPr id="157" name="矩形 4"/>
            <p:cNvSpPr/>
            <p:nvPr/>
          </p:nvSpPr>
          <p:spPr>
            <a:xfrm>
              <a:off x="5162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503000"/>
              <a:ext cx="8332920" cy="45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7"/>
            <p:cNvSpPr/>
            <p:nvPr/>
          </p:nvSpPr>
          <p:spPr>
            <a:xfrm rot="20926800">
              <a:off x="1903320" y="3129840"/>
              <a:ext cx="45936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xiang</cp:lastModifiedBy>
  <dcterms:modified xsi:type="dcterms:W3CDTF">2015-01-08T12:39:02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