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578A-466F-4830-8D24-3D048995A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8238-105A-491B-9E53-8A076411B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A7D4-84B5-4FB7-97B9-A072EEE68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3E99-B2FA-4CD8-8AF4-5E2C1419B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0033-CAD7-4F3A-B8F2-4A8642D37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0D9D-B146-4D5E-8854-3799C33AC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73C9-61D7-4BE4-A251-24B5EFEE9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D84A-B423-4810-8957-4FA2E5FE6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0B4D-85A1-4950-A973-1D3F2F95A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F504-788E-4D75-8DE9-B8657DF0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7A00-116E-40BD-AC9F-6D8F8777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1FC6-FCF3-4C4A-9816-4D2098C4F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36360" y="6597720"/>
            <a:ext cx="648000" cy="210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87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9909A-4477-4985-8575-E921C254A7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626920" y="4868640"/>
            <a:ext cx="4248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200" spc="-1" strike="noStrike">
                <a:solidFill>
                  <a:srgbClr val="ffffff"/>
                </a:solidFill>
                <a:latin typeface="Arial"/>
              </a:rPr>
              <a:t>金币银币金融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1" lang="es-UY" sz="32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356000" y="5589720"/>
            <a:ext cx="4537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8534520" y="6670800"/>
            <a:ext cx="610920" cy="1587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702120" y="5950080"/>
            <a:ext cx="23724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免费</a:t>
            </a:r>
            <a:r>
              <a:rPr b="1" lang="es-ES" sz="12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es-ES" sz="1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</a:t>
            </a:r>
            <a:r>
              <a:rPr b="1" i="1" lang="zh-CN" sz="1400" spc="-1" strike="noStrike">
                <a:solidFill>
                  <a:srgbClr val="ffffff"/>
                </a:solidFill>
                <a:latin typeface="华文新魏"/>
                <a:ea typeface="华文新魏"/>
              </a:rPr>
              <a:t>http://</a:t>
            </a:r>
            <a:r>
              <a:rPr b="1" lang="zh-CN" sz="1400" spc="-1" strike="noStrike">
                <a:solidFill>
                  <a:srgbClr val="ffffff"/>
                </a:solidFill>
                <a:latin typeface="华文新魏"/>
                <a:ea typeface="华文新魏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6600" y="6021360"/>
            <a:ext cx="62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s-E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EEPPT.COM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s-E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5-01-08T07:04:14Z</dcterms:modified>
  <cp:revision>708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