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3F0-390F-4FF6-91F0-255075EA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6720" y="377208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D17-81BA-4F4D-A992-51466932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44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EE5-C56B-4BA2-9F23-7ADAA925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968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0264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9672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968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0264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ED6-FFBB-4707-8859-64956DED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17D3-45DA-4715-A6C2-E9C6F148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F7A9-1B2E-41DB-8707-62B63C0D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425A-8A10-487D-AE4C-71C4E4C7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9A4E-19A2-4CE1-8D15-09784378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B1D0-9AD8-463E-962E-031FA38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96360" y="43920"/>
            <a:ext cx="66265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370B-12B1-4D10-AF56-A250558A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EA93-C085-47CE-AA8F-2C9162F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6C6-99F0-4212-9602-3DC5E3DB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BDD3-A7B6-462D-A9EA-F4F34A4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5337-E05E-44D1-89A8-7C54C94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720" y="377208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EB39-5048-4B44-86DD-2CF19291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D106-64D0-42FB-BA79-6B07460B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9968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0264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9672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9968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0264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E277-6F7E-46A1-A277-7DE2F829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718-A0B8-4484-8127-4C4E01B3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1E9-0958-47BD-8524-2183BADD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E7A-A4DD-4D59-B3F1-E6B26BCA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96360" y="43920"/>
            <a:ext cx="66265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15C-C0EE-45A6-9222-B873F0E6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E90-1919-4CFF-8803-D4D1BA52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44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EA4-B73B-431D-8BB4-E7716A4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73F-FF65-43D6-8B09-E74C2E9C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0"/>
            <a:ext cx="9140760" cy="6858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AC8-B02A-4241-8A73-9C3CA4226C9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0" t="0" r="0" b="42"/>
          <a:stretch/>
        </p:blipFill>
        <p:spPr>
          <a:xfrm>
            <a:off x="7667640" y="4851360"/>
            <a:ext cx="1444680" cy="2016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549360"/>
            <a:ext cx="8633880" cy="533160"/>
            <a:chOff x="0" y="549360"/>
            <a:chExt cx="8633880" cy="533160"/>
          </a:xfrm>
        </p:grpSpPr>
        <p:sp>
          <p:nvSpPr>
            <p:cNvPr id="8" name=""/>
            <p:cNvSpPr/>
            <p:nvPr/>
          </p:nvSpPr>
          <p:spPr>
            <a:xfrm>
              <a:off x="0" y="693000"/>
              <a:ext cx="7774560" cy="36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7775280" y="549360"/>
              <a:ext cx="8586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213"/>
                  </a:moveTo>
                  <a:cubicBezTo>
                    <a:pt x="1341" y="7859"/>
                    <a:pt x="6481" y="21600"/>
                    <a:pt x="8062" y="21112"/>
                  </a:cubicBezTo>
                  <a:cubicBezTo>
                    <a:pt x="9642" y="20624"/>
                    <a:pt x="7263" y="4520"/>
                    <a:pt x="9514" y="2260"/>
                  </a:cubicBezTo>
                  <a:cubicBezTo>
                    <a:pt x="11765" y="0"/>
                    <a:pt x="19588" y="6677"/>
                    <a:pt x="21600" y="7551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50920" y="1054080"/>
            <a:ext cx="856908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821800" y="1054080"/>
            <a:ext cx="1440" cy="518472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250560" y="6237360"/>
            <a:ext cx="8569080" cy="144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V="1">
            <a:off x="250920" y="1054080"/>
            <a:ext cx="0" cy="518328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407F-E168-424F-AFDF-FB0E69927AC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631960" y="3407760"/>
            <a:ext cx="1157400" cy="114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078440" y="2417760"/>
            <a:ext cx="1157040" cy="1144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38400" y="4387680"/>
            <a:ext cx="1158840" cy="1144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25560" y="1270080"/>
            <a:ext cx="7045200" cy="431640"/>
            <a:chOff x="-25560" y="1270080"/>
            <a:chExt cx="7045200" cy="431640"/>
          </a:xfrm>
        </p:grpSpPr>
        <p:sp>
          <p:nvSpPr>
            <p:cNvPr id="59" name=""/>
            <p:cNvSpPr/>
            <p:nvPr/>
          </p:nvSpPr>
          <p:spPr>
            <a:xfrm>
              <a:off x="-25560" y="1386360"/>
              <a:ext cx="6344280" cy="36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6319080" y="1270080"/>
              <a:ext cx="70056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213"/>
                  </a:moveTo>
                  <a:cubicBezTo>
                    <a:pt x="1341" y="7859"/>
                    <a:pt x="6481" y="21600"/>
                    <a:pt x="8062" y="21112"/>
                  </a:cubicBezTo>
                  <a:cubicBezTo>
                    <a:pt x="9642" y="20624"/>
                    <a:pt x="7263" y="4520"/>
                    <a:pt x="9514" y="2260"/>
                  </a:cubicBezTo>
                  <a:cubicBezTo>
                    <a:pt x="11765" y="0"/>
                    <a:pt x="19588" y="6677"/>
                    <a:pt x="21600" y="7551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-25560" y="2276640"/>
            <a:ext cx="5749560" cy="431640"/>
            <a:chOff x="-25560" y="2276640"/>
            <a:chExt cx="5749560" cy="431640"/>
          </a:xfrm>
        </p:grpSpPr>
        <p:sp>
          <p:nvSpPr>
            <p:cNvPr id="62" name=""/>
            <p:cNvSpPr/>
            <p:nvPr/>
          </p:nvSpPr>
          <p:spPr>
            <a:xfrm>
              <a:off x="-25560" y="2392920"/>
              <a:ext cx="5177520" cy="36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5152320" y="2276640"/>
              <a:ext cx="57168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213"/>
                  </a:moveTo>
                  <a:cubicBezTo>
                    <a:pt x="1341" y="7859"/>
                    <a:pt x="6481" y="21600"/>
                    <a:pt x="8062" y="21112"/>
                  </a:cubicBezTo>
                  <a:cubicBezTo>
                    <a:pt x="9642" y="20624"/>
                    <a:pt x="7263" y="4520"/>
                    <a:pt x="9514" y="2260"/>
                  </a:cubicBezTo>
                  <a:cubicBezTo>
                    <a:pt x="11765" y="0"/>
                    <a:pt x="19588" y="6677"/>
                    <a:pt x="21600" y="7551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基础会计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84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章  成本计算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成本计算完整例题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某企业生产两种产品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份的相关资料如下：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）材料情况（采用先进先出法）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结存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，单价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元；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生产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产品领用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；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购进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，单价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1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元；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购进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，单价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15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元；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生产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产品领用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。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成本计算完整例题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月份工资情况：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生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工人工资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2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生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工人工资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8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车间管理人员工资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设备使用情况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计提设备（既可以生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也可以生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）折旧费用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成本计算完整例题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工时情况：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工时，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工时；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完工情况：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期初在产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本月投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本月完工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在产品平均完工程度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期初在产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本月投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本月完工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在产品平均完工程度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0%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期初在产品情况：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期初在产品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0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；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期初在产品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。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材料的会计处理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原材料        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原材料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银行存款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原材料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银行存款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4 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原材料           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4 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832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工资及设备折旧的会计处理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2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             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8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制造费用         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应付职工薪酬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制造费用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累计折旧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000  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 2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              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7 8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制造费用     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产品成本计算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期初在产品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60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本期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10000+12000+5200=272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生产费用合计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872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期末在产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约当产量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00+400-5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×50%=5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完工产品单位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87200÷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0+5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59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完工产品总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500×159=79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产品成本计算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期初在产品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50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本期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64500+8000+7800=803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生产费用合计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1303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期末在产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约当产量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+300-2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×30%=6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完工产品单位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130300÷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00+6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1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完工产品总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200×501=1002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产品完工入库的会计处理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库存商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79 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              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 200 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79 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                     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 200 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22:52:48Z</dcterms:created>
  <dc:creator/>
  <dc:description/>
  <dc:language>en-US</dc:language>
  <cp:lastModifiedBy>island</cp:lastModifiedBy>
  <cp:lastPrinted>1899-12-30T00:00:00Z</cp:lastPrinted>
  <dcterms:modified xsi:type="dcterms:W3CDTF">2014-05-29T06:38:00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