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23A7-865A-40C7-A93B-8DD1BD44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B0-BFA9-403E-BEA1-E40AA01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00E-BF21-4B9E-88DC-D56A365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FBA-C9F2-4E17-BF82-C8FBA8FE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F41-A194-47BD-A2E2-659A43C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C38-C524-4213-8193-9EEE88F3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727-6445-48C2-ABBE-2711F52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07B-7FD6-4F0D-860A-32A6DA85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260-1D4A-443D-9724-11162FB6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154-238C-4DA4-9EA6-8946206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40D-0D97-4AF0-9533-63F04523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678-4F92-4B9D-AD4D-5A888A5F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我的文档\桌面\图片1111.jpg"/>
          <p:cNvPicPr/>
          <p:nvPr/>
        </p:nvPicPr>
        <p:blipFill>
          <a:blip r:embed="rId2"/>
          <a:srcRect l="0" t="72744" r="0" b="6573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我的文档\桌面\图片\0.jpg"/>
          <p:cNvPicPr/>
          <p:nvPr/>
        </p:nvPicPr>
        <p:blipFill>
          <a:blip r:embed="rId3"/>
          <a:srcRect l="0" t="0" r="5984" b="0"/>
          <a:stretch/>
        </p:blipFill>
        <p:spPr>
          <a:xfrm>
            <a:off x="0" y="-4680"/>
            <a:ext cx="9144000" cy="68720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d:\我的文档\桌面\图片1111.jpg"/>
          <p:cNvPicPr/>
          <p:nvPr/>
        </p:nvPicPr>
        <p:blipFill>
          <a:blip r:embed="rId4"/>
          <a:srcRect l="0" t="72744" r="0" b="6573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4440240"/>
            <a:ext cx="3246480" cy="2505240"/>
            <a:chOff x="0" y="4440240"/>
            <a:chExt cx="3246480" cy="2505240"/>
          </a:xfrm>
        </p:grpSpPr>
        <p:sp>
          <p:nvSpPr>
            <p:cNvPr id="4" name="椭圆 6"/>
            <p:cNvSpPr/>
            <p:nvPr/>
          </p:nvSpPr>
          <p:spPr>
            <a:xfrm>
              <a:off x="686160" y="6045120"/>
              <a:ext cx="2277720" cy="90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" name="Picture 4" descr="d:\我的文档\桌面\图片\8.jpg"/>
            <p:cNvPicPr/>
            <p:nvPr/>
          </p:nvPicPr>
          <p:blipFill>
            <a:blip r:embed="rId5"/>
            <a:srcRect l="0" t="39606" r="44657" b="0"/>
            <a:stretch/>
          </p:blipFill>
          <p:spPr>
            <a:xfrm>
              <a:off x="0" y="4440240"/>
              <a:ext cx="3246480" cy="250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我的文档\桌面\图片1111.jpg"/>
          <p:cNvPicPr/>
          <p:nvPr/>
        </p:nvPicPr>
        <p:blipFill>
          <a:blip r:embed="rId2"/>
          <a:srcRect l="0" t="72744" r="0" b="6573"/>
          <a:stretch/>
        </p:blipFill>
        <p:spPr>
          <a:xfrm>
            <a:off x="0" y="5554800"/>
            <a:ext cx="9156600" cy="142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AC68-2982-4308-96CA-367146822D1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军队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7318440" y="65610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7760" y="880920"/>
            <a:ext cx="8039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感谢您的关注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我的文档\桌面\图片\99.jpg"/>
          <p:cNvPicPr/>
          <p:nvPr/>
        </p:nvPicPr>
        <p:blipFill>
          <a:blip r:embed="rId1"/>
          <a:srcRect l="7231" t="22993" r="41751" b="13608"/>
          <a:stretch/>
        </p:blipFill>
        <p:spPr>
          <a:xfrm>
            <a:off x="0" y="2065320"/>
            <a:ext cx="5454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2:07:36Z</dcterms:created>
  <dc:creator/>
  <dc:description/>
  <dc:language>en-US</dc:language>
  <cp:lastModifiedBy>微软用户</cp:lastModifiedBy>
  <dcterms:modified xsi:type="dcterms:W3CDTF">2015-01-07T14:04:31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