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082D-6F9D-4C53-94D4-EF994BEF1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5964-62D6-49D0-89D1-08FD9FECD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218F-431C-4960-9918-09E18117A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42DC-DA54-41E8-A627-A57CB5A08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3084-DB14-4139-9441-C68597729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978C-A51A-439D-964F-CC33B1F0C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DEE7-15F0-44D2-8336-6E5943B3C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8053-6727-45CF-B4FF-5EDDFE624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A532-3843-4098-A293-19C1EF76F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100B-9B14-438D-BFE2-55FCBFB7F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B2E5-B819-4964-9001-B9C340DCE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7A0F-530B-436B-B5D5-103B92183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5B0F2-4ED3-448E-B794-3E670C7E018B}" type="slidenum">
              <a:rPr b="0" lang="fr-CA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2428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000" spc="-1" strike="noStrike">
                <a:solidFill>
                  <a:srgbClr val="d8601e"/>
                </a:solidFill>
                <a:latin typeface="Calibri"/>
                <a:ea typeface="宋体"/>
              </a:rPr>
              <a:t>金黄色国外</a:t>
            </a:r>
            <a:r>
              <a:rPr b="0" lang="zh-CN" sz="3000" spc="-1" strike="noStrike">
                <a:solidFill>
                  <a:srgbClr val="d8601e"/>
                </a:solidFill>
                <a:latin typeface="Calibri"/>
                <a:ea typeface="宋体"/>
              </a:rPr>
              <a:t>PPT</a:t>
            </a:r>
            <a:r>
              <a:rPr b="0" lang="fr-CA" sz="3000" spc="-1" strike="noStrike">
                <a:solidFill>
                  <a:srgbClr val="d8601e"/>
                </a:solidFill>
                <a:latin typeface="Calibri"/>
                <a:ea typeface="宋体"/>
              </a:rPr>
              <a:t>模板下载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632448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c541a"/>
                </a:solidFill>
                <a:latin typeface="Calibri"/>
                <a:ea typeface="宋体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928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c54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bc541a"/>
                </a:solidFill>
                <a:latin typeface="Calibri"/>
                <a:ea typeface="宋体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bc54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bc541a"/>
                </a:solidFill>
                <a:latin typeface="Calibri"/>
                <a:ea typeface="宋体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357280" y="274320"/>
            <a:ext cx="632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c541a"/>
                </a:solidFill>
                <a:latin typeface="Calibri"/>
                <a:ea typeface="宋体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357280" y="1600200"/>
            <a:ext cx="632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c54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bc541a"/>
                </a:solidFill>
                <a:latin typeface="Calibri"/>
                <a:ea typeface="宋体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bc54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bc541a"/>
                </a:solidFill>
                <a:latin typeface="Calibri"/>
                <a:ea typeface="宋体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7086600" y="632448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57280" y="274320"/>
            <a:ext cx="632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c541a"/>
                </a:solidFill>
                <a:latin typeface="Calibri"/>
                <a:ea typeface="宋体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357280" y="1600200"/>
            <a:ext cx="632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c54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bc541a"/>
                </a:solidFill>
                <a:latin typeface="Calibri"/>
                <a:ea typeface="宋体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bc54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bc541a"/>
                </a:solidFill>
                <a:latin typeface="Calibri"/>
                <a:ea typeface="宋体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c541a"/>
                </a:solidFill>
                <a:latin typeface="Calibri"/>
                <a:ea typeface="宋体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928520"/>
            <a:ext cx="822960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c54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bc541a"/>
                </a:solidFill>
                <a:latin typeface="Calibri"/>
                <a:ea typeface="宋体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bc54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bc541a"/>
                </a:solidFill>
                <a:latin typeface="Calibri"/>
                <a:ea typeface="宋体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/>
          <p:nvPr/>
        </p:nvSpPr>
        <p:spPr>
          <a:xfrm>
            <a:off x="7086600" y="632448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895840" y="6381720"/>
            <a:ext cx="501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站点介绍</a:t>
            </a:r>
            <a:r>
              <a:rPr b="1" lang="fr-FR" sz="1800" spc="-1" strike="noStrike">
                <a:solidFill>
                  <a:srgbClr val="ededed"/>
                </a:solidFill>
                <a:latin typeface="Calibri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----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EEPPT.COM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fr-FR" sz="16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fr-FR" sz="16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fr-FR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fr-FR" sz="1600" spc="-1" strike="noStrike">
                <a:solidFill>
                  <a:srgbClr val="e8eff7"/>
                </a:solidFill>
                <a:latin typeface="Calibri"/>
              </a:rPr>
              <a:t>模板免费下载。</a:t>
            </a:r>
            <a:r>
              <a:rPr b="1" lang="fr-FR" sz="1600" spc="-1" strike="noStrike">
                <a:solidFill>
                  <a:srgbClr val="e8eff7"/>
                </a:solidFill>
                <a:latin typeface="Calibri"/>
              </a:rPr>
              <a:t>WWW.EEPPT.COM-</a:t>
            </a:r>
            <a:r>
              <a:rPr b="1" lang="fr-FR" sz="1600" spc="-1" strike="noStrike">
                <a:solidFill>
                  <a:srgbClr val="e8eff7"/>
                </a:solidFill>
                <a:latin typeface="Calibri"/>
              </a:rPr>
              <a:t>让您轻松制作出精美</a:t>
            </a:r>
            <a:r>
              <a:rPr b="1" lang="fr-FR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fr-FR" sz="1600" spc="-1" strike="noStrike">
                <a:solidFill>
                  <a:srgbClr val="e8eff7"/>
                </a:solidFill>
                <a:latin typeface="Calibri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收集于网络，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栏目推荐</a:t>
            </a:r>
            <a:r>
              <a:rPr b="1" lang="fr-FR" sz="1800" spc="-1" strike="noStrike">
                <a:solidFill>
                  <a:srgbClr val="ededed"/>
                </a:solidFill>
                <a:latin typeface="Calibri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fr-FR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fr-FR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fr-FR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fr-FR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fr-FR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fr-FR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fr-FR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7T01:44:35Z</dcterms:created>
  <dc:creator/>
  <dc:description/>
  <dc:language>en-US</dc:language>
  <cp:lastModifiedBy>微软用户</cp:lastModifiedBy>
  <dcterms:modified xsi:type="dcterms:W3CDTF">2015-01-08T07:02:00Z</dcterms:modified>
  <cp:revision>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