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68360" y="366840"/>
            <a:ext cx="6562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68000" y="3964320"/>
            <a:ext cx="64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68360" y="366840"/>
            <a:ext cx="6562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13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13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68000" y="3964320"/>
            <a:ext cx="313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56960" y="3964320"/>
            <a:ext cx="313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68360" y="366840"/>
            <a:ext cx="6562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2066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38080" y="1600200"/>
            <a:ext cx="2066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8160" y="1600200"/>
            <a:ext cx="2066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68000" y="3964320"/>
            <a:ext cx="2066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438080" y="3964320"/>
            <a:ext cx="2066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8160" y="3964320"/>
            <a:ext cx="2066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68360" y="366840"/>
            <a:ext cx="6562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360" y="366840"/>
            <a:ext cx="6562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68360" y="366840"/>
            <a:ext cx="6562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13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13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68360" y="366840"/>
            <a:ext cx="6562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68360" y="366840"/>
            <a:ext cx="65628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68360" y="366840"/>
            <a:ext cx="6562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13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13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68000" y="3964320"/>
            <a:ext cx="313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360" y="366840"/>
            <a:ext cx="6562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360" y="366840"/>
            <a:ext cx="6562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13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13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556960" y="3964320"/>
            <a:ext cx="313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68360" y="366840"/>
            <a:ext cx="6562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13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13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68000" y="3964320"/>
            <a:ext cx="64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68360" y="366840"/>
            <a:ext cx="6562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268000" y="3964320"/>
            <a:ext cx="64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68360" y="366840"/>
            <a:ext cx="6562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13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13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268000" y="3964320"/>
            <a:ext cx="313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556960" y="3964320"/>
            <a:ext cx="313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360" y="366840"/>
            <a:ext cx="6562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2066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38080" y="1600200"/>
            <a:ext cx="2066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08160" y="1600200"/>
            <a:ext cx="2066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268000" y="3964320"/>
            <a:ext cx="2066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438080" y="3964320"/>
            <a:ext cx="2066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08160" y="3964320"/>
            <a:ext cx="2066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68360" y="366840"/>
            <a:ext cx="6562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68360" y="366840"/>
            <a:ext cx="6562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13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13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68360" y="366840"/>
            <a:ext cx="6562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68360" y="366840"/>
            <a:ext cx="65628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360" y="366840"/>
            <a:ext cx="6562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13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13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68000" y="3964320"/>
            <a:ext cx="313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360" y="366840"/>
            <a:ext cx="6562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13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13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556960" y="3964320"/>
            <a:ext cx="313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360" y="366840"/>
            <a:ext cx="6562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13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13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68000" y="3964320"/>
            <a:ext cx="64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80678" t="0" r="0" b="0"/>
          <a:stretch/>
        </p:blipFill>
        <p:spPr>
          <a:xfrm>
            <a:off x="0" y="0"/>
            <a:ext cx="7002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80643" t="0" r="0" b="0"/>
          <a:stretch/>
        </p:blipFill>
        <p:spPr>
          <a:xfrm>
            <a:off x="689040" y="0"/>
            <a:ext cx="70164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rcRect l="80643" t="0" r="0" b="0"/>
          <a:stretch/>
        </p:blipFill>
        <p:spPr>
          <a:xfrm>
            <a:off x="1368360" y="0"/>
            <a:ext cx="700200" cy="68580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rcRect l="80678" t="0" r="0" b="0"/>
          <a:stretch/>
        </p:blipFill>
        <p:spPr>
          <a:xfrm>
            <a:off x="0" y="0"/>
            <a:ext cx="70020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6"/>
          <a:srcRect l="80643" t="0" r="0" b="0"/>
          <a:stretch/>
        </p:blipFill>
        <p:spPr>
          <a:xfrm>
            <a:off x="689040" y="0"/>
            <a:ext cx="70164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7"/>
          <a:srcRect l="80643" t="0" r="0" b="0"/>
          <a:stretch/>
        </p:blipFill>
        <p:spPr>
          <a:xfrm>
            <a:off x="1368360" y="0"/>
            <a:ext cx="7002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68360" y="1341360"/>
            <a:ext cx="67676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28440" y="144360"/>
            <a:ext cx="9064440" cy="659772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360" y="366840"/>
            <a:ext cx="6562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97040" indent="-26352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204920" indent="-228600"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3" marL="1612800" indent="-22860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cc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cc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80678" t="0" r="0" b="0"/>
          <a:stretch/>
        </p:blipFill>
        <p:spPr>
          <a:xfrm>
            <a:off x="0" y="0"/>
            <a:ext cx="7002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80643" t="0" r="0" b="0"/>
          <a:stretch/>
        </p:blipFill>
        <p:spPr>
          <a:xfrm>
            <a:off x="689040" y="0"/>
            <a:ext cx="70164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80643" t="0" r="0" b="0"/>
          <a:stretch/>
        </p:blipFill>
        <p:spPr>
          <a:xfrm>
            <a:off x="1368360" y="0"/>
            <a:ext cx="7002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>
            <a:lum bright="60000"/>
          </a:blip>
          <a:srcRect l="80643" t="0" r="0" b="0"/>
          <a:stretch/>
        </p:blipFill>
        <p:spPr>
          <a:xfrm>
            <a:off x="2030400" y="0"/>
            <a:ext cx="70164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>
            <a:lum bright="72000"/>
          </a:blip>
          <a:srcRect l="80643" t="0" r="0" b="0"/>
          <a:stretch/>
        </p:blipFill>
        <p:spPr>
          <a:xfrm>
            <a:off x="2735280" y="0"/>
            <a:ext cx="7002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rcRect l="80678" t="0" r="0" b="0"/>
          <a:stretch/>
        </p:blipFill>
        <p:spPr>
          <a:xfrm>
            <a:off x="0" y="0"/>
            <a:ext cx="7002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rcRect l="80643" t="0" r="0" b="0"/>
          <a:stretch/>
        </p:blipFill>
        <p:spPr>
          <a:xfrm>
            <a:off x="689040" y="0"/>
            <a:ext cx="70164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rcRect l="80643" t="0" r="0" b="0"/>
          <a:stretch/>
        </p:blipFill>
        <p:spPr>
          <a:xfrm>
            <a:off x="1368360" y="0"/>
            <a:ext cx="7002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>
            <a:lum bright="60000"/>
          </a:blip>
          <a:srcRect l="80643" t="0" r="0" b="0"/>
          <a:stretch/>
        </p:blipFill>
        <p:spPr>
          <a:xfrm>
            <a:off x="2030400" y="0"/>
            <a:ext cx="70164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>
            <a:lum bright="72000"/>
          </a:blip>
          <a:srcRect l="80643" t="0" r="0" b="0"/>
          <a:stretch/>
        </p:blipFill>
        <p:spPr>
          <a:xfrm>
            <a:off x="2735280" y="0"/>
            <a:ext cx="7002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916360" y="3760920"/>
            <a:ext cx="61196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28440" y="144360"/>
            <a:ext cx="9064440" cy="659772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87640" y="2130120"/>
            <a:ext cx="5757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indent="61920" algn="ctr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3" marL="1371600" indent="12600" algn="ctr">
              <a:spcBef>
                <a:spcPts val="451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cc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cc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87640" y="2130120"/>
            <a:ext cx="5757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金黄色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通用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PP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365640" y="3886200"/>
            <a:ext cx="5000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77160" y="6292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360" y="366840"/>
            <a:ext cx="6562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marL="353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66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cc66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cc66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cc66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pic>
          <p:nvPicPr>
            <p:cNvPr id="10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33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33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33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7:12:48Z</dcterms:created>
  <dc:creator>Presentation Magazine</dc:creator>
  <dc:description/>
  <dc:language>en-US</dc:language>
  <cp:lastModifiedBy>Jonty Pearce</cp:lastModifiedBy>
  <dcterms:modified xsi:type="dcterms:W3CDTF">2015-01-07T14:12:46Z</dcterms:modified>
  <cp:revision>25</cp:revision>
  <dc:subject/>
  <dc:title>Xmas Wra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