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00C-9C71-42E7-AC49-E37496C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E14-D42F-44CE-949B-F18871B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B9B-DAF9-4ECE-88FF-00CF7354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C70-BD65-41A4-994D-5FE00AC0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6BF3-D1C7-420F-8C2B-62264A2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69CA-EC02-4814-B289-D7EC51F6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5E01-9436-4B0D-8EB5-C4BCA535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975-2BD9-44A3-97CF-E366D25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662-578F-4470-8344-684797F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4FB-889D-4935-AA5F-CCEFE0D9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B48E-E9BC-4E38-8087-F9AC770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542-0E64-46A3-9EA3-8F5BA89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94EB-0AB3-4EA8-9527-BE06DE4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521-AD0F-4FAB-9256-3560C51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E15-6108-4B70-B6C9-8224BDD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F48B-7A13-4C68-A294-4E1A5915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BD2-CF1E-435B-8871-8D99262A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D8F-F13B-4DCA-A2E4-6EB875D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507-BE48-479E-B500-B2028276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FCB-ADAA-4957-8E9C-8B9BD8B8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54D-BDFD-44A0-A9BE-08FC893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FC6-14D4-4FEE-8CDC-22A12E8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47D-E4D9-4F72-9B63-8577DB2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8E0-2505-4E6F-B5B3-020EA51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472B-0701-46B0-9E50-D54F7E98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08A-2E8D-46D9-B2BC-BA7B58E39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0:41:33Z</dcterms:created>
  <dc:creator>Administrator</dc:creator>
  <dc:description/>
  <dc:language>en-US</dc:language>
  <cp:lastModifiedBy/>
  <dcterms:modified xsi:type="dcterms:W3CDTF">2015-01-08T04:52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