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441-DEB2-4778-A7C2-222616DF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7858-8182-4C70-ACC6-4159E670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2A45-F2E5-4589-A616-56C207D7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7A4B-E625-458F-BBA3-44A1B6D5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FE95-1BD2-4812-8F88-50ACF2BA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A258-DA21-41AC-9B0C-BDD9677A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60DC-D676-462B-BC67-04C86E8A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E722-375B-4330-AF47-069A1D2D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2549-B2A5-422F-BEDF-E5C20561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96D4-93AA-49C3-AF5E-C29A4A57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10DE-2319-45EA-BBA6-76CE060F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BE49-F536-45AE-B5FB-89EEA724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2997-DD78-40DF-97A7-25F16F8B0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6643800"/>
            <a:ext cx="755640" cy="21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3640" y="5733720"/>
            <a:ext cx="482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ffff"/>
                </a:solidFill>
                <a:latin typeface="Arial"/>
              </a:rPr>
              <a:t>简洁光盘</a:t>
            </a:r>
            <a:r>
              <a:rPr b="1" lang="es-UY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es-UY" sz="32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5662440"/>
            <a:ext cx="482436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629400"/>
            <a:ext cx="1306440" cy="233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9760" y="645336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5-01-08T07:15:55Z</dcterms:modified>
  <cp:revision>81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