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FC-18C7-49E8-9536-494E2F81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5B5-6970-4278-85BE-E7C7A157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DB9-E228-4641-8BE2-25E841D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3BB-B25E-461C-B367-D26FBAF9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577-6EAC-4C7A-849B-6FA8DB2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254-3260-4F49-93FC-B2418FD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E8C-09E2-48EE-9ECD-9665EDB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7FA-2060-4DAD-BEA1-2329AC8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366-0AED-49FE-AEDF-6E6DFD7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749-E787-48AD-9AAD-9351732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2AD-A45B-4EBC-96BF-9931A5F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CDB-F2E1-4B25-B66F-046FB92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C08C-98FF-47BD-BABA-FD3A8B77452D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6672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节节高升</a:t>
            </a:r>
            <a:r>
              <a:rPr b="0" lang="zh-CN" sz="4800" spc="-1" strike="noStrike">
                <a:solidFill>
                  <a:srgbClr val="404040"/>
                </a:solidFill>
                <a:latin typeface="Calibri"/>
                <a:ea typeface="宋体"/>
              </a:rPr>
              <a:t>PPT</a:t>
            </a: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314480" y="6381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314480" y="6381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3204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901800" y="6308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/>
  <dc:description/>
  <dc:language>en-US</dc:language>
  <cp:lastModifiedBy>echo</cp:lastModifiedBy>
  <dcterms:modified xsi:type="dcterms:W3CDTF">2015-01-08T07:05:0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