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ECE-7CB6-4449-B469-14EA46D5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A33-6B88-4663-B1F8-A678090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047-254E-40EE-8670-E3B93D66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67C-FE87-471F-B21A-984C71EE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676-A48F-436E-8EC6-5C221978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2E48-8480-45E3-B8F6-C3B531CC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63F0-F385-4689-8843-AF0ECB2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0185-8C9B-4463-A156-A3A7E68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CB18-9EC7-4520-8F4B-4E090033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93F8-0D8C-433B-81BF-6D4EAEF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2C19-5D25-4C99-8C50-40E3F70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C55-DA62-4611-9345-A8BD8B0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91CF-5CE1-42B5-B036-C326B92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CB4-90E0-45D9-9A29-07BC3CA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9DB-C3AB-40BA-8112-B9B7747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F433-07AA-4054-B81C-6DC71A3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182C-A23C-405B-AFE4-5A800F58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2ED-B6EA-41E3-9FE9-8DA56ED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258-2CC0-4409-8A40-0155240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7EF-0206-494A-872F-D857A47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DD6-1740-41B7-900E-8EC2E2C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547-6F03-44B1-8B2B-03A4235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DAB-060F-4C65-8B2B-34B5475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D2F-D198-4A83-AD93-1DF3E58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10960"/>
            <a:ext cx="9360000" cy="748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D9CB-4304-4DDB-8741-EC181B27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210960"/>
            <a:ext cx="9358200" cy="748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A9D-6AD9-4C1B-A002-799A7046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6000" y="2133360"/>
            <a:ext cx="431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勒比海盗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6669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6:08:25Z</dcterms:created>
  <dc:creator/>
  <dc:description/>
  <dc:language>en-US</dc:language>
  <cp:lastModifiedBy/>
  <dcterms:modified xsi:type="dcterms:W3CDTF">2015-01-07T14:39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