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2FB-F82E-44B4-AA16-9670E12E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D8C9-7935-4905-9F6A-A1E29831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576-AAA1-4B20-9AE1-141C4F7A0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FD00-4CA8-4F19-B3B3-E3F0EAF4B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EEA8-AD61-4AAA-AE98-5DEC17A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573A-3979-4773-85F8-CE19F100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306-D51F-433E-97A5-6D3891FC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D44B-AD21-49EC-B086-A4C3CA757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9B6-0E9C-4D0D-A62A-DB835F95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3EB-969C-4328-9A37-2BD645C9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7459-86B8-4B0C-A2BC-C4327D4E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EEB-F860-4854-B079-BBD6BA6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4938B-A89B-4184-B2AE-BCE4AEB2691D}" type="datetime">
              <a:rPr b="0" lang="nb-NO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b-N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6AB581-28F9-49C7-90B2-FABE22ABD5FF}" type="slidenum">
              <a:rPr b="0" lang="nb-N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1766880"/>
            <a:ext cx="9144000" cy="219564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92240" y="1144440"/>
            <a:ext cx="8434080" cy="3351240"/>
            <a:chOff x="192240" y="1144440"/>
            <a:chExt cx="8434080" cy="3351240"/>
          </a:xfrm>
        </p:grpSpPr>
        <p:grpSp>
          <p:nvGrpSpPr>
            <p:cNvPr id="43" name=""/>
            <p:cNvGrpSpPr/>
            <p:nvPr/>
          </p:nvGrpSpPr>
          <p:grpSpPr>
            <a:xfrm>
              <a:off x="6552360" y="2364120"/>
              <a:ext cx="2061000" cy="322560"/>
              <a:chOff x="6552360" y="2364120"/>
              <a:chExt cx="2061000" cy="322560"/>
            </a:xfrm>
          </p:grpSpPr>
          <p:pic>
            <p:nvPicPr>
              <p:cNvPr id="44" name="Ellipse 98" descr=""/>
              <p:cNvPicPr/>
              <p:nvPr/>
            </p:nvPicPr>
            <p:blipFill>
              <a:blip r:embed="rId1"/>
              <a:stretch/>
            </p:blipFill>
            <p:spPr>
              <a:xfrm>
                <a:off x="6552360" y="2364120"/>
                <a:ext cx="206100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68526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" name="Bent Arrow 40"/>
            <p:cNvSpPr/>
            <p:nvPr/>
          </p:nvSpPr>
          <p:spPr>
            <a:xfrm rot="5400000">
              <a:off x="2022840" y="191052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ounded Rectangle 6"/>
            <p:cNvSpPr/>
            <p:nvPr/>
          </p:nvSpPr>
          <p:spPr>
            <a:xfrm>
              <a:off x="385920" y="116316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ounded Rectangle 8"/>
            <p:cNvSpPr/>
            <p:nvPr/>
          </p:nvSpPr>
          <p:spPr>
            <a:xfrm>
              <a:off x="198684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ounded Rectangle 10"/>
            <p:cNvSpPr/>
            <p:nvPr/>
          </p:nvSpPr>
          <p:spPr>
            <a:xfrm>
              <a:off x="357804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ktangel 76"/>
            <p:cNvSpPr/>
            <p:nvPr/>
          </p:nvSpPr>
          <p:spPr>
            <a:xfrm>
              <a:off x="567000" y="131544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ktangel 76"/>
            <p:cNvSpPr/>
            <p:nvPr/>
          </p:nvSpPr>
          <p:spPr>
            <a:xfrm>
              <a:off x="213912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ktangel 76"/>
            <p:cNvSpPr/>
            <p:nvPr/>
          </p:nvSpPr>
          <p:spPr>
            <a:xfrm>
              <a:off x="375120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3350880" y="2364120"/>
              <a:ext cx="2054880" cy="322560"/>
              <a:chOff x="3350880" y="2364120"/>
              <a:chExt cx="2054880" cy="322560"/>
            </a:xfrm>
          </p:grpSpPr>
          <p:pic>
            <p:nvPicPr>
              <p:cNvPr id="54" name="Ellipse 98" descr=""/>
              <p:cNvPicPr/>
              <p:nvPr/>
            </p:nvPicPr>
            <p:blipFill>
              <a:blip r:embed="rId2"/>
              <a:stretch/>
            </p:blipFill>
            <p:spPr>
              <a:xfrm>
                <a:off x="335088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365040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747080" y="4167000"/>
              <a:ext cx="2061000" cy="328680"/>
              <a:chOff x="1747080" y="4167000"/>
              <a:chExt cx="2061000" cy="328680"/>
            </a:xfrm>
          </p:grpSpPr>
          <p:pic>
            <p:nvPicPr>
              <p:cNvPr id="57" name="Ellipse 98" descr=""/>
              <p:cNvPicPr/>
              <p:nvPr/>
            </p:nvPicPr>
            <p:blipFill>
              <a:blip r:embed="rId3"/>
              <a:stretch/>
            </p:blipFill>
            <p:spPr>
              <a:xfrm>
                <a:off x="174708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204948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240" y="2364120"/>
              <a:ext cx="2054880" cy="322560"/>
              <a:chOff x="192240" y="2364120"/>
              <a:chExt cx="2054880" cy="322560"/>
            </a:xfrm>
          </p:grpSpPr>
          <p:pic>
            <p:nvPicPr>
              <p:cNvPr id="60" name="Ellipse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192240" y="2364120"/>
                <a:ext cx="2054880" cy="32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490680" y="241020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1748160" y="1827720"/>
              <a:ext cx="416880" cy="459720"/>
              <a:chOff x="1748160" y="1827720"/>
              <a:chExt cx="416880" cy="459720"/>
            </a:xfrm>
          </p:grpSpPr>
          <p:sp>
            <p:nvSpPr>
              <p:cNvPr id="63" name="Ellipse 53"/>
              <p:cNvSpPr/>
              <p:nvPr/>
            </p:nvSpPr>
            <p:spPr>
              <a:xfrm>
                <a:off x="1748160" y="186732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" name="Tekstboks 54"/>
              <p:cNvSpPr/>
              <p:nvPr/>
            </p:nvSpPr>
            <p:spPr>
              <a:xfrm>
                <a:off x="1794960" y="182772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359520" y="3633840"/>
              <a:ext cx="416880" cy="459720"/>
              <a:chOff x="3359520" y="3633840"/>
              <a:chExt cx="416880" cy="459720"/>
            </a:xfrm>
          </p:grpSpPr>
          <p:sp>
            <p:nvSpPr>
              <p:cNvPr id="66" name="Ellipse 53"/>
              <p:cNvSpPr/>
              <p:nvPr/>
            </p:nvSpPr>
            <p:spPr>
              <a:xfrm>
                <a:off x="335952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" name="Tekstboks 54"/>
              <p:cNvSpPr/>
              <p:nvPr/>
            </p:nvSpPr>
            <p:spPr>
              <a:xfrm>
                <a:off x="34203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" name="Bent Arrow 41"/>
            <p:cNvSpPr/>
            <p:nvPr/>
          </p:nvSpPr>
          <p:spPr>
            <a:xfrm flipV="1" rot="16200000">
              <a:off x="362340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Bent Arrow 42"/>
            <p:cNvSpPr/>
            <p:nvPr/>
          </p:nvSpPr>
          <p:spPr>
            <a:xfrm rot="5400000">
              <a:off x="5214960" y="18676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Rounded Rectangle 43"/>
            <p:cNvSpPr/>
            <p:nvPr/>
          </p:nvSpPr>
          <p:spPr>
            <a:xfrm>
              <a:off x="5178960" y="297000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Rektangel 76"/>
            <p:cNvSpPr/>
            <p:nvPr/>
          </p:nvSpPr>
          <p:spPr>
            <a:xfrm>
              <a:off x="5331240" y="312696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551280" y="3633840"/>
              <a:ext cx="416880" cy="459720"/>
              <a:chOff x="6551280" y="3633840"/>
              <a:chExt cx="416880" cy="459720"/>
            </a:xfrm>
          </p:grpSpPr>
          <p:sp>
            <p:nvSpPr>
              <p:cNvPr id="73" name="Ellipse 53"/>
              <p:cNvSpPr/>
              <p:nvPr/>
            </p:nvSpPr>
            <p:spPr>
              <a:xfrm>
                <a:off x="6551280" y="3674160"/>
                <a:ext cx="416880" cy="4154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" name="Tekstboks 54"/>
              <p:cNvSpPr/>
              <p:nvPr/>
            </p:nvSpPr>
            <p:spPr>
              <a:xfrm>
                <a:off x="6611760" y="363384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4991400" y="1715760"/>
              <a:ext cx="416880" cy="459720"/>
              <a:chOff x="4991400" y="1715760"/>
              <a:chExt cx="416880" cy="459720"/>
            </a:xfrm>
          </p:grpSpPr>
          <p:sp>
            <p:nvSpPr>
              <p:cNvPr id="76" name="Ellipse 53"/>
              <p:cNvSpPr/>
              <p:nvPr/>
            </p:nvSpPr>
            <p:spPr>
              <a:xfrm>
                <a:off x="499140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Tekstboks 54"/>
              <p:cNvSpPr/>
              <p:nvPr/>
            </p:nvSpPr>
            <p:spPr>
              <a:xfrm>
                <a:off x="50515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5180400" y="4167000"/>
              <a:ext cx="2061000" cy="328680"/>
              <a:chOff x="5180400" y="4167000"/>
              <a:chExt cx="2061000" cy="328680"/>
            </a:xfrm>
          </p:grpSpPr>
          <p:pic>
            <p:nvPicPr>
              <p:cNvPr id="79" name="Ellipse 98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0400" y="4167000"/>
                <a:ext cx="2061000" cy="3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5480640" y="4216320"/>
                <a:ext cx="1456560" cy="22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" name="Bent Arrow 52"/>
            <p:cNvSpPr/>
            <p:nvPr/>
          </p:nvSpPr>
          <p:spPr>
            <a:xfrm flipV="1" rot="16200000">
              <a:off x="6815520" y="2130480"/>
              <a:ext cx="1037160" cy="1109880"/>
            </a:xfrm>
            <a:custGeom>
              <a:avLst/>
              <a:gdLst>
                <a:gd name="textAreaLeft" fmla="*/ 0 w 1037160"/>
                <a:gd name="textAreaRight" fmla="*/ 1037520 w 1037160"/>
                <a:gd name="textAreaTop" fmla="*/ -360 h 1109880"/>
                <a:gd name="textAreaBottom" fmla="*/ 1109880 h 1109880"/>
              </a:gdLst>
              <a:ahLst/>
              <a:rect l="textAreaLeft" t="textAreaTop" r="textAreaRight" b="textAreaBottom"/>
              <a:pathLst>
                <a:path w="1038600" h="1108618">
                  <a:moveTo>
                    <a:pt x="0" y="1108618"/>
                  </a:moveTo>
                  <a:lnTo>
                    <a:pt x="0" y="584213"/>
                  </a:lnTo>
                  <a:cubicBezTo>
                    <a:pt x="0" y="333261"/>
                    <a:pt x="203436" y="129825"/>
                    <a:pt x="454387" y="129825"/>
                  </a:cubicBezTo>
                  <a:lnTo>
                    <a:pt x="778950" y="129825"/>
                  </a:lnTo>
                  <a:lnTo>
                    <a:pt x="778950" y="0"/>
                  </a:lnTo>
                  <a:lnTo>
                    <a:pt x="1038600" y="259650"/>
                  </a:lnTo>
                  <a:lnTo>
                    <a:pt x="778950" y="519300"/>
                  </a:lnTo>
                  <a:lnTo>
                    <a:pt x="778950" y="389475"/>
                  </a:lnTo>
                  <a:lnTo>
                    <a:pt x="454388" y="389475"/>
                  </a:lnTo>
                  <a:lnTo>
                    <a:pt x="454387" y="389475"/>
                  </a:lnTo>
                  <a:cubicBezTo>
                    <a:pt x="346837" y="389475"/>
                    <a:pt x="259650" y="476662"/>
                    <a:pt x="259650" y="584212"/>
                  </a:cubicBezTo>
                  <a:lnTo>
                    <a:pt x="259650" y="1108618"/>
                  </a:lnTo>
                  <a:lnTo>
                    <a:pt x="0" y="1108618"/>
                  </a:lnTo>
                  <a:close/>
                </a:path>
              </a:pathLst>
            </a:custGeom>
            <a:solidFill>
              <a:srgbClr val="9cc43b"/>
            </a:solidFill>
            <a:ln w="0">
              <a:noFill/>
            </a:ln>
            <a:effectLst>
              <a:outerShdw dist="22881" dir="1448732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ounded Rectangle 53"/>
            <p:cNvSpPr/>
            <p:nvPr/>
          </p:nvSpPr>
          <p:spPr>
            <a:xfrm>
              <a:off x="6795360" y="1144440"/>
              <a:ext cx="1600560" cy="9896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2f2f2"/>
                </a:gs>
              </a:gsLst>
              <a:lin ang="5400000"/>
            </a:gradFill>
            <a:ln w="63360">
              <a:solidFill>
                <a:srgbClr val="9cc43b"/>
              </a:solidFill>
              <a:miter/>
            </a:ln>
            <a:effectLst>
              <a:outerShdw dist="23040" dir="5400000" blurRad="0" rotWithShape="0">
                <a:srgbClr val="80808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ktangel 76"/>
            <p:cNvSpPr/>
            <p:nvPr/>
          </p:nvSpPr>
          <p:spPr>
            <a:xfrm>
              <a:off x="6968520" y="1301400"/>
              <a:ext cx="1219320" cy="73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0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xample tex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place with your own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8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is is an example text. 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8209440" y="1715760"/>
              <a:ext cx="416880" cy="459720"/>
              <a:chOff x="8209440" y="1715760"/>
              <a:chExt cx="416880" cy="459720"/>
            </a:xfrm>
          </p:grpSpPr>
          <p:sp>
            <p:nvSpPr>
              <p:cNvPr id="85" name="Ellipse 53"/>
              <p:cNvSpPr/>
              <p:nvPr/>
            </p:nvSpPr>
            <p:spPr>
              <a:xfrm>
                <a:off x="8209440" y="1754640"/>
                <a:ext cx="416880" cy="417240"/>
              </a:xfrm>
              <a:prstGeom prst="ellipse">
                <a:avLst/>
              </a:prstGeom>
              <a:solidFill>
                <a:srgbClr val="ffffff">
                  <a:alpha val="62000"/>
                </a:srgbClr>
              </a:solidFill>
              <a:ln w="9360">
                <a:solidFill>
                  <a:srgbClr val="ffffff"/>
                </a:solidFill>
                <a:miter/>
              </a:ln>
              <a:effectLst>
                <a:outerShdw dist="38183" dir="2700000" blurRad="0" rotWithShape="0">
                  <a:srgbClr val="80808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kstboks 54"/>
              <p:cNvSpPr/>
              <p:nvPr/>
            </p:nvSpPr>
            <p:spPr>
              <a:xfrm>
                <a:off x="8269920" y="1715760"/>
                <a:ext cx="334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0" lang="da-DK" sz="24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87" name="Rectangle 9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ktangel 76"/>
          <p:cNvSpPr/>
          <p:nvPr/>
        </p:nvSpPr>
        <p:spPr>
          <a:xfrm>
            <a:off x="1112760" y="5473800"/>
            <a:ext cx="221004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808200" y="5562720"/>
            <a:ext cx="250560" cy="250560"/>
            <a:chOff x="808200" y="5562720"/>
            <a:chExt cx="250560" cy="250560"/>
          </a:xfrm>
        </p:grpSpPr>
        <p:sp>
          <p:nvSpPr>
            <p:cNvPr id="90" name="Oval 96"/>
            <p:cNvSpPr/>
            <p:nvPr/>
          </p:nvSpPr>
          <p:spPr>
            <a:xfrm>
              <a:off x="808200" y="5562720"/>
              <a:ext cx="25056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Isosceles Triangle 97"/>
            <p:cNvSpPr/>
            <p:nvPr/>
          </p:nvSpPr>
          <p:spPr>
            <a:xfrm rot="5400000">
              <a:off x="874080" y="5622840"/>
              <a:ext cx="149040" cy="129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Rektangel 76"/>
          <p:cNvSpPr/>
          <p:nvPr/>
        </p:nvSpPr>
        <p:spPr>
          <a:xfrm>
            <a:off x="380520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500280" y="5562720"/>
            <a:ext cx="250920" cy="250560"/>
            <a:chOff x="3500280" y="5562720"/>
            <a:chExt cx="250920" cy="250560"/>
          </a:xfrm>
        </p:grpSpPr>
        <p:sp>
          <p:nvSpPr>
            <p:cNvPr id="94" name="Oval 100"/>
            <p:cNvSpPr/>
            <p:nvPr/>
          </p:nvSpPr>
          <p:spPr>
            <a:xfrm>
              <a:off x="350028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Isosceles Triangle 101"/>
            <p:cNvSpPr/>
            <p:nvPr/>
          </p:nvSpPr>
          <p:spPr>
            <a:xfrm rot="5400000">
              <a:off x="356724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Rektangel 76"/>
          <p:cNvSpPr/>
          <p:nvPr/>
        </p:nvSpPr>
        <p:spPr>
          <a:xfrm>
            <a:off x="6345360" y="5473800"/>
            <a:ext cx="220968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sz="1300" spc="-1" strike="noStrike">
                <a:solidFill>
                  <a:srgbClr val="ffffff"/>
                </a:solidFill>
                <a:latin typeface="Calibri"/>
                <a:ea typeface="Arial"/>
              </a:rPr>
              <a:t>Example tex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sz="1100" spc="-1" strike="noStrike">
                <a:solidFill>
                  <a:srgbClr val="ffffff"/>
                </a:solidFill>
                <a:latin typeface="Calibri"/>
                <a:ea typeface="Arial"/>
              </a:rPr>
              <a:t>Go ahead and replace it with your own text. This is an example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040440" y="5562720"/>
            <a:ext cx="250920" cy="250560"/>
            <a:chOff x="6040440" y="5562720"/>
            <a:chExt cx="250920" cy="250560"/>
          </a:xfrm>
        </p:grpSpPr>
        <p:sp>
          <p:nvSpPr>
            <p:cNvPr id="98" name="Oval 104"/>
            <p:cNvSpPr/>
            <p:nvPr/>
          </p:nvSpPr>
          <p:spPr>
            <a:xfrm>
              <a:off x="6040440" y="5562720"/>
              <a:ext cx="250920" cy="2505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Isosceles Triangle 105"/>
            <p:cNvSpPr/>
            <p:nvPr/>
          </p:nvSpPr>
          <p:spPr>
            <a:xfrm rot="5400000">
              <a:off x="6107400" y="5622840"/>
              <a:ext cx="149040" cy="1303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Rectangle 4"/>
          <p:cNvSpPr/>
          <p:nvPr/>
        </p:nvSpPr>
        <p:spPr>
          <a:xfrm>
            <a:off x="87480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own foote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767640" y="6264360"/>
            <a:ext cx="1538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Your Log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4"/>
          <p:cNvSpPr/>
          <p:nvPr/>
        </p:nvSpPr>
        <p:spPr>
          <a:xfrm>
            <a:off x="314280" y="378000"/>
            <a:ext cx="2876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b-NO" sz="1500" spc="-1" strike="noStrike">
                <a:solidFill>
                  <a:srgbClr val="262626"/>
                </a:solidFill>
                <a:latin typeface="Calibri"/>
              </a:rPr>
              <a:t>ARROWS AND BOX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8:28:24Z</dcterms:created>
  <dc:creator/>
  <dc:description/>
  <dc:language>en-US</dc:language>
  <cp:lastModifiedBy>king</cp:lastModifiedBy>
  <dcterms:modified xsi:type="dcterms:W3CDTF">2015-01-07T14:09:2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