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4D2-20DB-4E28-8A02-A207FFE7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0AF-6DD9-4475-A2B3-0036D5E1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4D1-EEEE-48CD-A4A9-8D3488C8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959-6FAB-41FD-906B-40CC1D77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4B6B-A5F7-4742-9A7D-931D882F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5E2E-53F1-476C-9409-B1EE6D73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8445-6D63-4ECB-A419-9209685F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3F16-85F6-4510-9A44-9DACEC18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8777-8459-475D-8F11-9251DF62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604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9755-4A0B-4FCF-B79B-50A907DB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1729-A796-46CE-9FCF-0A9AFA77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485-FD1A-4B14-834D-FD644A95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8BFA-A2A1-4944-8232-8A989710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A633-B294-40C8-84D5-342ED81D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C7DE-91AB-40EF-ABD1-7C571C14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8167-8958-434C-B148-43F190AD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743B-A358-4F14-BFBC-B8233728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8D0-B2CB-41F1-9833-EE9ACCCD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580-E522-4EB4-9739-60899F1E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395-05DD-4151-9BD1-E1ACD4B8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604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DCB-1877-436E-8767-14B1A601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D87-D52C-435E-8D62-D4A1D94C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BCF-E24A-4E97-8B59-85298831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DC3-98CF-4934-AECB-FCD4FCE6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823D-BDD4-4FC6-94AB-283B14159E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6320" y="6192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D965-5207-4939-A322-16452E0A28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6320" y="6192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44680" y="167436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 rot="2943000">
            <a:off x="6413760" y="124128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8" name="WordArt 5"/>
          <p:cNvSpPr txBox="1"/>
          <p:nvPr/>
        </p:nvSpPr>
        <p:spPr>
          <a:xfrm rot="2923800">
            <a:off x="6442920" y="168696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80808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80808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80808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80808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80808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80808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80808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80808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4:03:34Z</dcterms:created>
  <dc:creator/>
  <dc:description/>
  <dc:language>en-US</dc:language>
  <cp:lastModifiedBy>雨林木风</cp:lastModifiedBy>
  <dcterms:modified xsi:type="dcterms:W3CDTF">2015-01-08T07:29:05Z</dcterms:modified>
  <cp:revision>3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