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33264-57D7-4164-A705-2521B5689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840120"/>
            <a:ext cx="822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1A5B0-6B29-41D3-BADC-234759A8C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1F4BF-C627-4BE3-8CFB-1356699F7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34100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34100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84012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84012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84012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65097-0568-4D7E-B92F-E30878945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704FB-B160-4EAB-BC00-0F76357B2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C4486-C388-46B3-8F91-2E8F86DAA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99544-C684-4158-A32C-F3219D5B9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B572A-B1DE-4020-A424-733815097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80E78-0020-47D8-B4B8-EC30A41C0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F025C-E77B-44BC-949E-B09C836AA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0DF48-65F1-4858-8ABF-401230875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B1028-65D7-4A2F-90F1-D62B414C0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A06D8-6458-4B3C-87E0-A0F4E5C35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840120"/>
            <a:ext cx="822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1D72A-97E6-445F-A993-E57457445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840120"/>
            <a:ext cx="822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B3998-364D-46B9-8B67-50590C914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2834E-C954-4A90-97C5-F454E4997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34100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34100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84012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84012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84012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473F0-8F43-4249-99A3-F164F9392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2EA91-61A7-490C-BD99-B4659E4E5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CBB32-25AA-4920-8CA9-3936F79A0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94A8D-1238-484F-AA04-8824B847B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D9A41-CE80-40A6-ABA5-66F7AA2A8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CA762-B064-41D3-8D78-7112E90BE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C7582-C060-4D7A-822C-35BA423E8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840120"/>
            <a:ext cx="822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6788A-D2FC-41E1-B2EE-30763415C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48FB5-69AA-49DE-9FEB-EB0CF0C8A5B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55640" y="4508640"/>
            <a:ext cx="7772400" cy="89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67A61-3BB2-4204-94D5-42889EDD17A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55640" y="4508640"/>
            <a:ext cx="7772400" cy="89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激情世界杯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模板在线下载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32000" y="5445000"/>
            <a:ext cx="640080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164360" y="640224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55640" y="4508640"/>
            <a:ext cx="7772400" cy="89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32000" y="5445000"/>
            <a:ext cx="640080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22T17:33:47Z</dcterms:created>
  <dc:creator/>
  <dc:description/>
  <dc:language>en-US</dc:language>
  <cp:lastModifiedBy/>
  <dcterms:modified xsi:type="dcterms:W3CDTF">2015-01-07T14:42:57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