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6F903-A0B3-4B3B-8458-E05598FAA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7704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6000" y="3727080"/>
            <a:ext cx="7704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ADA98-293A-42F9-ACAF-71E3F23B4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760" y="113940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6000" y="372708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760" y="372708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EEA26-CB6F-4A96-A855-0B3DA15DD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2480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960" y="1139400"/>
            <a:ext cx="2480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5560" y="1139400"/>
            <a:ext cx="2480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6000" y="3727080"/>
            <a:ext cx="2480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960" y="3727080"/>
            <a:ext cx="2480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5560" y="3727080"/>
            <a:ext cx="2480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6C7E3-5AF0-40B0-8A2F-1ED38E419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2771B-7E57-492B-A4C0-27D4C7BD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6000" y="1139400"/>
            <a:ext cx="77040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74DF1-35A6-4AE9-8D6F-4E2810B3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7704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AC4EB-D80B-462B-9B86-3D578491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3759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760" y="1139400"/>
            <a:ext cx="3759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AD7C3-EBCE-47EB-8110-33895CA3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38A92-BF96-4565-8C62-FE9BCAB3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42560" y="115560"/>
            <a:ext cx="777708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E3139-7141-450A-89F2-927BAE06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760" y="1139400"/>
            <a:ext cx="3759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16000" y="372708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2CECC-3A8F-477F-BDE7-7B42441E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6000" y="1139400"/>
            <a:ext cx="77040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0AB59-AD8F-4318-B943-D8F3B1F03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3759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760" y="113940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760" y="372708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B5941-657E-48EC-B3C5-34825D79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760" y="113940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6000" y="3727080"/>
            <a:ext cx="7704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4C057-1F3E-4E12-B980-C72CBE6D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7704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16000" y="3727080"/>
            <a:ext cx="7704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15538-D942-4C26-AD96-7F622D71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760" y="113940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16000" y="372708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760" y="372708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6D031-A39E-4D38-834D-71C9EEAD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2480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0960" y="1139400"/>
            <a:ext cx="2480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5560" y="1139400"/>
            <a:ext cx="2480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16000" y="3727080"/>
            <a:ext cx="2480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20960" y="3727080"/>
            <a:ext cx="2480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5560" y="3727080"/>
            <a:ext cx="2480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D0ACE-CB23-44F1-A59F-58DDB45C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7704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BABD2-F137-440B-BED3-1A66308AB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3759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760" y="1139400"/>
            <a:ext cx="3759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FC12D-1B79-4FC5-B40D-D827B50B21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34F2B-513D-4D6A-BB64-40A443B59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2560" y="115560"/>
            <a:ext cx="777708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3EA11-E932-410F-8748-9EB633ACC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760" y="1139400"/>
            <a:ext cx="3759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6000" y="372708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62919-E979-413D-9539-2B1A240DD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3759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760" y="113940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760" y="372708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1AE7B-426E-4D06-AAD9-AAFD485DA8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760" y="113940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6000" y="3727080"/>
            <a:ext cx="7704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D94B4-22D0-47C3-93C0-5D62639C1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292720" y="6453360"/>
            <a:ext cx="3851280" cy="404640"/>
          </a:xfrm>
          <a:prstGeom prst="rect">
            <a:avLst/>
          </a:prstGeom>
          <a:gradFill rotWithShape="0">
            <a:gsLst>
              <a:gs pos="0">
                <a:srgbClr val="3692d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160" y="0"/>
            <a:ext cx="1042920" cy="836640"/>
          </a:xfrm>
          <a:prstGeom prst="rect">
            <a:avLst/>
          </a:prstGeom>
          <a:gradFill rotWithShape="0">
            <a:gsLst>
              <a:gs pos="0">
                <a:srgbClr val="3692d0"/>
              </a:gs>
              <a:gs pos="100000">
                <a:srgbClr val="1843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826920"/>
            <a:ext cx="8820000" cy="81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26a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1042920" cy="595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0076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16000" y="1139400"/>
            <a:ext cx="7704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92d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007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692d0"/>
              </a:buClr>
              <a:buSzPct val="8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007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692d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007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692d0"/>
              </a:buClr>
              <a:buSzPct val="8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007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692d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007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007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007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962320" y="646380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37339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2914-854B-4B49-8AFD-332741E27148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1196640"/>
            <a:ext cx="815364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b0076"/>
                </a:solidFill>
                <a:latin typeface="Verdana"/>
              </a:rPr>
              <a:t>Click to edit the title text format</a:t>
            </a:r>
            <a:endParaRPr b="1" i="1" lang="en-US" sz="44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7DFC-FE80-4303-BE4A-444F969A2855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885080" y="189000"/>
            <a:ext cx="10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b0076"/>
                </a:solidFill>
                <a:latin typeface="Verdana"/>
                <a:ea typeface="Gulim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9144000" cy="834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3102120"/>
            <a:ext cx="9139320" cy="863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3952800"/>
            <a:ext cx="9144000" cy="844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5394240"/>
            <a:ext cx="216000" cy="216000"/>
          </a:xfrm>
          <a:prstGeom prst="rect">
            <a:avLst/>
          </a:prstGeom>
          <a:solidFill>
            <a:srgbClr val="369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692d0"/>
              </a:buClr>
              <a:buSzPct val="8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692d0"/>
              </a:buClr>
              <a:buSzPct val="85000"/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692d0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826560" y="5805360"/>
            <a:ext cx="48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zh-CN" sz="20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9280" y="1196640"/>
            <a:ext cx="815364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b0076"/>
                </a:solidFill>
                <a:latin typeface="Verdana"/>
              </a:rPr>
              <a:t>金融分析</a:t>
            </a:r>
            <a:r>
              <a:rPr b="1" i="1" lang="zh-CN" sz="4400" spc="-1" strike="noStrike">
                <a:solidFill>
                  <a:srgbClr val="3b0076"/>
                </a:solidFill>
                <a:latin typeface="Verdana"/>
                <a:ea typeface="宋体"/>
              </a:rPr>
              <a:t>PPT</a:t>
            </a:r>
            <a:r>
              <a:rPr b="1" i="1" lang="en-US" sz="4400" spc="-1" strike="noStrike">
                <a:solidFill>
                  <a:srgbClr val="3b0076"/>
                </a:solidFill>
                <a:latin typeface="Verdana"/>
              </a:rPr>
              <a:t>模板</a:t>
            </a:r>
            <a:endParaRPr b="1" i="1" lang="en-US" sz="44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124000" y="3213000"/>
            <a:ext cx="482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3692d0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3692d0"/>
                  </a:gs>
                </a:gsLst>
                <a:lin ang="108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132000" y="5300640"/>
            <a:ext cx="485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186624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abcc4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b0076"/>
                </a:solidFill>
                <a:latin typeface="Arial"/>
              </a:rPr>
              <a:t>使用规范说明</a:t>
            </a: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endParaRPr b="0" lang="en-US" sz="16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5abcc4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5abcc4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5abcc4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5abcc4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5abcc4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5abcc4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5abcc4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5abcc4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b0076"/>
                </a:solidFill>
                <a:latin typeface="Arial"/>
                <a:ea typeface="Gulim"/>
              </a:rPr>
              <a:t>Contents</a:t>
            </a:r>
            <a:endParaRPr b="1" i="1" lang="en-US" sz="32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47800" y="21765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9565a"/>
              </a:gs>
              <a:gs pos="50000">
                <a:srgbClr val="5abcc4"/>
              </a:gs>
              <a:gs pos="100000">
                <a:srgbClr val="29565a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.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62200" y="28893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35f"/>
              </a:gs>
              <a:gs pos="50000">
                <a:srgbClr val="3692d0"/>
              </a:gs>
              <a:gs pos="100000">
                <a:srgbClr val="18435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.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47800" y="36687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305f"/>
              </a:gs>
              <a:gs pos="50000">
                <a:srgbClr val="a26ad0"/>
              </a:gs>
              <a:gs pos="100000">
                <a:srgbClr val="4a305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. Challenges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47800" y="440208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b3037"/>
              </a:gs>
              <a:gs pos="50000">
                <a:srgbClr val="3b6979"/>
              </a:gs>
              <a:gs pos="100000">
                <a:srgbClr val="1b303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0076"/>
                </a:solidFill>
                <a:latin typeface="Arial"/>
                <a:ea typeface="Gulim"/>
              </a:rPr>
              <a:t>Click to edit title style</a:t>
            </a: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5640" y="1472760"/>
            <a:ext cx="755028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92d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0076"/>
                </a:solidFill>
                <a:latin typeface="Verdana"/>
                <a:ea typeface="Gulim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692d0"/>
              </a:buClr>
              <a:buSzPct val="8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On the </a:t>
            </a:r>
            <a:r>
              <a:rPr b="0" lang="en-US" sz="2400" spc="-1" strike="noStrike">
                <a:solidFill>
                  <a:srgbClr val="3692d0"/>
                </a:solidFill>
                <a:latin typeface="Verdana"/>
                <a:ea typeface="Gulim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menu, point to </a:t>
            </a:r>
            <a:r>
              <a:rPr b="0" lang="en-US" sz="2400" spc="-1" strike="noStrike">
                <a:solidFill>
                  <a:srgbClr val="3692d0"/>
                </a:solidFill>
                <a:latin typeface="Verdana"/>
                <a:ea typeface="Gulim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and then click </a:t>
            </a:r>
            <a:r>
              <a:rPr b="0" lang="en-US" sz="2400" spc="-1" strike="noStrike">
                <a:solidFill>
                  <a:srgbClr val="3692d0"/>
                </a:solidFill>
                <a:latin typeface="Verdana"/>
                <a:ea typeface="Gulim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or Notes Master.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0076"/>
                </a:solidFill>
                <a:latin typeface="Arial"/>
                <a:ea typeface="Gulim"/>
              </a:rPr>
              <a:t>Click to edit title</a:t>
            </a: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380960" y="2197080"/>
          <a:ext cx="7101000" cy="2971800"/>
        </p:xfrm>
        <a:graphic>
          <a:graphicData uri="http://schemas.openxmlformats.org/drawingml/2006/table">
            <a:tbl>
              <a:tblPr/>
              <a:tblGrid>
                <a:gridCol w="1419120"/>
                <a:gridCol w="1422360"/>
                <a:gridCol w="1417680"/>
                <a:gridCol w="1422360"/>
                <a:gridCol w="14194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b00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b00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b00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b0076"/>
                    </a:solidFill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abcc4"/>
                        </a:gs>
                        <a:gs pos="100000">
                          <a:srgbClr val="4b9ea5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b6979"/>
                        </a:gs>
                        <a:gs pos="100000">
                          <a:srgbClr val="31586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abcc4"/>
                        </a:gs>
                        <a:gs pos="100000">
                          <a:srgbClr val="4b9ea5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b6979"/>
                        </a:gs>
                        <a:gs pos="100000">
                          <a:srgbClr val="31586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7008120" y="6021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rot="20239200">
            <a:off x="1593360" y="2106360"/>
            <a:ext cx="6519960" cy="3062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0240400">
            <a:off x="1733400" y="2315880"/>
            <a:ext cx="5926320" cy="2687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0076"/>
                </a:solidFill>
                <a:latin typeface="Arial"/>
                <a:ea typeface="Gulim"/>
              </a:rPr>
              <a:t>Click to edit title</a:t>
            </a: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1560" y="263988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8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32360" y="126828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3b6979"/>
              </a:gs>
              <a:gs pos="100000">
                <a:srgbClr val="14242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77080" y="172548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5abcc4"/>
              </a:gs>
              <a:gs pos="100000">
                <a:srgbClr val="1e404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3560" y="45450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3f46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00560" y="408780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a26ad0"/>
              </a:gs>
              <a:gs pos="100000">
                <a:srgbClr val="39254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81600" y="3173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0076"/>
                </a:solidFill>
                <a:latin typeface="Arial"/>
                <a:ea typeface="Gulim"/>
              </a:rPr>
              <a:t>Click to edit title</a:t>
            </a: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30520" y="2033280"/>
            <a:ext cx="198108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b3037"/>
              </a:gs>
              <a:gs pos="100000">
                <a:srgbClr val="3b697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63880" y="203328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0031"/>
              </a:gs>
              <a:gs pos="100000">
                <a:srgbClr val="3b007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73920" y="203328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a305f"/>
              </a:gs>
              <a:gs pos="100000">
                <a:srgbClr val="a26ad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73920" y="2781360"/>
            <a:ext cx="2819160" cy="26668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a26ad0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11600" y="2781360"/>
            <a:ext cx="2971800" cy="26668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b0076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49280" y="2781360"/>
            <a:ext cx="2971800" cy="26668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b6979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80480" y="6021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0076"/>
                </a:solidFill>
                <a:latin typeface="Arial"/>
                <a:ea typeface="Gulim"/>
              </a:rPr>
              <a:t>Click to edit title</a:t>
            </a: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40560" y="299556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88080" y="2995560"/>
            <a:ext cx="1665000" cy="259092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9">
                <a:moveTo>
                  <a:pt x="2969" y="0"/>
                </a:moveTo>
                <a:arcTo wR="2969" hR="2969" stAng="16200000" swAng="-5400000"/>
                <a:lnTo>
                  <a:pt x="0" y="30640"/>
                </a:lnTo>
                <a:arcTo wR="2969" hR="2969" stAng="10800000" swAng="-5400000"/>
                <a:lnTo>
                  <a:pt x="18631" y="3360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47840" y="2995560"/>
            <a:ext cx="1616400" cy="2590920"/>
          </a:xfrm>
          <a:custGeom>
            <a:avLst/>
            <a:gdLst>
              <a:gd name="textAreaLeft" fmla="*/ 64800 w 1616400"/>
              <a:gd name="textAreaRight" fmla="*/ 1551600 w 161640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0">
                <a:moveTo>
                  <a:pt x="2969" y="0"/>
                </a:moveTo>
                <a:arcTo wR="2969" hR="2969" stAng="16200000" swAng="-5400000"/>
                <a:lnTo>
                  <a:pt x="0" y="31651"/>
                </a:lnTo>
                <a:arcTo wR="2969" hR="2969" stAng="10800000" swAng="-5400000"/>
                <a:lnTo>
                  <a:pt x="18631" y="3462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82760" y="299556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440720" y="1501560"/>
            <a:ext cx="6436800" cy="1387800"/>
            <a:chOff x="1440720" y="1501560"/>
            <a:chExt cx="6436800" cy="1387800"/>
          </a:xfrm>
        </p:grpSpPr>
        <p:sp>
          <p:nvSpPr>
            <p:cNvPr id="126" name=""/>
            <p:cNvSpPr/>
            <p:nvPr/>
          </p:nvSpPr>
          <p:spPr>
            <a:xfrm rot="3418800">
              <a:off x="1651320" y="1726200"/>
              <a:ext cx="924120" cy="1003680"/>
            </a:xfrm>
            <a:prstGeom prst="rect">
              <a:avLst/>
            </a:prstGeom>
            <a:solidFill>
              <a:srgbClr val="3b69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615040" y="1898280"/>
              <a:ext cx="932040" cy="131760"/>
              <a:chOff x="2615040" y="1898280"/>
              <a:chExt cx="932040" cy="131760"/>
            </a:xfrm>
          </p:grpSpPr>
          <p:sp>
            <p:nvSpPr>
              <p:cNvPr id="128" name=""/>
              <p:cNvSpPr/>
              <p:nvPr/>
            </p:nvSpPr>
            <p:spPr>
              <a:xfrm>
                <a:off x="2615040" y="18982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704320" y="18993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5960" y="19004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481200" y="19414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rot="3418800">
              <a:off x="3372480" y="1660320"/>
              <a:ext cx="924120" cy="1003680"/>
            </a:xfrm>
            <a:prstGeom prst="rect">
              <a:avLst/>
            </a:prstGeom>
            <a:solidFill>
              <a:srgbClr val="3692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336200" y="1898280"/>
              <a:ext cx="932040" cy="131760"/>
              <a:chOff x="4336200" y="1898280"/>
              <a:chExt cx="932040" cy="131760"/>
            </a:xfrm>
          </p:grpSpPr>
          <p:sp>
            <p:nvSpPr>
              <p:cNvPr id="134" name=""/>
              <p:cNvSpPr/>
              <p:nvPr/>
            </p:nvSpPr>
            <p:spPr>
              <a:xfrm>
                <a:off x="4336200" y="18982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25480" y="18993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27120" y="19004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02360" y="19414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rot="3418800">
              <a:off x="5021280" y="1660320"/>
              <a:ext cx="924120" cy="1004040"/>
            </a:xfrm>
            <a:prstGeom prst="rect">
              <a:avLst/>
            </a:prstGeom>
            <a:solidFill>
              <a:srgbClr val="3b69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6057360" y="1898280"/>
              <a:ext cx="1218600" cy="131760"/>
              <a:chOff x="6057360" y="1898280"/>
              <a:chExt cx="1218600" cy="131760"/>
            </a:xfrm>
          </p:grpSpPr>
          <p:sp>
            <p:nvSpPr>
              <p:cNvPr id="140" name=""/>
              <p:cNvSpPr/>
              <p:nvPr/>
            </p:nvSpPr>
            <p:spPr>
              <a:xfrm>
                <a:off x="6057360" y="18982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174000" y="18993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91280" y="19004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189920" y="19414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rot="3418800">
              <a:off x="6742440" y="1660320"/>
              <a:ext cx="924120" cy="1004040"/>
            </a:xfrm>
            <a:prstGeom prst="rect">
              <a:avLst/>
            </a:prstGeom>
            <a:solidFill>
              <a:srgbClr val="3692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536840" y="1984320"/>
            <a:ext cx="121572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87880" y="19098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11760" y="19098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40560" y="19098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0076"/>
                </a:solidFill>
                <a:latin typeface="Arial"/>
                <a:ea typeface="Gulim"/>
              </a:rPr>
              <a:t>Chart Documents</a:t>
            </a: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19280" y="1490760"/>
            <a:ext cx="583236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0076"/>
                </a:solidFill>
                <a:latin typeface="Arial"/>
                <a:ea typeface="Gulim"/>
              </a:rPr>
              <a:t>Click to edit title</a:t>
            </a: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447984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0601600">
            <a:off x="1636560" y="2366640"/>
            <a:ext cx="5762880" cy="3016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0601600">
            <a:off x="1699920" y="221292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5abcc4"/>
              </a:gs>
              <a:gs pos="100000">
                <a:srgbClr val="38767c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0601600">
            <a:off x="1557000" y="222264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0601600">
            <a:off x="1609560" y="2190240"/>
            <a:ext cx="569844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369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rot="20602200">
            <a:off x="1586520" y="2221560"/>
            <a:ext cx="575352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0601600">
            <a:off x="1630440" y="2210400"/>
            <a:ext cx="56826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rot="20602200">
            <a:off x="1613880" y="220968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未知"/>
          <p:cNvSpPr/>
          <p:nvPr/>
        </p:nvSpPr>
        <p:spPr>
          <a:xfrm rot="20601600">
            <a:off x="4681440" y="352584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未知"/>
          <p:cNvSpPr/>
          <p:nvPr/>
        </p:nvSpPr>
        <p:spPr>
          <a:xfrm rot="20601600">
            <a:off x="4574880" y="327312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04160" y="1524240"/>
            <a:ext cx="6918480" cy="4356720"/>
            <a:chOff x="704160" y="1524240"/>
            <a:chExt cx="6918480" cy="4356720"/>
          </a:xfrm>
        </p:grpSpPr>
        <p:sp>
          <p:nvSpPr>
            <p:cNvPr id="163" name=""/>
            <p:cNvSpPr/>
            <p:nvPr/>
          </p:nvSpPr>
          <p:spPr>
            <a:xfrm rot="20712600">
              <a:off x="956880" y="2295720"/>
              <a:ext cx="6412680" cy="281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 rot="20712600">
              <a:off x="4360680" y="3493800"/>
              <a:ext cx="137736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96097"/>
                </a:gs>
              </a:gsLst>
              <a:lin ang="143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 rot="20712600">
              <a:off x="5736600" y="366192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未知"/>
          <p:cNvSpPr/>
          <p:nvPr/>
        </p:nvSpPr>
        <p:spPr>
          <a:xfrm rot="20601600">
            <a:off x="6248160" y="3565080"/>
            <a:ext cx="1555560" cy="1092240"/>
          </a:xfrm>
          <a:custGeom>
            <a:avLst/>
            <a:gdLst/>
            <a:ahLst/>
            <a:rect l="l" t="t" r="r" b="b"/>
            <a:pathLst>
              <a:path w="556" h="486">
                <a:moveTo>
                  <a:pt x="0" y="342"/>
                </a:moveTo>
                <a:lnTo>
                  <a:pt x="552" y="0"/>
                </a:lnTo>
                <a:lnTo>
                  <a:pt x="556" y="138"/>
                </a:lnTo>
                <a:cubicBezTo>
                  <a:pt x="522" y="194"/>
                  <a:pt x="438" y="280"/>
                  <a:pt x="346" y="338"/>
                </a:cubicBezTo>
                <a:cubicBezTo>
                  <a:pt x="254" y="396"/>
                  <a:pt x="64" y="485"/>
                  <a:pt x="6" y="486"/>
                </a:cubicBezTo>
                <a:cubicBezTo>
                  <a:pt x="8" y="434"/>
                  <a:pt x="1" y="372"/>
                  <a:pt x="0" y="342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0539200">
            <a:off x="1498320" y="2113200"/>
            <a:ext cx="6316920" cy="309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33" y="15040"/>
                </a:moveTo>
                <a:arcTo wR="10800" hR="10800" stAng="1386854" swAng="2493154"/>
                <a:lnTo>
                  <a:pt x="10800" y="10800"/>
                </a:lnTo>
                <a:close/>
              </a:path>
              <a:path fill="none" w="21600" h="21600">
                <a:moveTo>
                  <a:pt x="20733" y="15040"/>
                </a:moveTo>
                <a:arcTo wR="10800" hR="10800" stAng="1386854" swAng="2493154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未知"/>
          <p:cNvSpPr/>
          <p:nvPr/>
        </p:nvSpPr>
        <p:spPr>
          <a:xfrm rot="20601600">
            <a:off x="4933440" y="3476160"/>
            <a:ext cx="1359000" cy="1594080"/>
          </a:xfrm>
          <a:custGeom>
            <a:avLst/>
            <a:gdLst/>
            <a:ahLst/>
            <a:rect l="l" t="t" r="r" b="b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ae8dd3"/>
              </a:gs>
              <a:gs pos="100000">
                <a:srgbClr val="5007a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0601600">
            <a:off x="3154320" y="291888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5abcc4"/>
              </a:gs>
              <a:gs pos="50000">
                <a:srgbClr val="d6edef"/>
              </a:gs>
              <a:gs pos="100000">
                <a:srgbClr val="5abcc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0601600">
            <a:off x="3254400" y="3171960"/>
            <a:ext cx="2587680" cy="1090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62320" y="301320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217476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15000" y="263196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362268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423216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446076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80480" y="6021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05:23:06Z</dcterms:created>
  <dc:creator/>
  <dc:description/>
  <dc:language>en-US</dc:language>
  <cp:lastModifiedBy>keke</cp:lastModifiedBy>
  <dcterms:modified xsi:type="dcterms:W3CDTF">2015-01-07T14:18:1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