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5769-F93F-4B24-9D62-430D7DF52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7877-5072-42D6-97EB-222D37AC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C8E6-F29B-4BBB-9FD9-F89AC84C4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39AC-6A9D-4D10-A07F-02AE67010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045C-1256-4912-9155-B9C0AEB69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3112-8442-4BF9-B573-A993FD8E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408D-15DA-4483-9CEA-CF5E26E5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4DD6-7A22-46D7-B83E-5C1C7438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4EEE-A3F7-4072-B971-AC65E773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955F-8062-437B-9AEA-EED0ECE6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DBD8-FDD3-477D-984C-4B7EA4A4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C248-87BD-488C-90DC-7391B2A9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0AE5-C013-4C8C-8692-EDF38879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F4F8-AA0D-4284-924E-838FD5A4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8EC7-D32D-40E4-8194-A91B8EFB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2B72-97D1-42A6-B6EF-0ACDBE6D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B560-0CF6-499D-8D0F-DD70F76FC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76CE-CD60-4382-B303-6EE74DBF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C7C4-2FB1-4964-B553-92A27A99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D910-64A5-45B9-856C-D72C2A3F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AEA4-8298-487F-AD41-CEA2E795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8C21-270B-4EB8-A88C-0DC1C639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0C44-EF5E-4E6C-802B-35301ED7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BDB0-0C9C-4CE0-B98A-54F7D5BD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4427640"/>
            <a:ext cx="914400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图片 7" descr=""/>
          <p:cNvPicPr/>
          <p:nvPr/>
        </p:nvPicPr>
        <p:blipFill>
          <a:blip r:embed="rId3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ED6A-3FF4-4881-B466-B0E1244BC1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6" descr=""/>
          <p:cNvPicPr/>
          <p:nvPr/>
        </p:nvPicPr>
        <p:blipFill>
          <a:blip r:embed="rId3"/>
          <a:stretch/>
        </p:blipFill>
        <p:spPr>
          <a:xfrm>
            <a:off x="5232240" y="1440"/>
            <a:ext cx="3911760" cy="97812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0" y="0"/>
            <a:ext cx="8028000" cy="980640"/>
            <a:chOff x="0" y="0"/>
            <a:chExt cx="8028000" cy="980640"/>
          </a:xfrm>
        </p:grpSpPr>
        <p:pic>
          <p:nvPicPr>
            <p:cNvPr id="45" name="矩形 7" descr=""/>
            <p:cNvPicPr/>
            <p:nvPr/>
          </p:nvPicPr>
          <p:blipFill>
            <a:blip r:embed="rId4"/>
            <a:stretch/>
          </p:blipFill>
          <p:spPr>
            <a:xfrm>
              <a:off x="0" y="1080"/>
              <a:ext cx="8028000" cy="9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802800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" name="矩形 8"/>
          <p:cNvSpPr/>
          <p:nvPr/>
        </p:nvSpPr>
        <p:spPr>
          <a:xfrm>
            <a:off x="0" y="9795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BC79-92FD-4EB6-B3EA-B24FC66D96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金融贵金属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6553800" y="6093000"/>
            <a:ext cx="2297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Calibri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ffffff"/>
                </a:solidFill>
                <a:latin typeface="Calibri"/>
                <a:ea typeface="黑体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Calibri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i="1" lang="zh-CN" sz="1400" spc="-1" strike="noStrike">
                <a:solidFill>
                  <a:srgbClr val="ffffff"/>
                </a:solidFill>
                <a:latin typeface="Calibri"/>
              </a:rPr>
              <a:t>http://</a:t>
            </a:r>
            <a:r>
              <a:rPr b="1" lang="zh-CN" sz="14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1313280" y="623736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5:34:02Z</dcterms:created>
  <dc:creator/>
  <dc:description/>
  <dc:language>en-US</dc:language>
  <cp:lastModifiedBy>zouendong</cp:lastModifiedBy>
  <dcterms:modified xsi:type="dcterms:W3CDTF">2015-01-07T14:19:58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