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448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80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448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80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3840" y="76320"/>
            <a:ext cx="86868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448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180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448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180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3840" y="76320"/>
            <a:ext cx="86868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" y="76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3353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1828800"/>
            <a:ext cx="4267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金融货币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76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"/>
          <p:cNvSpPr/>
          <p:nvPr/>
        </p:nvSpPr>
        <p:spPr>
          <a:xfrm>
            <a:off x="-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7380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价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"/>
          <p:cNvSpPr/>
          <p:nvPr/>
        </p:nvSpPr>
        <p:spPr>
          <a:xfrm>
            <a:off x="2021040" y="63244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69755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23:11Z</dcterms:created>
  <dc:creator>SmileTemplates.com</dc:creator>
  <dc:description/>
  <dc:language>en-US</dc:language>
  <cp:lastModifiedBy>Nick</cp:lastModifiedBy>
  <dcterms:modified xsi:type="dcterms:W3CDTF">2015-01-07T14:45:03Z</dcterms:modified>
  <cp:revision>1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