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3CDD-35F8-4F0E-A7E6-2C192DE53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16000" y="276120"/>
            <a:ext cx="75708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16000" y="1773360"/>
            <a:ext cx="757080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16000" y="4047840"/>
            <a:ext cx="757080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02F6-FDCE-420F-99F7-188F8974E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16000" y="276120"/>
            <a:ext cx="75708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16000" y="1773360"/>
            <a:ext cx="369432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95360" y="1773360"/>
            <a:ext cx="369432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16000" y="4047840"/>
            <a:ext cx="369432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95360" y="4047840"/>
            <a:ext cx="369432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213C-238C-4425-B452-02678FEAA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16000" y="276120"/>
            <a:ext cx="75708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16000" y="1773360"/>
            <a:ext cx="243756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75960" y="1773360"/>
            <a:ext cx="243756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35560" y="1773360"/>
            <a:ext cx="243756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16000" y="4047840"/>
            <a:ext cx="243756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75960" y="4047840"/>
            <a:ext cx="243756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35560" y="4047840"/>
            <a:ext cx="243756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80C0-88D6-4BF8-B72F-9C97B2216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4B07E-9D84-4F51-9B34-F1DFE7207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16000" y="276120"/>
            <a:ext cx="75708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16000" y="1773360"/>
            <a:ext cx="7570800" cy="43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74680-96D0-4477-968C-EE05617EA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16000" y="276120"/>
            <a:ext cx="75708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16000" y="1773360"/>
            <a:ext cx="7570800" cy="43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CF0D8-B50F-4A9B-A82E-365072C97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16000" y="276120"/>
            <a:ext cx="75708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16000" y="1773360"/>
            <a:ext cx="3694320" cy="43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95360" y="1773360"/>
            <a:ext cx="3694320" cy="43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0F15D-0474-4649-982F-1119944C6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16000" y="276120"/>
            <a:ext cx="75708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C167F-73DB-41D4-9727-FD0A7E9EC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16000" y="276120"/>
            <a:ext cx="7570800" cy="39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60725-2F72-466B-90B2-CC2E9D12F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16000" y="276120"/>
            <a:ext cx="75708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16000" y="1773360"/>
            <a:ext cx="369432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95360" y="1773360"/>
            <a:ext cx="3694320" cy="43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16000" y="4047840"/>
            <a:ext cx="369432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B196C-7CAE-40EF-96D3-BB38592A6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16000" y="276120"/>
            <a:ext cx="75708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16000" y="1773360"/>
            <a:ext cx="7570800" cy="43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5090-3C84-4DF8-A87C-96FE892E0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16000" y="276120"/>
            <a:ext cx="75708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16000" y="1773360"/>
            <a:ext cx="3694320" cy="43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95360" y="1773360"/>
            <a:ext cx="369432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995360" y="4047840"/>
            <a:ext cx="369432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C659F-E115-4F3C-B378-F4D90FEAB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16000" y="276120"/>
            <a:ext cx="75708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16000" y="1773360"/>
            <a:ext cx="369432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95360" y="1773360"/>
            <a:ext cx="369432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16000" y="4047840"/>
            <a:ext cx="757080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3ADD2-9473-4CB8-A625-457354776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16000" y="276120"/>
            <a:ext cx="75708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16000" y="1773360"/>
            <a:ext cx="757080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16000" y="4047840"/>
            <a:ext cx="757080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30244-78C6-4BBF-8944-6C7F52426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16000" y="276120"/>
            <a:ext cx="75708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16000" y="1773360"/>
            <a:ext cx="369432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95360" y="1773360"/>
            <a:ext cx="369432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16000" y="4047840"/>
            <a:ext cx="369432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995360" y="4047840"/>
            <a:ext cx="369432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A8500-460B-4C9D-A913-FA3F0F295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16000" y="276120"/>
            <a:ext cx="75708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16000" y="1773360"/>
            <a:ext cx="243756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75960" y="1773360"/>
            <a:ext cx="243756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35560" y="1773360"/>
            <a:ext cx="243756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16000" y="4047840"/>
            <a:ext cx="243756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75960" y="4047840"/>
            <a:ext cx="243756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35560" y="4047840"/>
            <a:ext cx="243756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DACF9-8359-412B-B348-F79163B05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749F69-DD66-417D-857F-6EAEB8A57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16000" y="276120"/>
            <a:ext cx="75708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116000" y="1773360"/>
            <a:ext cx="7570800" cy="43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74ADE9-621C-4C23-A5CA-E1AB99EDB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16000" y="276120"/>
            <a:ext cx="75708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16000" y="1773360"/>
            <a:ext cx="7570800" cy="43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9B2081-E6A3-4016-AE39-043CD8A20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16000" y="276120"/>
            <a:ext cx="75708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16000" y="1773360"/>
            <a:ext cx="3694320" cy="43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995360" y="1773360"/>
            <a:ext cx="3694320" cy="43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192379-33DD-4407-B143-FA9EE1EEC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16000" y="276120"/>
            <a:ext cx="75708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AAD690-F93C-430E-A9A3-63EF55D0A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16000" y="276120"/>
            <a:ext cx="75708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16000" y="1773360"/>
            <a:ext cx="7570800" cy="43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0BFD-BD1D-4727-A51D-53BA33E0A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116000" y="276120"/>
            <a:ext cx="7570800" cy="39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E34520-E3D5-418D-B5FD-46E4CD219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16000" y="276120"/>
            <a:ext cx="75708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16000" y="1773360"/>
            <a:ext cx="369432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995360" y="1773360"/>
            <a:ext cx="3694320" cy="43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116000" y="4047840"/>
            <a:ext cx="369432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0D32DE-1DC3-49FC-A057-C436C4051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16000" y="276120"/>
            <a:ext cx="75708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16000" y="1773360"/>
            <a:ext cx="3694320" cy="43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995360" y="1773360"/>
            <a:ext cx="369432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995360" y="4047840"/>
            <a:ext cx="369432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9F1157-8C53-4AC3-90E2-DC25066DB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16000" y="276120"/>
            <a:ext cx="75708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16000" y="1773360"/>
            <a:ext cx="369432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95360" y="1773360"/>
            <a:ext cx="369432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116000" y="4047840"/>
            <a:ext cx="757080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14DC2B-CC12-403A-8312-7AF562521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16000" y="276120"/>
            <a:ext cx="75708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16000" y="1773360"/>
            <a:ext cx="757080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1116000" y="4047840"/>
            <a:ext cx="757080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5664CC-FF48-4275-8C47-9C1D9F2F9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16000" y="276120"/>
            <a:ext cx="75708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16000" y="1773360"/>
            <a:ext cx="369432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995360" y="1773360"/>
            <a:ext cx="369432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116000" y="4047840"/>
            <a:ext cx="369432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995360" y="4047840"/>
            <a:ext cx="369432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79D306-08F8-4F3C-BA54-63CB9927C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16000" y="276120"/>
            <a:ext cx="75708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16000" y="1773360"/>
            <a:ext cx="243756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675960" y="1773360"/>
            <a:ext cx="243756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235560" y="1773360"/>
            <a:ext cx="243756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1116000" y="4047840"/>
            <a:ext cx="243756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675960" y="4047840"/>
            <a:ext cx="243756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235560" y="4047840"/>
            <a:ext cx="243756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E1A740-1A51-4CDA-9CBF-E89F9F1CD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041F15-210D-4B50-BC07-C3EC34F82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16000" y="276120"/>
            <a:ext cx="75708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116000" y="1773360"/>
            <a:ext cx="7570800" cy="43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B33380-904E-48AB-9D8A-C4800CCE9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16000" y="276120"/>
            <a:ext cx="75708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16000" y="1773360"/>
            <a:ext cx="7570800" cy="43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A8DDE7-72D8-49D1-9022-A803956C2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16000" y="276120"/>
            <a:ext cx="75708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16000" y="1773360"/>
            <a:ext cx="3694320" cy="43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95360" y="1773360"/>
            <a:ext cx="3694320" cy="43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36A5-00DD-45C9-8A05-590CA2AFA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16000" y="276120"/>
            <a:ext cx="75708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16000" y="1773360"/>
            <a:ext cx="3694320" cy="43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995360" y="1773360"/>
            <a:ext cx="3694320" cy="43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3B67CD-33EE-4EB9-A9A7-1E1C797EC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16000" y="276120"/>
            <a:ext cx="75708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3957B7-D636-4155-9FBE-CEB8D0470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1116000" y="276120"/>
            <a:ext cx="7570800" cy="39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01E65E-F994-4E2E-9647-96A03C981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16000" y="276120"/>
            <a:ext cx="75708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16000" y="1773360"/>
            <a:ext cx="369432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995360" y="1773360"/>
            <a:ext cx="3694320" cy="43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1116000" y="4047840"/>
            <a:ext cx="369432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43B0A8-04C9-4EA8-B498-308C06BD8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16000" y="276120"/>
            <a:ext cx="75708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16000" y="1773360"/>
            <a:ext cx="3694320" cy="43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995360" y="1773360"/>
            <a:ext cx="369432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995360" y="4047840"/>
            <a:ext cx="369432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78589D-D5AB-4626-98D9-209BA4478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6000" y="276120"/>
            <a:ext cx="75708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16000" y="1773360"/>
            <a:ext cx="369432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995360" y="1773360"/>
            <a:ext cx="369432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116000" y="4047840"/>
            <a:ext cx="757080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EC6392-4DB2-4E99-BC16-F38610346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16000" y="276120"/>
            <a:ext cx="75708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16000" y="1773360"/>
            <a:ext cx="757080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1116000" y="4047840"/>
            <a:ext cx="757080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33C673-00F0-4686-814F-547683388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16000" y="276120"/>
            <a:ext cx="75708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16000" y="1773360"/>
            <a:ext cx="369432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995360" y="1773360"/>
            <a:ext cx="369432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1116000" y="4047840"/>
            <a:ext cx="369432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995360" y="4047840"/>
            <a:ext cx="369432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86EB12-529E-4BA5-88EB-9EAEDC038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16000" y="276120"/>
            <a:ext cx="75708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16000" y="1773360"/>
            <a:ext cx="243756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675960" y="1773360"/>
            <a:ext cx="243756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235560" y="1773360"/>
            <a:ext cx="243756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1116000" y="4047840"/>
            <a:ext cx="243756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675960" y="4047840"/>
            <a:ext cx="243756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235560" y="4047840"/>
            <a:ext cx="243756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CF4F23-A2FF-49B3-A46F-0D259EC26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16000" y="276120"/>
            <a:ext cx="75708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72FB-7475-4EEB-BB5F-240A00272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16000" y="276120"/>
            <a:ext cx="7570800" cy="39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4AA4-DC53-4349-AFB6-1D34F4861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16000" y="276120"/>
            <a:ext cx="75708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16000" y="1773360"/>
            <a:ext cx="369432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95360" y="1773360"/>
            <a:ext cx="3694320" cy="43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16000" y="4047840"/>
            <a:ext cx="369432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98D3-EC1F-492F-BA51-C7C55219E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16000" y="276120"/>
            <a:ext cx="75708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16000" y="1773360"/>
            <a:ext cx="3694320" cy="43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95360" y="1773360"/>
            <a:ext cx="369432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95360" y="4047840"/>
            <a:ext cx="369432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A8DB-FE33-43DB-93AD-C641B7239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16000" y="276120"/>
            <a:ext cx="75708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16000" y="1773360"/>
            <a:ext cx="369432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95360" y="1773360"/>
            <a:ext cx="369432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16000" y="4047840"/>
            <a:ext cx="757080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2FEF-94EB-4AB8-9A25-F6798A212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16000" y="276120"/>
            <a:ext cx="75708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16000" y="1773360"/>
            <a:ext cx="7570800" cy="43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D3533-A975-4789-8444-C4E47B9F26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-25560" y="-20520"/>
            <a:ext cx="9133200" cy="68515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68360" y="765000"/>
            <a:ext cx="6337440" cy="10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BCA07-531A-49FA-9EDD-F633589014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-25560" y="-20520"/>
            <a:ext cx="9133200" cy="68515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653E9-B96E-4A69-B93C-E60BAE6BFC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3492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235160" cy="56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2558520" y="549360"/>
            <a:ext cx="613116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69303-B7BF-40D1-8D4C-851E27812F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268360" y="765000"/>
            <a:ext cx="6337440" cy="10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金融商务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模板免费下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2268360" y="1844640"/>
            <a:ext cx="640080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6360" y="630864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16000" y="276120"/>
            <a:ext cx="75708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16000" y="1773360"/>
            <a:ext cx="7570800" cy="43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235160" cy="56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558520" y="549360"/>
            <a:ext cx="613116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68360" y="765000"/>
            <a:ext cx="6337440" cy="10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感谢您的关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384560" y="6308640"/>
            <a:ext cx="501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更多免费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6T17:14:14Z</dcterms:created>
  <dc:creator/>
  <dc:description/>
  <dc:language>en-US</dc:language>
  <cp:lastModifiedBy/>
  <dcterms:modified xsi:type="dcterms:W3CDTF">2015-01-08T06:59:15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