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60E-AA6A-4D8C-BF1F-98DC4F99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621-D31A-46FC-83BA-A678F32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464-46FF-4E73-9C47-E5BA2E30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573-DCED-4F3B-986A-E4A911C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20F6-27AF-494F-8C40-7A8FCB01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B52-819C-445B-B0E5-114308D9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F694-8170-4A6F-87EE-3ACD8BE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E76-B0B6-4A05-A1E9-CFE0329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9CF8-EDC0-49F1-83BD-D18D53C3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219C-D098-4165-9C91-4999A186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BB7-3189-458B-A216-29BEEBC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452-E9AC-4F78-8CFC-004A683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AB6-DA68-4A4B-B8EE-2AB8A6C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B2C6-F5C3-476F-9F9B-BED6438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F0AC-2500-452F-8CE2-2F98B77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F144-0798-43BB-935C-4C03EFEA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17E-EBD5-4927-9248-891BF9A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9BF-7D8E-4CB6-B59F-B931A626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C7A-FEC5-42AF-8AFA-5FC6B7F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83F-3ECF-4A44-96A8-77BE3EC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6D2-339E-4A67-ACE0-94364E46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AA1-5410-4B79-8323-5BDED2C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B2B-EADC-47B5-8D28-18DB2AF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CAE-2842-47A4-AE3C-5F037F1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4C5-51C0-4E47-B667-52FF9B3A0B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1160" y="0"/>
            <a:ext cx="1344600" cy="685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-12600" y="1440"/>
            <a:ext cx="91566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8F4F-DAE6-4A81-A385-C1A50CB957A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军事</a:t>
            </a: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PPT</a:t>
            </a: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模板免费下载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4639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4040" y="207972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1160" y="22446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54040" y="487692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31160" y="50418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54040" y="394668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31160" y="4111560"/>
            <a:ext cx="59544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54040" y="3016080"/>
            <a:ext cx="7439040" cy="803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1160" y="3184560"/>
            <a:ext cx="5954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2000" y="202392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2000" y="202392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2000" y="25812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395440" y="2178000"/>
            <a:ext cx="166860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1" name=""/>
          <p:cNvSpPr/>
          <p:nvPr/>
        </p:nvSpPr>
        <p:spPr>
          <a:xfrm>
            <a:off x="4226040" y="202896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2000" y="2584440"/>
            <a:ext cx="5799240" cy="239760"/>
          </a:xfrm>
          <a:custGeom>
            <a:avLst/>
            <a:gdLst>
              <a:gd name="textAreaLeft" fmla="*/ 629640 w 5799240"/>
              <a:gd name="textAreaRight" fmla="*/ 516960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32000" y="2765520"/>
            <a:ext cx="5819760" cy="555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2000" y="2765520"/>
            <a:ext cx="2343240" cy="555480"/>
          </a:xfrm>
          <a:prstGeom prst="rightArrowCallout">
            <a:avLst>
              <a:gd name="adj1" fmla="val 48662"/>
              <a:gd name="adj2" fmla="val 50000"/>
              <a:gd name="adj3" fmla="val 42360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3228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95440" y="2921040"/>
            <a:ext cx="166860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7" name=""/>
          <p:cNvSpPr/>
          <p:nvPr/>
        </p:nvSpPr>
        <p:spPr>
          <a:xfrm>
            <a:off x="4226040" y="277020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2000" y="3324240"/>
            <a:ext cx="5799240" cy="241200"/>
          </a:xfrm>
          <a:custGeom>
            <a:avLst/>
            <a:gdLst>
              <a:gd name="textAreaLeft" fmla="*/ 629640 w 5799240"/>
              <a:gd name="textAreaRight" fmla="*/ 516960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32000" y="3502080"/>
            <a:ext cx="5819760" cy="55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2000" y="3502080"/>
            <a:ext cx="2343240" cy="557280"/>
          </a:xfrm>
          <a:prstGeom prst="rightArrowCallout">
            <a:avLst>
              <a:gd name="adj1" fmla="val 48662"/>
              <a:gd name="adj2" fmla="val 50000"/>
              <a:gd name="adj3" fmla="val 42223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405936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95440" y="3657600"/>
            <a:ext cx="166860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350676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4062240"/>
            <a:ext cx="5799240" cy="239760"/>
          </a:xfrm>
          <a:custGeom>
            <a:avLst/>
            <a:gdLst>
              <a:gd name="textAreaLeft" fmla="*/ 629640 w 5799240"/>
              <a:gd name="textAreaRight" fmla="*/ 516960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2000" y="426240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2000" y="426240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2000" y="48182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95440" y="4416480"/>
            <a:ext cx="166860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9" name=""/>
          <p:cNvSpPr/>
          <p:nvPr/>
        </p:nvSpPr>
        <p:spPr>
          <a:xfrm>
            <a:off x="4226040" y="426564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32000" y="4821120"/>
            <a:ext cx="5799240" cy="239760"/>
          </a:xfrm>
          <a:custGeom>
            <a:avLst/>
            <a:gdLst>
              <a:gd name="textAreaLeft" fmla="*/ 629640 w 5799240"/>
              <a:gd name="textAreaRight" fmla="*/ 516960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501156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32000" y="501156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2000" y="55688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95440" y="5165640"/>
            <a:ext cx="166860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25" name=""/>
          <p:cNvSpPr/>
          <p:nvPr/>
        </p:nvSpPr>
        <p:spPr>
          <a:xfrm>
            <a:off x="4226040" y="501660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2000" y="5570640"/>
            <a:ext cx="5799240" cy="241200"/>
          </a:xfrm>
          <a:custGeom>
            <a:avLst/>
            <a:gdLst>
              <a:gd name="textAreaLeft" fmla="*/ 629640 w 5799240"/>
              <a:gd name="textAreaRight" fmla="*/ 516960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1769400" y="2798640"/>
            <a:ext cx="2468520" cy="1817640"/>
          </a:xfrm>
          <a:custGeom>
            <a:avLst/>
            <a:gdLst>
              <a:gd name="textAreaLeft" fmla="*/ 338040 w 2468520"/>
              <a:gd name="textAreaRight" fmla="*/ 2130480 w 2468520"/>
              <a:gd name="textAreaTop" fmla="*/ 249120 h 1817640"/>
              <a:gd name="textAreaBottom" fmla="*/ 156852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2843280" y="3579480"/>
            <a:ext cx="2459160" cy="236520"/>
          </a:xfrm>
          <a:custGeom>
            <a:avLst/>
            <a:gdLst>
              <a:gd name="textAreaLeft" fmla="*/ 308520 w 2459160"/>
              <a:gd name="textAreaRight" fmla="*/ 2150640 w 2459160"/>
              <a:gd name="textAreaTop" fmla="*/ 29520 h 236520"/>
              <a:gd name="textAreaBottom" fmla="*/ 20700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876480" y="2797200"/>
            <a:ext cx="2468520" cy="1817640"/>
          </a:xfrm>
          <a:custGeom>
            <a:avLst/>
            <a:gdLst>
              <a:gd name="textAreaLeft" fmla="*/ 338040 w 2468520"/>
              <a:gd name="textAreaRight" fmla="*/ 2130480 w 2468520"/>
              <a:gd name="textAreaTop" fmla="*/ 249120 h 1817640"/>
              <a:gd name="textAreaBottom" fmla="*/ 156852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948920" y="3580200"/>
            <a:ext cx="2459160" cy="235080"/>
          </a:xfrm>
          <a:custGeom>
            <a:avLst/>
            <a:gdLst>
              <a:gd name="textAreaLeft" fmla="*/ 308520 w 2459160"/>
              <a:gd name="textAreaRight" fmla="*/ 2150640 w 2459160"/>
              <a:gd name="textAreaTop" fmla="*/ 29520 h 235080"/>
              <a:gd name="textAreaBottom" fmla="*/ 2055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934600" y="2797920"/>
            <a:ext cx="2468520" cy="1816200"/>
          </a:xfrm>
          <a:custGeom>
            <a:avLst/>
            <a:gdLst>
              <a:gd name="textAreaLeft" fmla="*/ 338040 w 2468520"/>
              <a:gd name="textAreaRight" fmla="*/ 2130480 w 2468520"/>
              <a:gd name="textAreaTop" fmla="*/ 248760 h 1816200"/>
              <a:gd name="textAreaBottom" fmla="*/ 1567440 h 18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007040" y="3579480"/>
            <a:ext cx="2459160" cy="236520"/>
          </a:xfrm>
          <a:custGeom>
            <a:avLst/>
            <a:gdLst>
              <a:gd name="textAreaLeft" fmla="*/ 308520 w 2459160"/>
              <a:gd name="textAreaRight" fmla="*/ 2150640 w 2459160"/>
              <a:gd name="textAreaTop" fmla="*/ 29520 h 236520"/>
              <a:gd name="textAreaBottom" fmla="*/ 20700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08160" y="2838600"/>
            <a:ext cx="1790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9040" y="2838600"/>
            <a:ext cx="1792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6960" y="2838600"/>
            <a:ext cx="1792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9800" y="3825720"/>
            <a:ext cx="8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3825720"/>
            <a:ext cx="8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3516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43280" y="1930320"/>
            <a:ext cx="1936440" cy="471600"/>
            <a:chOff x="1943280" y="1930320"/>
            <a:chExt cx="1936440" cy="471600"/>
          </a:xfrm>
        </p:grpSpPr>
        <p:sp>
          <p:nvSpPr>
            <p:cNvPr id="142" name=""/>
            <p:cNvSpPr/>
            <p:nvPr/>
          </p:nvSpPr>
          <p:spPr>
            <a:xfrm>
              <a:off x="1943280" y="1930320"/>
              <a:ext cx="1936440" cy="3823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43280" y="2316600"/>
              <a:ext cx="1936440" cy="85320"/>
            </a:xfrm>
            <a:custGeom>
              <a:avLst/>
              <a:gdLst>
                <a:gd name="textAreaLeft" fmla="*/ 210240 w 1936440"/>
                <a:gd name="textAreaRight" fmla="*/ 1726200 w 1936440"/>
                <a:gd name="textAreaTop" fmla="*/ 9000 h 85320"/>
                <a:gd name="textAreaBottom" fmla="*/ 76320 h 8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2163600" y="1989000"/>
            <a:ext cx="15004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5" name=""/>
          <p:cNvSpPr/>
          <p:nvPr/>
        </p:nvSpPr>
        <p:spPr>
          <a:xfrm>
            <a:off x="4262400" y="2895480"/>
            <a:ext cx="1935360" cy="2305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02000" y="1930320"/>
            <a:ext cx="1935360" cy="471600"/>
            <a:chOff x="4302000" y="1930320"/>
            <a:chExt cx="1935360" cy="471600"/>
          </a:xfrm>
        </p:grpSpPr>
        <p:sp>
          <p:nvSpPr>
            <p:cNvPr id="147" name=""/>
            <p:cNvSpPr/>
            <p:nvPr/>
          </p:nvSpPr>
          <p:spPr>
            <a:xfrm>
              <a:off x="4302000" y="1930320"/>
              <a:ext cx="1935360" cy="3823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02000" y="2316600"/>
              <a:ext cx="1935360" cy="85320"/>
            </a:xfrm>
            <a:custGeom>
              <a:avLst/>
              <a:gdLst>
                <a:gd name="textAreaLeft" fmla="*/ 209880 w 1935360"/>
                <a:gd name="textAreaRight" fmla="*/ 1725480 w 1935360"/>
                <a:gd name="textAreaTop" fmla="*/ 9000 h 85320"/>
                <a:gd name="textAreaBottom" fmla="*/ 76320 h 8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4521240" y="1989000"/>
            <a:ext cx="1501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21480" y="1930320"/>
            <a:ext cx="1935000" cy="471600"/>
            <a:chOff x="6621480" y="1930320"/>
            <a:chExt cx="1935000" cy="471600"/>
          </a:xfrm>
        </p:grpSpPr>
        <p:sp>
          <p:nvSpPr>
            <p:cNvPr id="151" name=""/>
            <p:cNvSpPr/>
            <p:nvPr/>
          </p:nvSpPr>
          <p:spPr>
            <a:xfrm>
              <a:off x="6621480" y="1930320"/>
              <a:ext cx="1935000" cy="3823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1480" y="2316600"/>
              <a:ext cx="1935000" cy="85320"/>
            </a:xfrm>
            <a:custGeom>
              <a:avLst/>
              <a:gdLst>
                <a:gd name="textAreaLeft" fmla="*/ 209880 w 1935000"/>
                <a:gd name="textAreaRight" fmla="*/ 1725120 w 1935000"/>
                <a:gd name="textAreaTop" fmla="*/ 9000 h 85320"/>
                <a:gd name="textAreaBottom" fmla="*/ 76320 h 8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6842160" y="1989000"/>
            <a:ext cx="150012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02400" y="2590920"/>
            <a:ext cx="2076120" cy="2906640"/>
            <a:chOff x="6602400" y="2590920"/>
            <a:chExt cx="2076120" cy="2906640"/>
          </a:xfrm>
        </p:grpSpPr>
        <p:sp>
          <p:nvSpPr>
            <p:cNvPr id="155" name=""/>
            <p:cNvSpPr/>
            <p:nvPr/>
          </p:nvSpPr>
          <p:spPr>
            <a:xfrm rot="5400000">
              <a:off x="6054120" y="3139200"/>
              <a:ext cx="2906640" cy="1810080"/>
            </a:xfrm>
            <a:custGeom>
              <a:avLst/>
              <a:gdLst>
                <a:gd name="textAreaLeft" fmla="*/ 398160 w 2906640"/>
                <a:gd name="textAreaRight" fmla="*/ 2508480 w 2906640"/>
                <a:gd name="textAreaTop" fmla="*/ 248040 h 1810080"/>
                <a:gd name="textAreaBottom" fmla="*/ 1562040 h 18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22" y="21600"/>
                  </a:lnTo>
                  <a:lnTo>
                    <a:pt x="2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7108920" y="3917160"/>
              <a:ext cx="2895840" cy="243360"/>
            </a:xfrm>
            <a:custGeom>
              <a:avLst/>
              <a:gdLst>
                <a:gd name="textAreaLeft" fmla="*/ 363240 w 2895840"/>
                <a:gd name="textAreaRight" fmla="*/ 2532600 w 2895840"/>
                <a:gd name="textAreaTop" fmla="*/ 30240 h 243360"/>
                <a:gd name="textAreaBottom" fmla="*/ 2131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621480" y="3179880"/>
            <a:ext cx="186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83080" y="2593440"/>
            <a:ext cx="2074680" cy="2908800"/>
            <a:chOff x="1783080" y="2593440"/>
            <a:chExt cx="2074680" cy="2908800"/>
          </a:xfrm>
        </p:grpSpPr>
        <p:sp>
          <p:nvSpPr>
            <p:cNvPr id="159" name=""/>
            <p:cNvSpPr/>
            <p:nvPr/>
          </p:nvSpPr>
          <p:spPr>
            <a:xfrm flipH="1" rot="16200000">
              <a:off x="1499040" y="3143520"/>
              <a:ext cx="2908440" cy="1808640"/>
            </a:xfrm>
            <a:custGeom>
              <a:avLst/>
              <a:gdLst>
                <a:gd name="textAreaLeft" fmla="*/ 398520 w 2908440"/>
                <a:gd name="textAreaRight" fmla="*/ 2509920 w 2908440"/>
                <a:gd name="textAreaTop" fmla="*/ 247680 h 1808640"/>
                <a:gd name="textAreaBottom" fmla="*/ 1560960 h 18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22" y="21600"/>
                  </a:lnTo>
                  <a:lnTo>
                    <a:pt x="2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5400000">
              <a:off x="455760" y="3920400"/>
              <a:ext cx="2897640" cy="243360"/>
            </a:xfrm>
            <a:custGeom>
              <a:avLst/>
              <a:gdLst>
                <a:gd name="textAreaLeft" fmla="*/ 363600 w 2897640"/>
                <a:gd name="textAreaRight" fmla="*/ 2534040 w 2897640"/>
                <a:gd name="textAreaTop" fmla="*/ 30240 h 243360"/>
                <a:gd name="textAreaBottom" fmla="*/ 2131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84400" y="3179880"/>
            <a:ext cx="186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99120" y="3179880"/>
            <a:ext cx="186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62720" y="387972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0" r="0" b="44387"/>
          <a:stretch/>
        </p:blipFill>
        <p:spPr>
          <a:xfrm>
            <a:off x="2733840" y="4033800"/>
            <a:ext cx="981000" cy="251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52720" y="1898640"/>
            <a:ext cx="5975280" cy="1766520"/>
            <a:chOff x="2052720" y="1898640"/>
            <a:chExt cx="5975280" cy="1766520"/>
          </a:xfrm>
        </p:grpSpPr>
        <p:sp>
          <p:nvSpPr>
            <p:cNvPr id="168" name=""/>
            <p:cNvSpPr/>
            <p:nvPr/>
          </p:nvSpPr>
          <p:spPr>
            <a:xfrm>
              <a:off x="2052720" y="230364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00760" y="189864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2720" y="341424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408040" y="2343240"/>
              <a:ext cx="1867680" cy="22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5640" y="230364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52720" y="3416760"/>
              <a:ext cx="5975280" cy="248400"/>
            </a:xfrm>
            <a:custGeom>
              <a:avLst/>
              <a:gdLst>
                <a:gd name="textAreaLeft" fmla="*/ 648720 w 5975280"/>
                <a:gd name="textAreaRight" fmla="*/ 5326560 w 5975280"/>
                <a:gd name="textAreaTop" fmla="*/ 27000 h 248400"/>
                <a:gd name="textAreaBottom" fmla="*/ 22140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00760" y="3020400"/>
              <a:ext cx="2054520" cy="248400"/>
            </a:xfrm>
            <a:custGeom>
              <a:avLst/>
              <a:gdLst>
                <a:gd name="textAreaLeft" fmla="*/ 222840 w 2054520"/>
                <a:gd name="textAreaRight" fmla="*/ 1831680 w 2054520"/>
                <a:gd name="textAreaTop" fmla="*/ 27000 h 248400"/>
                <a:gd name="textAreaBottom" fmla="*/ 22140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52720" y="3921120"/>
            <a:ext cx="5975280" cy="1766520"/>
            <a:chOff x="2052720" y="3921120"/>
            <a:chExt cx="5975280" cy="1766520"/>
          </a:xfrm>
        </p:grpSpPr>
        <p:sp>
          <p:nvSpPr>
            <p:cNvPr id="176" name=""/>
            <p:cNvSpPr/>
            <p:nvPr/>
          </p:nvSpPr>
          <p:spPr>
            <a:xfrm>
              <a:off x="2052720" y="432612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00760" y="392112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2720" y="543672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408040" y="4365720"/>
              <a:ext cx="1867680" cy="22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5640" y="432612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2720" y="5439240"/>
              <a:ext cx="5975280" cy="248400"/>
            </a:xfrm>
            <a:custGeom>
              <a:avLst/>
              <a:gdLst>
                <a:gd name="textAreaLeft" fmla="*/ 648720 w 5975280"/>
                <a:gd name="textAreaRight" fmla="*/ 5326560 w 5975280"/>
                <a:gd name="textAreaTop" fmla="*/ 27000 h 248400"/>
                <a:gd name="textAreaBottom" fmla="*/ 22140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0760" y="5042880"/>
              <a:ext cx="2054520" cy="248400"/>
            </a:xfrm>
            <a:custGeom>
              <a:avLst/>
              <a:gdLst>
                <a:gd name="textAreaLeft" fmla="*/ 222840 w 2054520"/>
                <a:gd name="textAreaRight" fmla="*/ 1831680 w 2054520"/>
                <a:gd name="textAreaTop" fmla="*/ 27000 h 248400"/>
                <a:gd name="textAreaBottom" fmla="*/ 22140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7960" y="1989000"/>
            <a:ext cx="3703680" cy="3778560"/>
          </a:xfrm>
          <a:custGeom>
            <a:avLst/>
            <a:gdLst>
              <a:gd name="textAreaLeft" fmla="*/ 14760 w 3703680"/>
              <a:gd name="textAreaRight" fmla="*/ 3688920 w 3703680"/>
              <a:gd name="textAreaTop" fmla="*/ 14760 h 3778560"/>
              <a:gd name="textAreaBottom" fmla="*/ 3763800 h 3778560"/>
            </a:gdLst>
            <a:ahLst/>
            <a:rect l="textAreaLeft" t="textAreaTop" r="textAreaRight" b="textAreaBottom"/>
            <a:pathLst>
              <a:path w="21600" h="22037">
                <a:moveTo>
                  <a:pt x="296" y="0"/>
                </a:moveTo>
                <a:arcTo wR="296" hR="296" stAng="16200000" swAng="-5400000"/>
                <a:lnTo>
                  <a:pt x="0" y="21741"/>
                </a:lnTo>
                <a:arcTo wR="296" hR="296" stAng="10800000" swAng="-5400000"/>
                <a:lnTo>
                  <a:pt x="21304" y="22037"/>
                </a:lnTo>
                <a:arcTo wR="296" hR="296" stAng="5400000" swAng="-5400000"/>
                <a:lnTo>
                  <a:pt x="21600" y="296"/>
                </a:lnTo>
                <a:arcTo wR="296" hR="296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4138560"/>
            <a:ext cx="3700440" cy="1081080"/>
          </a:xfrm>
          <a:prstGeom prst="roundRect">
            <a:avLst>
              <a:gd name="adj" fmla="val 1532"/>
            </a:avLst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333333"/>
                </a:solidFill>
                <a:latin typeface="Times New Roman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06400" y="2473200"/>
            <a:ext cx="6505560" cy="2311560"/>
            <a:chOff x="1706400" y="2473200"/>
            <a:chExt cx="6505560" cy="2311560"/>
          </a:xfrm>
        </p:grpSpPr>
        <p:sp>
          <p:nvSpPr>
            <p:cNvPr id="189" name=""/>
            <p:cNvSpPr/>
            <p:nvPr/>
          </p:nvSpPr>
          <p:spPr>
            <a:xfrm>
              <a:off x="1810080" y="3024000"/>
              <a:ext cx="6298560" cy="12301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3077640" y="1834920"/>
              <a:ext cx="838800" cy="264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78000" y="2473200"/>
              <a:ext cx="2644920" cy="2383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043800" y="2526120"/>
              <a:ext cx="910080" cy="12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78000" y="2748600"/>
              <a:ext cx="26571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3078000" y="3043080"/>
              <a:ext cx="838440" cy="264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78000" y="3682440"/>
              <a:ext cx="2644920" cy="2390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3043800" y="3736080"/>
              <a:ext cx="910080" cy="12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3958200"/>
              <a:ext cx="26571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5983200" y="1834920"/>
              <a:ext cx="838800" cy="264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83200" y="2473200"/>
              <a:ext cx="2644920" cy="2383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949000" y="2526120"/>
              <a:ext cx="910080" cy="12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3200" y="2748600"/>
              <a:ext cx="26571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5983560" y="3043080"/>
              <a:ext cx="838440" cy="264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3200" y="3682440"/>
              <a:ext cx="2644920" cy="2390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949000" y="3736080"/>
              <a:ext cx="910080" cy="12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83200" y="3958200"/>
              <a:ext cx="26571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700000">
              <a:off x="4855680" y="2947680"/>
              <a:ext cx="147240" cy="14688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3500000">
              <a:off x="4902840" y="4183200"/>
              <a:ext cx="147240" cy="14688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100000">
              <a:off x="8034480" y="3577680"/>
              <a:ext cx="146880" cy="147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1736640" y="3529440"/>
              <a:ext cx="146880" cy="147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Times New Roman"/>
              </a:rPr>
              <a:t>本次课到此结束，谢谢欣赏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5680" y="6381720"/>
            <a:ext cx="57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之家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23:39:29Z</dcterms:created>
  <dc:creator/>
  <dc:description/>
  <dc:language>en-US</dc:language>
  <cp:lastModifiedBy>user</cp:lastModifiedBy>
  <dcterms:modified xsi:type="dcterms:W3CDTF">2015-01-07T14:03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