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211-8536-4AF0-A2C8-0335FA36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6BA-BA80-4F24-8AAF-95B3DC1C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AEF-79C7-4203-9521-315C5417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05A-03BA-453C-B447-E05E63A7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E08-73B3-48DF-8B7D-4799FEDB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F8A-3F2B-4A18-89DF-34C8FA5B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FA3-2718-45A9-8D22-3FADF14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27B-AAA4-4A0E-855B-651C9C5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172-DA2B-4C70-B7B3-9626247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E16-ADBF-49D8-8442-76E61746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0AC-7A4F-4B5E-A0B3-BA56A31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1AC-70FD-4447-8A46-56AD604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C4C0-0AED-4C6D-ABF3-B722A4D243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B488-F5C6-499C-B332-CED87A3560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0" y="2038320"/>
            <a:ext cx="9144000" cy="26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2276640"/>
            <a:ext cx="9144000" cy="21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739320" y="2787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汇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57160" y="6432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3708360" y="1484280"/>
            <a:ext cx="5184720" cy="484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5280" y="5716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97320" y="2657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282920" y="3789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282920" y="47671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9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67800" y="260280"/>
            <a:ext cx="119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成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0" y="404640"/>
            <a:ext cx="9144000" cy="431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9640" y="35337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82560" y="5084640"/>
            <a:ext cx="808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点儿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27000" y="6432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单圆角矩形 2"/>
          <p:cNvSpPr/>
          <p:nvPr/>
        </p:nvSpPr>
        <p:spPr>
          <a:xfrm>
            <a:off x="8388360" y="189000"/>
            <a:ext cx="576360" cy="5111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单圆角矩形 5"/>
          <p:cNvSpPr/>
          <p:nvPr/>
        </p:nvSpPr>
        <p:spPr>
          <a:xfrm rot="5400000">
            <a:off x="7956000" y="5732280"/>
            <a:ext cx="1440000" cy="576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8290080" y="68112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喵喵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十字箭头 14"/>
          <p:cNvSpPr/>
          <p:nvPr/>
        </p:nvSpPr>
        <p:spPr>
          <a:xfrm>
            <a:off x="1025640" y="765000"/>
            <a:ext cx="6659280" cy="5651640"/>
          </a:xfrm>
          <a:custGeom>
            <a:avLst/>
            <a:gdLst>
              <a:gd name="textAreaLeft" fmla="*/ 0 w 6659280"/>
              <a:gd name="textAreaRight" fmla="*/ 6659640 w 6659280"/>
              <a:gd name="textAreaTop" fmla="*/ 0 h 5651640"/>
              <a:gd name="textAreaBottom" fmla="*/ 565200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80" y="10067"/>
                </a:lnTo>
                <a:lnTo>
                  <a:pt x="1080" y="10617"/>
                </a:lnTo>
                <a:lnTo>
                  <a:pt x="10617" y="10617"/>
                </a:lnTo>
                <a:lnTo>
                  <a:pt x="10617" y="1080"/>
                </a:lnTo>
                <a:lnTo>
                  <a:pt x="10067" y="1080"/>
                </a:lnTo>
                <a:lnTo>
                  <a:pt x="10800" y="0"/>
                </a:lnTo>
                <a:lnTo>
                  <a:pt x="11533" y="1080"/>
                </a:lnTo>
                <a:lnTo>
                  <a:pt x="10983" y="1080"/>
                </a:lnTo>
                <a:lnTo>
                  <a:pt x="10983" y="10617"/>
                </a:lnTo>
                <a:lnTo>
                  <a:pt x="20520" y="10617"/>
                </a:lnTo>
                <a:lnTo>
                  <a:pt x="20520" y="10067"/>
                </a:lnTo>
                <a:lnTo>
                  <a:pt x="21600" y="10800"/>
                </a:lnTo>
                <a:lnTo>
                  <a:pt x="20520" y="11533"/>
                </a:lnTo>
                <a:lnTo>
                  <a:pt x="20520" y="10983"/>
                </a:lnTo>
                <a:lnTo>
                  <a:pt x="10983" y="10983"/>
                </a:lnTo>
                <a:lnTo>
                  <a:pt x="10983" y="20520"/>
                </a:lnTo>
                <a:lnTo>
                  <a:pt x="11533" y="20520"/>
                </a:lnTo>
                <a:lnTo>
                  <a:pt x="10800" y="21600"/>
                </a:lnTo>
                <a:lnTo>
                  <a:pt x="10067" y="20520"/>
                </a:lnTo>
                <a:lnTo>
                  <a:pt x="10617" y="20520"/>
                </a:lnTo>
                <a:lnTo>
                  <a:pt x="10617" y="10983"/>
                </a:lnTo>
                <a:lnTo>
                  <a:pt x="1080" y="10983"/>
                </a:lnTo>
                <a:lnTo>
                  <a:pt x="1080" y="11533"/>
                </a:lnTo>
                <a:close/>
              </a:path>
            </a:pathLst>
          </a:custGeom>
          <a:solidFill>
            <a:srgbClr val="cf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5"/>
          <p:cNvSpPr/>
          <p:nvPr/>
        </p:nvSpPr>
        <p:spPr>
          <a:xfrm>
            <a:off x="1413000" y="1131840"/>
            <a:ext cx="2763720" cy="226224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6480" rIns="186480" tIns="186480" bIns="18648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6"/>
          <p:cNvSpPr/>
          <p:nvPr/>
        </p:nvSpPr>
        <p:spPr>
          <a:xfrm>
            <a:off x="4533840" y="1131840"/>
            <a:ext cx="2763720" cy="226224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6480" rIns="186480" tIns="186480" bIns="18648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7"/>
          <p:cNvSpPr/>
          <p:nvPr/>
        </p:nvSpPr>
        <p:spPr>
          <a:xfrm>
            <a:off x="1413000" y="3789360"/>
            <a:ext cx="2763720" cy="237636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8"/>
          <p:cNvSpPr/>
          <p:nvPr/>
        </p:nvSpPr>
        <p:spPr>
          <a:xfrm>
            <a:off x="4535640" y="3760920"/>
            <a:ext cx="2763720" cy="240480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0520" rIns="200520" tIns="200520" bIns="20052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2"/>
          <p:cNvSpPr/>
          <p:nvPr/>
        </p:nvSpPr>
        <p:spPr>
          <a:xfrm>
            <a:off x="0" y="2038320"/>
            <a:ext cx="9144000" cy="26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0" y="2276640"/>
            <a:ext cx="9144000" cy="21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944520" y="27874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2:37:00Z</dcterms:created>
  <dc:creator>Administrator</dc:creator>
  <dc:description/>
  <dc:language>en-US</dc:language>
  <cp:lastModifiedBy>Administrator</cp:lastModifiedBy>
  <dcterms:modified xsi:type="dcterms:W3CDTF">2015-01-07T09:29:39Z</dcterms:modified>
  <cp:revision>2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