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CB8-69DB-47C6-9199-93435679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FF4-2D27-42F7-923B-A83DAC05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46D-9B48-4754-B4DD-5B08ACE2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78A-E129-4A4E-80F7-ABA8F894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622-2C7F-4062-832D-96862588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DC3-2109-47BE-A144-312E0590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34B-A9EF-427F-B996-03D4DDB9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62F-B37D-44A3-BC0D-58E8FFF3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995-CB62-4570-B19D-7CF25BB1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3C0-1E0B-401A-8FD8-CA9776F7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694-24B3-4D33-886B-E431A1B4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9DE-821E-4A03-9A90-F1DF96F8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0880" y="6635880"/>
            <a:ext cx="841680" cy="21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D80A-4A9F-4B88-BB92-02D5B9B76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4508280"/>
            <a:ext cx="439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简约蓝黑商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5445000"/>
            <a:ext cx="5185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28800" y="630864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来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1-08T07:12:49Z</dcterms:modified>
  <cp:revision>77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