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25D-C932-447B-ADEB-B591EF90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9BDB-0580-4313-AE99-2F256663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CC2-772A-4ACE-A80B-295EFCF2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0EE-47B0-4317-89F7-585FDC0E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14F-6666-4467-8D69-70E3D2F7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6DA9-B185-4C08-A254-5B601D31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E15-B5C4-4F90-8797-26599F11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2EA3-C9FA-4795-A8D1-FE675C06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5CB-77BA-4803-8791-611B3DC5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B13A-4C66-4DA0-9E1F-260D4CB1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F83B-9366-4A7F-941A-7A800D62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7ED2-B7A9-4F94-A8DE-38796BE4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7FE8-B1C2-4908-9A91-4BAE0C37233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08F7-049E-4CF7-9843-B2D8209FE31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rcRect l="136" t="0" r="0" b="365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250920" y="465444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简约商务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880" y="6454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ject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322200" y="1268280"/>
            <a:ext cx="878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Myriad Pro Cond"/>
                <a:ea typeface="宋体"/>
              </a:rPr>
              <a:t>单击此处添加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50920" y="2421000"/>
            <a:ext cx="87850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单击此处添加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8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72880" y="11592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Myriad Pro Cond"/>
                <a:ea typeface="宋体"/>
              </a:rPr>
              <a:t>单击此处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6 CuadroTexto"/>
          <p:cNvSpPr/>
          <p:nvPr/>
        </p:nvSpPr>
        <p:spPr>
          <a:xfrm>
            <a:off x="612720" y="1484280"/>
            <a:ext cx="7634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80" y="6454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951120" y="616572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8:59:00Z</dcterms:created>
  <dc:creator>abediaga</dc:creator>
  <dc:description/>
  <dc:language>en-US</dc:language>
  <cp:lastModifiedBy>abediaga</cp:lastModifiedBy>
  <dcterms:modified xsi:type="dcterms:W3CDTF">2015-01-07T09:24:26Z</dcterms:modified>
  <cp:revision>4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