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B5E-25A2-4DBF-8E0B-245395BE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30516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E58-726B-426B-A4D3-2E57BF1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9556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D7-4543-42A7-8F74-40EAFAF1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0000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948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0000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948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322-146E-437C-AC1A-5B77B37F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3DE-09A9-4A7C-B9DB-9A59751C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3E9-7B6B-4767-B129-39CC610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F25-8838-4E8B-B38E-C96A9B11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F5F-E35D-469B-B5AD-DB7F3AA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68598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BDF-CADF-496F-8C28-46EF791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9B1-21F4-4B28-8599-B7B6C4B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9556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8D3-E490-45A1-A641-7F4910F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463-89D1-4588-BA53-3C05C988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19200" indent="-238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5256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33440" indent="-1904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00640"/>
            <a:ext cx="177804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00640"/>
            <a:ext cx="241452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2280" y="5300640"/>
            <a:ext cx="177804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55BC61-BF8F-466E-BBFB-DAEA1262C68B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矩形 6" descr=""/>
          <p:cNvPicPr/>
          <p:nvPr/>
        </p:nvPicPr>
        <p:blipFill>
          <a:blip r:embed="rId2"/>
          <a:stretch/>
        </p:blipFill>
        <p:spPr>
          <a:xfrm>
            <a:off x="4413240" y="4267080"/>
            <a:ext cx="266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_02.png"/>
          <p:cNvPicPr/>
          <p:nvPr/>
        </p:nvPicPr>
        <p:blipFill>
          <a:blip r:embed="rId2"/>
          <a:stretch/>
        </p:blipFill>
        <p:spPr>
          <a:xfrm>
            <a:off x="2238480" y="1001880"/>
            <a:ext cx="519120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71680" y="5380200"/>
            <a:ext cx="1631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2_03_02.png"/>
          <p:cNvPicPr/>
          <p:nvPr/>
        </p:nvPicPr>
        <p:blipFill>
          <a:blip r:embed="rId2"/>
          <a:stretch/>
        </p:blipFill>
        <p:spPr>
          <a:xfrm>
            <a:off x="5311800" y="0"/>
            <a:ext cx="2309760" cy="2994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_02.png"/>
          <p:cNvPicPr/>
          <p:nvPr/>
        </p:nvPicPr>
        <p:blipFill>
          <a:blip r:embed="rId3"/>
          <a:stretch/>
        </p:blipFill>
        <p:spPr>
          <a:xfrm>
            <a:off x="0" y="3787920"/>
            <a:ext cx="3732120" cy="193032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452520" y="1001880"/>
            <a:ext cx="4716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3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" descr="3_03.png"/>
          <p:cNvPicPr/>
          <p:nvPr/>
        </p:nvPicPr>
        <p:blipFill>
          <a:blip r:embed="rId2"/>
          <a:stretch/>
        </p:blipFill>
        <p:spPr>
          <a:xfrm>
            <a:off x="4525920" y="501480"/>
            <a:ext cx="3095640" cy="434988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309600" y="1216080"/>
            <a:ext cx="4716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80880" y="5019840"/>
            <a:ext cx="47275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5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5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5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5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5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78480" y="0"/>
            <a:ext cx="7136640" cy="5718240"/>
            <a:chOff x="-78480" y="0"/>
            <a:chExt cx="7136640" cy="5718240"/>
          </a:xfrm>
        </p:grpSpPr>
        <p:sp>
          <p:nvSpPr>
            <p:cNvPr id="54" name="矩形 4"/>
            <p:cNvSpPr/>
            <p:nvPr/>
          </p:nvSpPr>
          <p:spPr>
            <a:xfrm>
              <a:off x="-784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7058160" cy="42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7"/>
            <p:cNvSpPr/>
            <p:nvPr/>
          </p:nvSpPr>
          <p:spPr>
            <a:xfrm rot="20926800">
              <a:off x="1620720" y="2976480"/>
              <a:ext cx="389088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04:03Z</dcterms:created>
  <dc:creator>sunny</dc:creator>
  <dc:description/>
  <dc:language>en-US</dc:language>
  <cp:lastModifiedBy>king</cp:lastModifiedBy>
  <dcterms:modified xsi:type="dcterms:W3CDTF">2015-01-07T14:06:53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